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wmf" ContentType="image/x-wmf"/>
  <Override PartName="/ppt/media/image8.wmf" ContentType="image/x-wmf"/>
  <Override PartName="/ppt/media/image12.jpeg" ContentType="image/jpeg"/>
  <Override PartName="/ppt/media/image6.jpeg" ContentType="image/jpeg"/>
  <Override PartName="/ppt/media/image5.wmf" ContentType="image/x-wmf"/>
  <Override PartName="/ppt/media/image10.png" ContentType="image/png"/>
  <Override PartName="/ppt/media/image11.png" ContentType="image/png"/>
  <Override PartName="/ppt/media/image7.jpeg" ContentType="image/jpeg"/>
  <Override PartName="/ppt/media/image4.jpeg" ContentType="image/jpeg"/>
  <Override PartName="/ppt/media/image3.png" ContentType="image/png"/>
  <Override PartName="/ppt/media/image2.wmf" ContentType="image/x-wmf"/>
  <Override PartName="/ppt/media/image25.wmf" ContentType="image/x-wmf"/>
  <Override PartName="/ppt/media/image26.wmf" ContentType="image/x-wmf"/>
  <Override PartName="/ppt/media/image14.wmf" ContentType="image/x-wmf"/>
  <Override PartName="/ppt/media/image24.wmf" ContentType="image/x-wmf"/>
  <Override PartName="/ppt/media/image23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.jpeg" ContentType="image/jpeg"/>
  <Override PartName="/ppt/media/image22.jpeg" ContentType="image/jpeg"/>
  <Override PartName="/ppt/media/image15.wmf" ContentType="image/x-wmf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A82CEE-092D-45FB-882C-CE5C0A0C63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0859A7-763B-45FD-B4AE-4A81A26BEB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D8C03B-6A83-463D-A407-41150CF1D3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4F850B-53FE-4B9E-8BB4-2533B0FC15C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967DC3-086A-4CC5-BDB7-92D8FBE0345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33A461-71C4-45CE-BC02-0F56759B9A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51B63D-5B0D-454A-B4CE-B3E733B85C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F5A7A5-6039-46F8-ADD3-DAE0FA3474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F4D9D6-15D7-4E54-B0EF-71B4BAE0EB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C810FC-B986-4AEF-ACEA-DD9411E7B4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DA4C2D-8786-46CE-9E67-D091BE7CAD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8A8BCA-C0C1-4C13-9EF9-9551DDBEA7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BCAA1-7997-4AE1-9AE0-EA457DA12F46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-360" y="837720"/>
            <a:ext cx="75438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SimSun"/>
                <a:ea typeface="SimSun"/>
              </a:rPr>
              <a:t>销售培训系列课程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514600"/>
            <a:ext cx="487692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000000"/>
                </a:solidFill>
                <a:latin typeface="SimSun"/>
                <a:ea typeface="SimSun"/>
              </a:rPr>
              <a:t>电话</a:t>
            </a:r>
            <a:r>
              <a:rPr b="1" i="1" lang="zh-CN" sz="6000" spc="-1" strike="noStrike">
                <a:solidFill>
                  <a:srgbClr val="000000"/>
                </a:solidFill>
                <a:latin typeface="Verdana"/>
                <a:ea typeface="SimSun"/>
              </a:rPr>
              <a:t>销售</a:t>
            </a:r>
            <a:r>
              <a:rPr b="1" i="1" lang="zh-CN" sz="6000" spc="-1" strike="noStrike">
                <a:solidFill>
                  <a:srgbClr val="000000"/>
                </a:solidFill>
                <a:latin typeface="SimSun"/>
                <a:ea typeface="SimSun"/>
              </a:rPr>
              <a:t>技巧</a:t>
            </a:r>
            <a:r>
              <a:rPr b="1" i="1" lang="zh-TW" sz="6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ISN052" descr=""/>
          <p:cNvPicPr/>
          <p:nvPr/>
        </p:nvPicPr>
        <p:blipFill>
          <a:blip r:embed="rId2"/>
          <a:stretch/>
        </p:blipFill>
        <p:spPr>
          <a:xfrm>
            <a:off x="5773680" y="1600200"/>
            <a:ext cx="33703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"/>
          <p:cNvGrpSpPr/>
          <p:nvPr/>
        </p:nvGrpSpPr>
        <p:grpSpPr>
          <a:xfrm>
            <a:off x="2057400" y="914400"/>
            <a:ext cx="5022720" cy="5168880"/>
            <a:chOff x="2057400" y="914400"/>
            <a:chExt cx="5022720" cy="5168880"/>
          </a:xfrm>
        </p:grpSpPr>
        <p:sp>
          <p:nvSpPr>
            <p:cNvPr id="160" name=""/>
            <p:cNvSpPr/>
            <p:nvPr/>
          </p:nvSpPr>
          <p:spPr>
            <a:xfrm>
              <a:off x="2057400" y="914400"/>
              <a:ext cx="5022720" cy="5168880"/>
            </a:xfrm>
            <a:custGeom>
              <a:avLst/>
              <a:gdLst/>
              <a:ahLst/>
              <a:rect l="l" t="t" r="r" b="b"/>
              <a:pathLst>
                <a:path w="3164" h="3256">
                  <a:moveTo>
                    <a:pt x="1205" y="681"/>
                  </a:moveTo>
                  <a:lnTo>
                    <a:pt x="1237" y="644"/>
                  </a:lnTo>
                  <a:lnTo>
                    <a:pt x="1259" y="609"/>
                  </a:lnTo>
                  <a:lnTo>
                    <a:pt x="1271" y="569"/>
                  </a:lnTo>
                  <a:lnTo>
                    <a:pt x="1271" y="519"/>
                  </a:lnTo>
                  <a:lnTo>
                    <a:pt x="1257" y="461"/>
                  </a:lnTo>
                  <a:lnTo>
                    <a:pt x="1244" y="412"/>
                  </a:lnTo>
                  <a:lnTo>
                    <a:pt x="1227" y="352"/>
                  </a:lnTo>
                  <a:lnTo>
                    <a:pt x="1220" y="287"/>
                  </a:lnTo>
                  <a:lnTo>
                    <a:pt x="1227" y="248"/>
                  </a:lnTo>
                  <a:lnTo>
                    <a:pt x="1239" y="199"/>
                  </a:lnTo>
                  <a:lnTo>
                    <a:pt x="1264" y="148"/>
                  </a:lnTo>
                  <a:lnTo>
                    <a:pt x="1299" y="100"/>
                  </a:lnTo>
                  <a:lnTo>
                    <a:pt x="1343" y="60"/>
                  </a:lnTo>
                  <a:lnTo>
                    <a:pt x="1382" y="30"/>
                  </a:lnTo>
                  <a:lnTo>
                    <a:pt x="1437" y="12"/>
                  </a:lnTo>
                  <a:lnTo>
                    <a:pt x="1501" y="3"/>
                  </a:lnTo>
                  <a:lnTo>
                    <a:pt x="1570" y="0"/>
                  </a:lnTo>
                  <a:lnTo>
                    <a:pt x="1663" y="0"/>
                  </a:lnTo>
                  <a:lnTo>
                    <a:pt x="1737" y="7"/>
                  </a:lnTo>
                  <a:lnTo>
                    <a:pt x="1779" y="21"/>
                  </a:lnTo>
                  <a:lnTo>
                    <a:pt x="1811" y="40"/>
                  </a:lnTo>
                  <a:lnTo>
                    <a:pt x="1846" y="60"/>
                  </a:lnTo>
                  <a:lnTo>
                    <a:pt x="1880" y="93"/>
                  </a:lnTo>
                  <a:lnTo>
                    <a:pt x="1912" y="134"/>
                  </a:lnTo>
                  <a:lnTo>
                    <a:pt x="1937" y="171"/>
                  </a:lnTo>
                  <a:lnTo>
                    <a:pt x="1949" y="204"/>
                  </a:lnTo>
                  <a:lnTo>
                    <a:pt x="1959" y="259"/>
                  </a:lnTo>
                  <a:lnTo>
                    <a:pt x="1959" y="308"/>
                  </a:lnTo>
                  <a:lnTo>
                    <a:pt x="1952" y="357"/>
                  </a:lnTo>
                  <a:lnTo>
                    <a:pt x="1942" y="394"/>
                  </a:lnTo>
                  <a:lnTo>
                    <a:pt x="1930" y="454"/>
                  </a:lnTo>
                  <a:lnTo>
                    <a:pt x="1912" y="516"/>
                  </a:lnTo>
                  <a:lnTo>
                    <a:pt x="1905" y="556"/>
                  </a:lnTo>
                  <a:lnTo>
                    <a:pt x="1917" y="595"/>
                  </a:lnTo>
                  <a:lnTo>
                    <a:pt x="1932" y="623"/>
                  </a:lnTo>
                  <a:lnTo>
                    <a:pt x="1959" y="660"/>
                  </a:lnTo>
                  <a:lnTo>
                    <a:pt x="1999" y="690"/>
                  </a:lnTo>
                  <a:lnTo>
                    <a:pt x="2036" y="715"/>
                  </a:lnTo>
                  <a:lnTo>
                    <a:pt x="2090" y="736"/>
                  </a:lnTo>
                  <a:lnTo>
                    <a:pt x="2144" y="750"/>
                  </a:lnTo>
                  <a:lnTo>
                    <a:pt x="2196" y="762"/>
                  </a:lnTo>
                  <a:lnTo>
                    <a:pt x="2250" y="768"/>
                  </a:lnTo>
                  <a:lnTo>
                    <a:pt x="2307" y="782"/>
                  </a:lnTo>
                  <a:lnTo>
                    <a:pt x="2351" y="796"/>
                  </a:lnTo>
                  <a:lnTo>
                    <a:pt x="2386" y="812"/>
                  </a:lnTo>
                  <a:lnTo>
                    <a:pt x="2413" y="831"/>
                  </a:lnTo>
                  <a:lnTo>
                    <a:pt x="2432" y="852"/>
                  </a:lnTo>
                  <a:lnTo>
                    <a:pt x="2447" y="877"/>
                  </a:lnTo>
                  <a:lnTo>
                    <a:pt x="2459" y="907"/>
                  </a:lnTo>
                  <a:lnTo>
                    <a:pt x="2464" y="935"/>
                  </a:lnTo>
                  <a:lnTo>
                    <a:pt x="2469" y="961"/>
                  </a:lnTo>
                  <a:lnTo>
                    <a:pt x="2469" y="995"/>
                  </a:lnTo>
                  <a:lnTo>
                    <a:pt x="2464" y="1035"/>
                  </a:lnTo>
                  <a:lnTo>
                    <a:pt x="2464" y="1065"/>
                  </a:lnTo>
                  <a:lnTo>
                    <a:pt x="2472" y="1102"/>
                  </a:lnTo>
                  <a:lnTo>
                    <a:pt x="2489" y="1134"/>
                  </a:lnTo>
                  <a:lnTo>
                    <a:pt x="2509" y="1162"/>
                  </a:lnTo>
                  <a:lnTo>
                    <a:pt x="2533" y="1183"/>
                  </a:lnTo>
                  <a:lnTo>
                    <a:pt x="2565" y="1206"/>
                  </a:lnTo>
                  <a:lnTo>
                    <a:pt x="2598" y="1220"/>
                  </a:lnTo>
                  <a:lnTo>
                    <a:pt x="2647" y="1229"/>
                  </a:lnTo>
                  <a:lnTo>
                    <a:pt x="2689" y="1234"/>
                  </a:lnTo>
                  <a:lnTo>
                    <a:pt x="2728" y="1236"/>
                  </a:lnTo>
                  <a:lnTo>
                    <a:pt x="2772" y="1234"/>
                  </a:lnTo>
                  <a:lnTo>
                    <a:pt x="2827" y="1229"/>
                  </a:lnTo>
                  <a:lnTo>
                    <a:pt x="2869" y="1227"/>
                  </a:lnTo>
                  <a:lnTo>
                    <a:pt x="2911" y="1222"/>
                  </a:lnTo>
                  <a:lnTo>
                    <a:pt x="2950" y="1220"/>
                  </a:lnTo>
                  <a:lnTo>
                    <a:pt x="2997" y="1222"/>
                  </a:lnTo>
                  <a:lnTo>
                    <a:pt x="3021" y="1227"/>
                  </a:lnTo>
                  <a:lnTo>
                    <a:pt x="3051" y="1234"/>
                  </a:lnTo>
                  <a:lnTo>
                    <a:pt x="3078" y="1247"/>
                  </a:lnTo>
                  <a:lnTo>
                    <a:pt x="3108" y="1268"/>
                  </a:lnTo>
                  <a:lnTo>
                    <a:pt x="3130" y="1291"/>
                  </a:lnTo>
                  <a:lnTo>
                    <a:pt x="3147" y="1326"/>
                  </a:lnTo>
                  <a:lnTo>
                    <a:pt x="3155" y="1356"/>
                  </a:lnTo>
                  <a:lnTo>
                    <a:pt x="3159" y="1393"/>
                  </a:lnTo>
                  <a:lnTo>
                    <a:pt x="3164" y="1460"/>
                  </a:lnTo>
                  <a:lnTo>
                    <a:pt x="3162" y="1539"/>
                  </a:lnTo>
                  <a:lnTo>
                    <a:pt x="3164" y="1622"/>
                  </a:lnTo>
                  <a:lnTo>
                    <a:pt x="3157" y="1719"/>
                  </a:lnTo>
                  <a:lnTo>
                    <a:pt x="3150" y="1787"/>
                  </a:lnTo>
                  <a:lnTo>
                    <a:pt x="3142" y="1840"/>
                  </a:lnTo>
                  <a:lnTo>
                    <a:pt x="3130" y="1870"/>
                  </a:lnTo>
                  <a:lnTo>
                    <a:pt x="3110" y="1898"/>
                  </a:lnTo>
                  <a:lnTo>
                    <a:pt x="3088" y="1916"/>
                  </a:lnTo>
                  <a:lnTo>
                    <a:pt x="3058" y="1932"/>
                  </a:lnTo>
                  <a:lnTo>
                    <a:pt x="3024" y="1942"/>
                  </a:lnTo>
                  <a:lnTo>
                    <a:pt x="2994" y="1949"/>
                  </a:lnTo>
                  <a:lnTo>
                    <a:pt x="2933" y="1951"/>
                  </a:lnTo>
                  <a:lnTo>
                    <a:pt x="2878" y="1949"/>
                  </a:lnTo>
                  <a:lnTo>
                    <a:pt x="2834" y="1942"/>
                  </a:lnTo>
                  <a:lnTo>
                    <a:pt x="2795" y="1939"/>
                  </a:lnTo>
                  <a:lnTo>
                    <a:pt x="2750" y="1937"/>
                  </a:lnTo>
                  <a:lnTo>
                    <a:pt x="2711" y="1937"/>
                  </a:lnTo>
                  <a:lnTo>
                    <a:pt x="2676" y="1939"/>
                  </a:lnTo>
                  <a:lnTo>
                    <a:pt x="2639" y="1942"/>
                  </a:lnTo>
                  <a:lnTo>
                    <a:pt x="2595" y="1953"/>
                  </a:lnTo>
                  <a:lnTo>
                    <a:pt x="2570" y="1962"/>
                  </a:lnTo>
                  <a:lnTo>
                    <a:pt x="2548" y="1972"/>
                  </a:lnTo>
                  <a:lnTo>
                    <a:pt x="2519" y="1990"/>
                  </a:lnTo>
                  <a:lnTo>
                    <a:pt x="2499" y="2013"/>
                  </a:lnTo>
                  <a:lnTo>
                    <a:pt x="2484" y="2034"/>
                  </a:lnTo>
                  <a:lnTo>
                    <a:pt x="2469" y="2060"/>
                  </a:lnTo>
                  <a:lnTo>
                    <a:pt x="2462" y="2085"/>
                  </a:lnTo>
                  <a:lnTo>
                    <a:pt x="2459" y="2113"/>
                  </a:lnTo>
                  <a:lnTo>
                    <a:pt x="2462" y="2143"/>
                  </a:lnTo>
                  <a:lnTo>
                    <a:pt x="2462" y="2194"/>
                  </a:lnTo>
                  <a:lnTo>
                    <a:pt x="2459" y="2247"/>
                  </a:lnTo>
                  <a:lnTo>
                    <a:pt x="2445" y="2286"/>
                  </a:lnTo>
                  <a:lnTo>
                    <a:pt x="2430" y="2319"/>
                  </a:lnTo>
                  <a:lnTo>
                    <a:pt x="2408" y="2342"/>
                  </a:lnTo>
                  <a:lnTo>
                    <a:pt x="2376" y="2360"/>
                  </a:lnTo>
                  <a:lnTo>
                    <a:pt x="2344" y="2377"/>
                  </a:lnTo>
                  <a:lnTo>
                    <a:pt x="2307" y="2386"/>
                  </a:lnTo>
                  <a:lnTo>
                    <a:pt x="2260" y="2395"/>
                  </a:lnTo>
                  <a:lnTo>
                    <a:pt x="2220" y="2407"/>
                  </a:lnTo>
                  <a:lnTo>
                    <a:pt x="2174" y="2414"/>
                  </a:lnTo>
                  <a:lnTo>
                    <a:pt x="2134" y="2421"/>
                  </a:lnTo>
                  <a:lnTo>
                    <a:pt x="2090" y="2430"/>
                  </a:lnTo>
                  <a:lnTo>
                    <a:pt x="2055" y="2446"/>
                  </a:lnTo>
                  <a:lnTo>
                    <a:pt x="2016" y="2462"/>
                  </a:lnTo>
                  <a:lnTo>
                    <a:pt x="1979" y="2483"/>
                  </a:lnTo>
                  <a:lnTo>
                    <a:pt x="1952" y="2511"/>
                  </a:lnTo>
                  <a:lnTo>
                    <a:pt x="1927" y="2543"/>
                  </a:lnTo>
                  <a:lnTo>
                    <a:pt x="1907" y="2583"/>
                  </a:lnTo>
                  <a:lnTo>
                    <a:pt x="1902" y="2617"/>
                  </a:lnTo>
                  <a:lnTo>
                    <a:pt x="1905" y="2657"/>
                  </a:lnTo>
                  <a:lnTo>
                    <a:pt x="1912" y="2694"/>
                  </a:lnTo>
                  <a:lnTo>
                    <a:pt x="1925" y="2733"/>
                  </a:lnTo>
                  <a:lnTo>
                    <a:pt x="1935" y="2777"/>
                  </a:lnTo>
                  <a:lnTo>
                    <a:pt x="1942" y="2816"/>
                  </a:lnTo>
                  <a:lnTo>
                    <a:pt x="1952" y="2867"/>
                  </a:lnTo>
                  <a:lnTo>
                    <a:pt x="1952" y="2918"/>
                  </a:lnTo>
                  <a:lnTo>
                    <a:pt x="1939" y="2969"/>
                  </a:lnTo>
                  <a:lnTo>
                    <a:pt x="1927" y="3008"/>
                  </a:lnTo>
                  <a:lnTo>
                    <a:pt x="1912" y="3048"/>
                  </a:lnTo>
                  <a:lnTo>
                    <a:pt x="1893" y="3085"/>
                  </a:lnTo>
                  <a:lnTo>
                    <a:pt x="1865" y="3131"/>
                  </a:lnTo>
                  <a:lnTo>
                    <a:pt x="1836" y="3161"/>
                  </a:lnTo>
                  <a:lnTo>
                    <a:pt x="1811" y="3182"/>
                  </a:lnTo>
                  <a:lnTo>
                    <a:pt x="1779" y="3207"/>
                  </a:lnTo>
                  <a:lnTo>
                    <a:pt x="1745" y="3230"/>
                  </a:lnTo>
                  <a:lnTo>
                    <a:pt x="1713" y="3242"/>
                  </a:lnTo>
                  <a:lnTo>
                    <a:pt x="1683" y="3249"/>
                  </a:lnTo>
                  <a:lnTo>
                    <a:pt x="1634" y="3254"/>
                  </a:lnTo>
                  <a:lnTo>
                    <a:pt x="1577" y="3256"/>
                  </a:lnTo>
                  <a:lnTo>
                    <a:pt x="1508" y="3254"/>
                  </a:lnTo>
                  <a:lnTo>
                    <a:pt x="1476" y="3254"/>
                  </a:lnTo>
                  <a:lnTo>
                    <a:pt x="1434" y="3247"/>
                  </a:lnTo>
                  <a:lnTo>
                    <a:pt x="1390" y="3235"/>
                  </a:lnTo>
                  <a:lnTo>
                    <a:pt x="1350" y="3214"/>
                  </a:lnTo>
                  <a:lnTo>
                    <a:pt x="1326" y="3196"/>
                  </a:lnTo>
                  <a:lnTo>
                    <a:pt x="1299" y="3170"/>
                  </a:lnTo>
                  <a:lnTo>
                    <a:pt x="1276" y="3147"/>
                  </a:lnTo>
                  <a:lnTo>
                    <a:pt x="1254" y="3117"/>
                  </a:lnTo>
                  <a:lnTo>
                    <a:pt x="1237" y="3087"/>
                  </a:lnTo>
                  <a:lnTo>
                    <a:pt x="1222" y="3050"/>
                  </a:lnTo>
                  <a:lnTo>
                    <a:pt x="1215" y="3011"/>
                  </a:lnTo>
                  <a:lnTo>
                    <a:pt x="1212" y="2981"/>
                  </a:lnTo>
                  <a:lnTo>
                    <a:pt x="1212" y="2939"/>
                  </a:lnTo>
                  <a:lnTo>
                    <a:pt x="1215" y="2904"/>
                  </a:lnTo>
                  <a:lnTo>
                    <a:pt x="1227" y="2867"/>
                  </a:lnTo>
                  <a:lnTo>
                    <a:pt x="1237" y="2823"/>
                  </a:lnTo>
                  <a:lnTo>
                    <a:pt x="1249" y="2782"/>
                  </a:lnTo>
                  <a:lnTo>
                    <a:pt x="1257" y="2745"/>
                  </a:lnTo>
                  <a:lnTo>
                    <a:pt x="1259" y="2710"/>
                  </a:lnTo>
                  <a:lnTo>
                    <a:pt x="1257" y="2682"/>
                  </a:lnTo>
                  <a:lnTo>
                    <a:pt x="1249" y="2654"/>
                  </a:lnTo>
                  <a:lnTo>
                    <a:pt x="1230" y="2620"/>
                  </a:lnTo>
                  <a:lnTo>
                    <a:pt x="1210" y="2596"/>
                  </a:lnTo>
                  <a:lnTo>
                    <a:pt x="1185" y="2571"/>
                  </a:lnTo>
                  <a:lnTo>
                    <a:pt x="1158" y="2552"/>
                  </a:lnTo>
                  <a:lnTo>
                    <a:pt x="1131" y="2534"/>
                  </a:lnTo>
                  <a:lnTo>
                    <a:pt x="1092" y="2520"/>
                  </a:lnTo>
                  <a:lnTo>
                    <a:pt x="1057" y="2511"/>
                  </a:lnTo>
                  <a:lnTo>
                    <a:pt x="1013" y="2502"/>
                  </a:lnTo>
                  <a:lnTo>
                    <a:pt x="973" y="2497"/>
                  </a:lnTo>
                  <a:lnTo>
                    <a:pt x="936" y="2488"/>
                  </a:lnTo>
                  <a:lnTo>
                    <a:pt x="892" y="2478"/>
                  </a:lnTo>
                  <a:lnTo>
                    <a:pt x="855" y="2465"/>
                  </a:lnTo>
                  <a:lnTo>
                    <a:pt x="811" y="2453"/>
                  </a:lnTo>
                  <a:lnTo>
                    <a:pt x="776" y="2439"/>
                  </a:lnTo>
                  <a:lnTo>
                    <a:pt x="749" y="2418"/>
                  </a:lnTo>
                  <a:lnTo>
                    <a:pt x="727" y="2391"/>
                  </a:lnTo>
                  <a:lnTo>
                    <a:pt x="712" y="2356"/>
                  </a:lnTo>
                  <a:lnTo>
                    <a:pt x="700" y="2310"/>
                  </a:lnTo>
                  <a:lnTo>
                    <a:pt x="697" y="2272"/>
                  </a:lnTo>
                  <a:lnTo>
                    <a:pt x="700" y="2231"/>
                  </a:lnTo>
                  <a:lnTo>
                    <a:pt x="705" y="2198"/>
                  </a:lnTo>
                  <a:lnTo>
                    <a:pt x="700" y="2159"/>
                  </a:lnTo>
                  <a:lnTo>
                    <a:pt x="687" y="2129"/>
                  </a:lnTo>
                  <a:lnTo>
                    <a:pt x="665" y="2097"/>
                  </a:lnTo>
                  <a:lnTo>
                    <a:pt x="643" y="2076"/>
                  </a:lnTo>
                  <a:lnTo>
                    <a:pt x="616" y="2055"/>
                  </a:lnTo>
                  <a:lnTo>
                    <a:pt x="579" y="2041"/>
                  </a:lnTo>
                  <a:lnTo>
                    <a:pt x="537" y="2027"/>
                  </a:lnTo>
                  <a:lnTo>
                    <a:pt x="493" y="2023"/>
                  </a:lnTo>
                  <a:lnTo>
                    <a:pt x="456" y="2018"/>
                  </a:lnTo>
                  <a:lnTo>
                    <a:pt x="414" y="2018"/>
                  </a:lnTo>
                  <a:lnTo>
                    <a:pt x="377" y="2023"/>
                  </a:lnTo>
                  <a:lnTo>
                    <a:pt x="340" y="2025"/>
                  </a:lnTo>
                  <a:lnTo>
                    <a:pt x="303" y="2030"/>
                  </a:lnTo>
                  <a:lnTo>
                    <a:pt x="266" y="2034"/>
                  </a:lnTo>
                  <a:lnTo>
                    <a:pt x="204" y="2034"/>
                  </a:lnTo>
                  <a:lnTo>
                    <a:pt x="165" y="2032"/>
                  </a:lnTo>
                  <a:lnTo>
                    <a:pt x="123" y="2023"/>
                  </a:lnTo>
                  <a:lnTo>
                    <a:pt x="93" y="2009"/>
                  </a:lnTo>
                  <a:lnTo>
                    <a:pt x="61" y="1986"/>
                  </a:lnTo>
                  <a:lnTo>
                    <a:pt x="39" y="1960"/>
                  </a:lnTo>
                  <a:lnTo>
                    <a:pt x="24" y="1932"/>
                  </a:lnTo>
                  <a:lnTo>
                    <a:pt x="7" y="1879"/>
                  </a:lnTo>
                  <a:lnTo>
                    <a:pt x="5" y="1824"/>
                  </a:lnTo>
                  <a:lnTo>
                    <a:pt x="2" y="1768"/>
                  </a:lnTo>
                  <a:lnTo>
                    <a:pt x="0" y="1699"/>
                  </a:lnTo>
                  <a:lnTo>
                    <a:pt x="5" y="1638"/>
                  </a:lnTo>
                  <a:lnTo>
                    <a:pt x="7" y="1574"/>
                  </a:lnTo>
                  <a:lnTo>
                    <a:pt x="10" y="1516"/>
                  </a:lnTo>
                  <a:lnTo>
                    <a:pt x="15" y="1456"/>
                  </a:lnTo>
                  <a:lnTo>
                    <a:pt x="22" y="1409"/>
                  </a:lnTo>
                  <a:lnTo>
                    <a:pt x="29" y="1359"/>
                  </a:lnTo>
                  <a:lnTo>
                    <a:pt x="39" y="1319"/>
                  </a:lnTo>
                  <a:lnTo>
                    <a:pt x="54" y="1294"/>
                  </a:lnTo>
                  <a:lnTo>
                    <a:pt x="76" y="1268"/>
                  </a:lnTo>
                  <a:lnTo>
                    <a:pt x="98" y="1252"/>
                  </a:lnTo>
                  <a:lnTo>
                    <a:pt x="128" y="1234"/>
                  </a:lnTo>
                  <a:lnTo>
                    <a:pt x="155" y="1229"/>
                  </a:lnTo>
                  <a:lnTo>
                    <a:pt x="189" y="1222"/>
                  </a:lnTo>
                  <a:lnTo>
                    <a:pt x="234" y="1220"/>
                  </a:lnTo>
                  <a:lnTo>
                    <a:pt x="273" y="1222"/>
                  </a:lnTo>
                  <a:lnTo>
                    <a:pt x="328" y="1229"/>
                  </a:lnTo>
                  <a:lnTo>
                    <a:pt x="374" y="1231"/>
                  </a:lnTo>
                  <a:lnTo>
                    <a:pt x="414" y="1234"/>
                  </a:lnTo>
                  <a:lnTo>
                    <a:pt x="468" y="1236"/>
                  </a:lnTo>
                  <a:lnTo>
                    <a:pt x="525" y="1229"/>
                  </a:lnTo>
                  <a:lnTo>
                    <a:pt x="572" y="1220"/>
                  </a:lnTo>
                  <a:lnTo>
                    <a:pt x="616" y="1203"/>
                  </a:lnTo>
                  <a:lnTo>
                    <a:pt x="645" y="1187"/>
                  </a:lnTo>
                  <a:lnTo>
                    <a:pt x="675" y="1162"/>
                  </a:lnTo>
                  <a:lnTo>
                    <a:pt x="697" y="1129"/>
                  </a:lnTo>
                  <a:lnTo>
                    <a:pt x="712" y="1097"/>
                  </a:lnTo>
                  <a:lnTo>
                    <a:pt x="717" y="1062"/>
                  </a:lnTo>
                  <a:lnTo>
                    <a:pt x="714" y="1037"/>
                  </a:lnTo>
                  <a:lnTo>
                    <a:pt x="712" y="988"/>
                  </a:lnTo>
                  <a:lnTo>
                    <a:pt x="714" y="940"/>
                  </a:lnTo>
                  <a:lnTo>
                    <a:pt x="724" y="903"/>
                  </a:lnTo>
                  <a:lnTo>
                    <a:pt x="737" y="868"/>
                  </a:lnTo>
                  <a:lnTo>
                    <a:pt x="754" y="843"/>
                  </a:lnTo>
                  <a:lnTo>
                    <a:pt x="788" y="817"/>
                  </a:lnTo>
                  <a:lnTo>
                    <a:pt x="825" y="799"/>
                  </a:lnTo>
                  <a:lnTo>
                    <a:pt x="872" y="785"/>
                  </a:lnTo>
                  <a:lnTo>
                    <a:pt x="919" y="773"/>
                  </a:lnTo>
                  <a:lnTo>
                    <a:pt x="958" y="764"/>
                  </a:lnTo>
                  <a:lnTo>
                    <a:pt x="1008" y="757"/>
                  </a:lnTo>
                  <a:lnTo>
                    <a:pt x="1055" y="748"/>
                  </a:lnTo>
                  <a:lnTo>
                    <a:pt x="1109" y="734"/>
                  </a:lnTo>
                  <a:lnTo>
                    <a:pt x="1161" y="713"/>
                  </a:lnTo>
                  <a:lnTo>
                    <a:pt x="1205" y="681"/>
                  </a:lnTo>
                  <a:close/>
                </a:path>
              </a:pathLst>
            </a:custGeom>
            <a:solidFill>
              <a:srgbClr val="ffff00"/>
            </a:solidFill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617560" y="3112920"/>
              <a:ext cx="2899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00"/>
                  </a:solidFill>
                  <a:latin typeface="SimSun"/>
                  <a:ea typeface="Times New Roman"/>
                </a:rPr>
                <a:t>       </a:t>
              </a:r>
              <a:r>
                <a:rPr b="1" lang="zh-CN" sz="4000" spc="-1" strike="noStrike">
                  <a:solidFill>
                    <a:srgbClr val="ff0000"/>
                  </a:solidFill>
                  <a:latin typeface="SimSun"/>
                  <a:ea typeface="Times New Roman"/>
                </a:rPr>
                <a:t>客户需求</a:t>
              </a:r>
              <a:r>
                <a:rPr b="1" lang="zh-TW" sz="4000" spc="-1" strike="noStrike">
                  <a:solidFill>
                    <a:srgbClr val="ff0000"/>
                  </a:solidFill>
                  <a:latin typeface="SimSun"/>
                  <a:ea typeface="SimSun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0" y="0"/>
            <a:ext cx="4530600" cy="3452760"/>
            <a:chOff x="0" y="0"/>
            <a:chExt cx="4530600" cy="3452760"/>
          </a:xfrm>
        </p:grpSpPr>
        <p:sp>
          <p:nvSpPr>
            <p:cNvPr id="163" name=""/>
            <p:cNvSpPr/>
            <p:nvPr/>
          </p:nvSpPr>
          <p:spPr>
            <a:xfrm>
              <a:off x="0" y="0"/>
              <a:ext cx="4530600" cy="3452760"/>
            </a:xfrm>
            <a:custGeom>
              <a:avLst/>
              <a:gdLst/>
              <a:ahLst/>
              <a:rect l="l" t="t" r="r" b="b"/>
              <a:pathLst>
                <a:path w="2854" h="2175">
                  <a:moveTo>
                    <a:pt x="2854" y="542"/>
                  </a:moveTo>
                  <a:lnTo>
                    <a:pt x="2854" y="0"/>
                  </a:lnTo>
                  <a:lnTo>
                    <a:pt x="0" y="0"/>
                  </a:lnTo>
                  <a:lnTo>
                    <a:pt x="3" y="2175"/>
                  </a:lnTo>
                  <a:lnTo>
                    <a:pt x="257" y="2175"/>
                  </a:lnTo>
                  <a:lnTo>
                    <a:pt x="269" y="2134"/>
                  </a:lnTo>
                  <a:lnTo>
                    <a:pt x="269" y="2104"/>
                  </a:lnTo>
                  <a:lnTo>
                    <a:pt x="262" y="2062"/>
                  </a:lnTo>
                  <a:lnTo>
                    <a:pt x="247" y="2018"/>
                  </a:lnTo>
                  <a:lnTo>
                    <a:pt x="232" y="1965"/>
                  </a:lnTo>
                  <a:lnTo>
                    <a:pt x="225" y="1923"/>
                  </a:lnTo>
                  <a:lnTo>
                    <a:pt x="222" y="1886"/>
                  </a:lnTo>
                  <a:lnTo>
                    <a:pt x="229" y="1845"/>
                  </a:lnTo>
                  <a:lnTo>
                    <a:pt x="242" y="1805"/>
                  </a:lnTo>
                  <a:lnTo>
                    <a:pt x="269" y="1766"/>
                  </a:lnTo>
                  <a:lnTo>
                    <a:pt x="301" y="1736"/>
                  </a:lnTo>
                  <a:lnTo>
                    <a:pt x="335" y="1706"/>
                  </a:lnTo>
                  <a:lnTo>
                    <a:pt x="375" y="1685"/>
                  </a:lnTo>
                  <a:lnTo>
                    <a:pt x="422" y="1666"/>
                  </a:lnTo>
                  <a:lnTo>
                    <a:pt x="464" y="1659"/>
                  </a:lnTo>
                  <a:lnTo>
                    <a:pt x="523" y="1657"/>
                  </a:lnTo>
                  <a:lnTo>
                    <a:pt x="592" y="1662"/>
                  </a:lnTo>
                  <a:lnTo>
                    <a:pt x="636" y="1666"/>
                  </a:lnTo>
                  <a:lnTo>
                    <a:pt x="676" y="1678"/>
                  </a:lnTo>
                  <a:lnTo>
                    <a:pt x="713" y="1699"/>
                  </a:lnTo>
                  <a:lnTo>
                    <a:pt x="759" y="1734"/>
                  </a:lnTo>
                  <a:lnTo>
                    <a:pt x="789" y="1766"/>
                  </a:lnTo>
                  <a:lnTo>
                    <a:pt x="816" y="1801"/>
                  </a:lnTo>
                  <a:lnTo>
                    <a:pt x="831" y="1838"/>
                  </a:lnTo>
                  <a:lnTo>
                    <a:pt x="841" y="1872"/>
                  </a:lnTo>
                  <a:lnTo>
                    <a:pt x="841" y="1912"/>
                  </a:lnTo>
                  <a:lnTo>
                    <a:pt x="836" y="1951"/>
                  </a:lnTo>
                  <a:lnTo>
                    <a:pt x="826" y="1988"/>
                  </a:lnTo>
                  <a:lnTo>
                    <a:pt x="816" y="2023"/>
                  </a:lnTo>
                  <a:lnTo>
                    <a:pt x="804" y="2060"/>
                  </a:lnTo>
                  <a:lnTo>
                    <a:pt x="796" y="2097"/>
                  </a:lnTo>
                  <a:lnTo>
                    <a:pt x="796" y="2129"/>
                  </a:lnTo>
                  <a:lnTo>
                    <a:pt x="806" y="2166"/>
                  </a:lnTo>
                  <a:lnTo>
                    <a:pt x="1284" y="2166"/>
                  </a:lnTo>
                  <a:lnTo>
                    <a:pt x="1279" y="2090"/>
                  </a:lnTo>
                  <a:lnTo>
                    <a:pt x="1284" y="2034"/>
                  </a:lnTo>
                  <a:lnTo>
                    <a:pt x="1284" y="1993"/>
                  </a:lnTo>
                  <a:lnTo>
                    <a:pt x="1287" y="1953"/>
                  </a:lnTo>
                  <a:lnTo>
                    <a:pt x="1292" y="1912"/>
                  </a:lnTo>
                  <a:lnTo>
                    <a:pt x="1302" y="1870"/>
                  </a:lnTo>
                  <a:lnTo>
                    <a:pt x="1314" y="1842"/>
                  </a:lnTo>
                  <a:lnTo>
                    <a:pt x="1331" y="1817"/>
                  </a:lnTo>
                  <a:lnTo>
                    <a:pt x="1356" y="1796"/>
                  </a:lnTo>
                  <a:lnTo>
                    <a:pt x="1383" y="1780"/>
                  </a:lnTo>
                  <a:lnTo>
                    <a:pt x="1415" y="1771"/>
                  </a:lnTo>
                  <a:lnTo>
                    <a:pt x="1449" y="1766"/>
                  </a:lnTo>
                  <a:lnTo>
                    <a:pt x="1482" y="1764"/>
                  </a:lnTo>
                  <a:lnTo>
                    <a:pt x="1523" y="1764"/>
                  </a:lnTo>
                  <a:lnTo>
                    <a:pt x="1563" y="1766"/>
                  </a:lnTo>
                  <a:lnTo>
                    <a:pt x="1595" y="1771"/>
                  </a:lnTo>
                  <a:lnTo>
                    <a:pt x="1637" y="1773"/>
                  </a:lnTo>
                  <a:lnTo>
                    <a:pt x="1681" y="1778"/>
                  </a:lnTo>
                  <a:lnTo>
                    <a:pt x="1730" y="1778"/>
                  </a:lnTo>
                  <a:lnTo>
                    <a:pt x="1772" y="1773"/>
                  </a:lnTo>
                  <a:lnTo>
                    <a:pt x="1814" y="1766"/>
                  </a:lnTo>
                  <a:lnTo>
                    <a:pt x="1859" y="1757"/>
                  </a:lnTo>
                  <a:lnTo>
                    <a:pt x="1891" y="1740"/>
                  </a:lnTo>
                  <a:lnTo>
                    <a:pt x="1925" y="1720"/>
                  </a:lnTo>
                  <a:lnTo>
                    <a:pt x="1947" y="1692"/>
                  </a:lnTo>
                  <a:lnTo>
                    <a:pt x="1970" y="1662"/>
                  </a:lnTo>
                  <a:lnTo>
                    <a:pt x="1979" y="1632"/>
                  </a:lnTo>
                  <a:lnTo>
                    <a:pt x="1984" y="1597"/>
                  </a:lnTo>
                  <a:lnTo>
                    <a:pt x="1979" y="1562"/>
                  </a:lnTo>
                  <a:lnTo>
                    <a:pt x="1977" y="1525"/>
                  </a:lnTo>
                  <a:lnTo>
                    <a:pt x="1979" y="1486"/>
                  </a:lnTo>
                  <a:lnTo>
                    <a:pt x="1987" y="1456"/>
                  </a:lnTo>
                  <a:lnTo>
                    <a:pt x="1997" y="1423"/>
                  </a:lnTo>
                  <a:lnTo>
                    <a:pt x="2011" y="1393"/>
                  </a:lnTo>
                  <a:lnTo>
                    <a:pt x="2031" y="1373"/>
                  </a:lnTo>
                  <a:lnTo>
                    <a:pt x="2063" y="1352"/>
                  </a:lnTo>
                  <a:lnTo>
                    <a:pt x="2103" y="1338"/>
                  </a:lnTo>
                  <a:lnTo>
                    <a:pt x="2142" y="1326"/>
                  </a:lnTo>
                  <a:lnTo>
                    <a:pt x="2179" y="1317"/>
                  </a:lnTo>
                  <a:lnTo>
                    <a:pt x="2218" y="1308"/>
                  </a:lnTo>
                  <a:lnTo>
                    <a:pt x="2270" y="1299"/>
                  </a:lnTo>
                  <a:lnTo>
                    <a:pt x="2310" y="1292"/>
                  </a:lnTo>
                  <a:lnTo>
                    <a:pt x="2352" y="1280"/>
                  </a:lnTo>
                  <a:lnTo>
                    <a:pt x="2386" y="1268"/>
                  </a:lnTo>
                  <a:lnTo>
                    <a:pt x="2421" y="1255"/>
                  </a:lnTo>
                  <a:lnTo>
                    <a:pt x="2448" y="1236"/>
                  </a:lnTo>
                  <a:lnTo>
                    <a:pt x="2472" y="1218"/>
                  </a:lnTo>
                  <a:lnTo>
                    <a:pt x="2499" y="1187"/>
                  </a:lnTo>
                  <a:lnTo>
                    <a:pt x="2517" y="1160"/>
                  </a:lnTo>
                  <a:lnTo>
                    <a:pt x="2531" y="1127"/>
                  </a:lnTo>
                  <a:lnTo>
                    <a:pt x="2539" y="1086"/>
                  </a:lnTo>
                  <a:lnTo>
                    <a:pt x="2534" y="1051"/>
                  </a:lnTo>
                  <a:lnTo>
                    <a:pt x="2529" y="1014"/>
                  </a:lnTo>
                  <a:lnTo>
                    <a:pt x="2517" y="970"/>
                  </a:lnTo>
                  <a:lnTo>
                    <a:pt x="2504" y="921"/>
                  </a:lnTo>
                  <a:lnTo>
                    <a:pt x="2492" y="877"/>
                  </a:lnTo>
                  <a:lnTo>
                    <a:pt x="2490" y="843"/>
                  </a:lnTo>
                  <a:lnTo>
                    <a:pt x="2490" y="810"/>
                  </a:lnTo>
                  <a:lnTo>
                    <a:pt x="2495" y="766"/>
                  </a:lnTo>
                  <a:lnTo>
                    <a:pt x="2507" y="729"/>
                  </a:lnTo>
                  <a:lnTo>
                    <a:pt x="2519" y="702"/>
                  </a:lnTo>
                  <a:lnTo>
                    <a:pt x="2536" y="674"/>
                  </a:lnTo>
                  <a:lnTo>
                    <a:pt x="2561" y="644"/>
                  </a:lnTo>
                  <a:lnTo>
                    <a:pt x="2588" y="614"/>
                  </a:lnTo>
                  <a:lnTo>
                    <a:pt x="2623" y="588"/>
                  </a:lnTo>
                  <a:lnTo>
                    <a:pt x="2660" y="567"/>
                  </a:lnTo>
                  <a:lnTo>
                    <a:pt x="2694" y="556"/>
                  </a:lnTo>
                  <a:lnTo>
                    <a:pt x="2729" y="547"/>
                  </a:lnTo>
                  <a:lnTo>
                    <a:pt x="2766" y="542"/>
                  </a:lnTo>
                  <a:lnTo>
                    <a:pt x="2810" y="542"/>
                  </a:lnTo>
                  <a:lnTo>
                    <a:pt x="2854" y="542"/>
                  </a:lnTo>
                  <a:close/>
                </a:path>
              </a:pathLst>
            </a:custGeom>
            <a:solidFill>
              <a:srgbClr val="008080"/>
            </a:solidFill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45920" y="706680"/>
              <a:ext cx="16588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SimSun"/>
                  <a:ea typeface="SimSun"/>
                </a:rPr>
                <a:t>产品及服务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4632480" y="0"/>
            <a:ext cx="4511520" cy="4122720"/>
            <a:chOff x="4632480" y="0"/>
            <a:chExt cx="4511520" cy="4122720"/>
          </a:xfrm>
        </p:grpSpPr>
        <p:sp>
          <p:nvSpPr>
            <p:cNvPr id="166" name=""/>
            <p:cNvSpPr/>
            <p:nvPr/>
          </p:nvSpPr>
          <p:spPr>
            <a:xfrm>
              <a:off x="4632480" y="0"/>
              <a:ext cx="4511520" cy="4122720"/>
            </a:xfrm>
            <a:custGeom>
              <a:avLst/>
              <a:gdLst/>
              <a:ahLst/>
              <a:rect l="l" t="t" r="r" b="b"/>
              <a:pathLst>
                <a:path w="2842" h="2597">
                  <a:moveTo>
                    <a:pt x="0" y="542"/>
                  </a:moveTo>
                  <a:lnTo>
                    <a:pt x="0" y="0"/>
                  </a:lnTo>
                  <a:lnTo>
                    <a:pt x="2840" y="0"/>
                  </a:lnTo>
                  <a:lnTo>
                    <a:pt x="2842" y="2074"/>
                  </a:lnTo>
                  <a:lnTo>
                    <a:pt x="2596" y="2074"/>
                  </a:lnTo>
                  <a:lnTo>
                    <a:pt x="2586" y="2092"/>
                  </a:lnTo>
                  <a:lnTo>
                    <a:pt x="2578" y="2118"/>
                  </a:lnTo>
                  <a:lnTo>
                    <a:pt x="2578" y="2138"/>
                  </a:lnTo>
                  <a:lnTo>
                    <a:pt x="2581" y="2164"/>
                  </a:lnTo>
                  <a:lnTo>
                    <a:pt x="2591" y="2196"/>
                  </a:lnTo>
                  <a:lnTo>
                    <a:pt x="2601" y="2238"/>
                  </a:lnTo>
                  <a:lnTo>
                    <a:pt x="2610" y="2266"/>
                  </a:lnTo>
                  <a:lnTo>
                    <a:pt x="2618" y="2300"/>
                  </a:lnTo>
                  <a:lnTo>
                    <a:pt x="2623" y="2333"/>
                  </a:lnTo>
                  <a:lnTo>
                    <a:pt x="2623" y="2365"/>
                  </a:lnTo>
                  <a:lnTo>
                    <a:pt x="2618" y="2395"/>
                  </a:lnTo>
                  <a:lnTo>
                    <a:pt x="2610" y="2428"/>
                  </a:lnTo>
                  <a:lnTo>
                    <a:pt x="2598" y="2458"/>
                  </a:lnTo>
                  <a:lnTo>
                    <a:pt x="2578" y="2481"/>
                  </a:lnTo>
                  <a:lnTo>
                    <a:pt x="2551" y="2509"/>
                  </a:lnTo>
                  <a:lnTo>
                    <a:pt x="2524" y="2530"/>
                  </a:lnTo>
                  <a:lnTo>
                    <a:pt x="2500" y="2550"/>
                  </a:lnTo>
                  <a:lnTo>
                    <a:pt x="2470" y="2567"/>
                  </a:lnTo>
                  <a:lnTo>
                    <a:pt x="2435" y="2578"/>
                  </a:lnTo>
                  <a:lnTo>
                    <a:pt x="2394" y="2590"/>
                  </a:lnTo>
                  <a:lnTo>
                    <a:pt x="2354" y="2594"/>
                  </a:lnTo>
                  <a:lnTo>
                    <a:pt x="2320" y="2597"/>
                  </a:lnTo>
                  <a:lnTo>
                    <a:pt x="2283" y="2597"/>
                  </a:lnTo>
                  <a:lnTo>
                    <a:pt x="2248" y="2594"/>
                  </a:lnTo>
                  <a:lnTo>
                    <a:pt x="2221" y="2590"/>
                  </a:lnTo>
                  <a:lnTo>
                    <a:pt x="2189" y="2580"/>
                  </a:lnTo>
                  <a:lnTo>
                    <a:pt x="2157" y="2571"/>
                  </a:lnTo>
                  <a:lnTo>
                    <a:pt x="2132" y="2557"/>
                  </a:lnTo>
                  <a:lnTo>
                    <a:pt x="2105" y="2539"/>
                  </a:lnTo>
                  <a:lnTo>
                    <a:pt x="2081" y="2516"/>
                  </a:lnTo>
                  <a:lnTo>
                    <a:pt x="2056" y="2490"/>
                  </a:lnTo>
                  <a:lnTo>
                    <a:pt x="2034" y="2465"/>
                  </a:lnTo>
                  <a:lnTo>
                    <a:pt x="2016" y="2437"/>
                  </a:lnTo>
                  <a:lnTo>
                    <a:pt x="2004" y="2402"/>
                  </a:lnTo>
                  <a:lnTo>
                    <a:pt x="1994" y="2363"/>
                  </a:lnTo>
                  <a:lnTo>
                    <a:pt x="1994" y="2326"/>
                  </a:lnTo>
                  <a:lnTo>
                    <a:pt x="2004" y="2289"/>
                  </a:lnTo>
                  <a:lnTo>
                    <a:pt x="2014" y="2252"/>
                  </a:lnTo>
                  <a:lnTo>
                    <a:pt x="2024" y="2215"/>
                  </a:lnTo>
                  <a:lnTo>
                    <a:pt x="2036" y="2173"/>
                  </a:lnTo>
                  <a:lnTo>
                    <a:pt x="2041" y="2141"/>
                  </a:lnTo>
                  <a:lnTo>
                    <a:pt x="2041" y="2122"/>
                  </a:lnTo>
                  <a:lnTo>
                    <a:pt x="2039" y="2106"/>
                  </a:lnTo>
                  <a:lnTo>
                    <a:pt x="2031" y="2088"/>
                  </a:lnTo>
                  <a:lnTo>
                    <a:pt x="1558" y="2088"/>
                  </a:lnTo>
                  <a:lnTo>
                    <a:pt x="1565" y="2009"/>
                  </a:lnTo>
                  <a:lnTo>
                    <a:pt x="1563" y="1965"/>
                  </a:lnTo>
                  <a:lnTo>
                    <a:pt x="1558" y="1923"/>
                  </a:lnTo>
                  <a:lnTo>
                    <a:pt x="1553" y="1884"/>
                  </a:lnTo>
                  <a:lnTo>
                    <a:pt x="1546" y="1858"/>
                  </a:lnTo>
                  <a:lnTo>
                    <a:pt x="1533" y="1835"/>
                  </a:lnTo>
                  <a:lnTo>
                    <a:pt x="1519" y="1815"/>
                  </a:lnTo>
                  <a:lnTo>
                    <a:pt x="1494" y="1796"/>
                  </a:lnTo>
                  <a:lnTo>
                    <a:pt x="1467" y="1780"/>
                  </a:lnTo>
                  <a:lnTo>
                    <a:pt x="1440" y="1771"/>
                  </a:lnTo>
                  <a:lnTo>
                    <a:pt x="1415" y="1766"/>
                  </a:lnTo>
                  <a:lnTo>
                    <a:pt x="1373" y="1764"/>
                  </a:lnTo>
                  <a:lnTo>
                    <a:pt x="1324" y="1764"/>
                  </a:lnTo>
                  <a:lnTo>
                    <a:pt x="1277" y="1768"/>
                  </a:lnTo>
                  <a:lnTo>
                    <a:pt x="1225" y="1771"/>
                  </a:lnTo>
                  <a:lnTo>
                    <a:pt x="1186" y="1775"/>
                  </a:lnTo>
                  <a:lnTo>
                    <a:pt x="1134" y="1778"/>
                  </a:lnTo>
                  <a:lnTo>
                    <a:pt x="1092" y="1775"/>
                  </a:lnTo>
                  <a:lnTo>
                    <a:pt x="1055" y="1771"/>
                  </a:lnTo>
                  <a:lnTo>
                    <a:pt x="999" y="1759"/>
                  </a:lnTo>
                  <a:lnTo>
                    <a:pt x="962" y="1743"/>
                  </a:lnTo>
                  <a:lnTo>
                    <a:pt x="927" y="1720"/>
                  </a:lnTo>
                  <a:lnTo>
                    <a:pt x="905" y="1694"/>
                  </a:lnTo>
                  <a:lnTo>
                    <a:pt x="885" y="1666"/>
                  </a:lnTo>
                  <a:lnTo>
                    <a:pt x="870" y="1632"/>
                  </a:lnTo>
                  <a:lnTo>
                    <a:pt x="868" y="1595"/>
                  </a:lnTo>
                  <a:lnTo>
                    <a:pt x="868" y="1548"/>
                  </a:lnTo>
                  <a:lnTo>
                    <a:pt x="870" y="1514"/>
                  </a:lnTo>
                  <a:lnTo>
                    <a:pt x="868" y="1479"/>
                  </a:lnTo>
                  <a:lnTo>
                    <a:pt x="858" y="1440"/>
                  </a:lnTo>
                  <a:lnTo>
                    <a:pt x="851" y="1417"/>
                  </a:lnTo>
                  <a:lnTo>
                    <a:pt x="838" y="1393"/>
                  </a:lnTo>
                  <a:lnTo>
                    <a:pt x="824" y="1377"/>
                  </a:lnTo>
                  <a:lnTo>
                    <a:pt x="809" y="1363"/>
                  </a:lnTo>
                  <a:lnTo>
                    <a:pt x="777" y="1349"/>
                  </a:lnTo>
                  <a:lnTo>
                    <a:pt x="740" y="1333"/>
                  </a:lnTo>
                  <a:lnTo>
                    <a:pt x="698" y="1322"/>
                  </a:lnTo>
                  <a:lnTo>
                    <a:pt x="649" y="1310"/>
                  </a:lnTo>
                  <a:lnTo>
                    <a:pt x="599" y="1301"/>
                  </a:lnTo>
                  <a:lnTo>
                    <a:pt x="548" y="1294"/>
                  </a:lnTo>
                  <a:lnTo>
                    <a:pt x="511" y="1282"/>
                  </a:lnTo>
                  <a:lnTo>
                    <a:pt x="471" y="1271"/>
                  </a:lnTo>
                  <a:lnTo>
                    <a:pt x="432" y="1257"/>
                  </a:lnTo>
                  <a:lnTo>
                    <a:pt x="405" y="1236"/>
                  </a:lnTo>
                  <a:lnTo>
                    <a:pt x="373" y="1211"/>
                  </a:lnTo>
                  <a:lnTo>
                    <a:pt x="350" y="1187"/>
                  </a:lnTo>
                  <a:lnTo>
                    <a:pt x="331" y="1160"/>
                  </a:lnTo>
                  <a:lnTo>
                    <a:pt x="316" y="1127"/>
                  </a:lnTo>
                  <a:lnTo>
                    <a:pt x="311" y="1093"/>
                  </a:lnTo>
                  <a:lnTo>
                    <a:pt x="311" y="1060"/>
                  </a:lnTo>
                  <a:lnTo>
                    <a:pt x="318" y="1030"/>
                  </a:lnTo>
                  <a:lnTo>
                    <a:pt x="331" y="986"/>
                  </a:lnTo>
                  <a:lnTo>
                    <a:pt x="343" y="942"/>
                  </a:lnTo>
                  <a:lnTo>
                    <a:pt x="348" y="903"/>
                  </a:lnTo>
                  <a:lnTo>
                    <a:pt x="358" y="864"/>
                  </a:lnTo>
                  <a:lnTo>
                    <a:pt x="363" y="824"/>
                  </a:lnTo>
                  <a:lnTo>
                    <a:pt x="358" y="783"/>
                  </a:lnTo>
                  <a:lnTo>
                    <a:pt x="348" y="746"/>
                  </a:lnTo>
                  <a:lnTo>
                    <a:pt x="333" y="708"/>
                  </a:lnTo>
                  <a:lnTo>
                    <a:pt x="313" y="674"/>
                  </a:lnTo>
                  <a:lnTo>
                    <a:pt x="291" y="646"/>
                  </a:lnTo>
                  <a:lnTo>
                    <a:pt x="279" y="630"/>
                  </a:lnTo>
                  <a:lnTo>
                    <a:pt x="257" y="609"/>
                  </a:lnTo>
                  <a:lnTo>
                    <a:pt x="235" y="590"/>
                  </a:lnTo>
                  <a:lnTo>
                    <a:pt x="212" y="577"/>
                  </a:lnTo>
                  <a:lnTo>
                    <a:pt x="183" y="563"/>
                  </a:lnTo>
                  <a:lnTo>
                    <a:pt x="153" y="553"/>
                  </a:lnTo>
                  <a:lnTo>
                    <a:pt x="116" y="544"/>
                  </a:lnTo>
                  <a:lnTo>
                    <a:pt x="74" y="542"/>
                  </a:lnTo>
                  <a:lnTo>
                    <a:pt x="37" y="542"/>
                  </a:lnTo>
                  <a:lnTo>
                    <a:pt x="0" y="542"/>
                  </a:lnTo>
                  <a:close/>
                </a:path>
              </a:pathLst>
            </a:custGeom>
            <a:solidFill>
              <a:srgbClr val="ff00ff"/>
            </a:solidFill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876640" y="754200"/>
              <a:ext cx="16588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SimSun"/>
                  <a:ea typeface="SimSun"/>
                </a:rPr>
                <a:t>产品及服务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4613400" y="3405240"/>
            <a:ext cx="4530600" cy="3452760"/>
            <a:chOff x="4613400" y="3405240"/>
            <a:chExt cx="4530600" cy="3452760"/>
          </a:xfrm>
        </p:grpSpPr>
        <p:sp>
          <p:nvSpPr>
            <p:cNvPr id="169" name=""/>
            <p:cNvSpPr/>
            <p:nvPr/>
          </p:nvSpPr>
          <p:spPr>
            <a:xfrm>
              <a:off x="4613400" y="3405240"/>
              <a:ext cx="4530600" cy="3452760"/>
            </a:xfrm>
            <a:custGeom>
              <a:avLst/>
              <a:gdLst/>
              <a:ahLst/>
              <a:rect l="l" t="t" r="r" b="b"/>
              <a:pathLst>
                <a:path w="2854" h="2175">
                  <a:moveTo>
                    <a:pt x="0" y="1720"/>
                  </a:moveTo>
                  <a:lnTo>
                    <a:pt x="0" y="2175"/>
                  </a:lnTo>
                  <a:lnTo>
                    <a:pt x="2854" y="2175"/>
                  </a:lnTo>
                  <a:lnTo>
                    <a:pt x="2852" y="0"/>
                  </a:lnTo>
                  <a:lnTo>
                    <a:pt x="2598" y="0"/>
                  </a:lnTo>
                  <a:lnTo>
                    <a:pt x="2586" y="42"/>
                  </a:lnTo>
                  <a:lnTo>
                    <a:pt x="2586" y="72"/>
                  </a:lnTo>
                  <a:lnTo>
                    <a:pt x="2593" y="114"/>
                  </a:lnTo>
                  <a:lnTo>
                    <a:pt x="2608" y="158"/>
                  </a:lnTo>
                  <a:lnTo>
                    <a:pt x="2622" y="211"/>
                  </a:lnTo>
                  <a:lnTo>
                    <a:pt x="2630" y="253"/>
                  </a:lnTo>
                  <a:lnTo>
                    <a:pt x="2630" y="290"/>
                  </a:lnTo>
                  <a:lnTo>
                    <a:pt x="2625" y="331"/>
                  </a:lnTo>
                  <a:lnTo>
                    <a:pt x="2613" y="371"/>
                  </a:lnTo>
                  <a:lnTo>
                    <a:pt x="2586" y="408"/>
                  </a:lnTo>
                  <a:lnTo>
                    <a:pt x="2553" y="440"/>
                  </a:lnTo>
                  <a:lnTo>
                    <a:pt x="2519" y="470"/>
                  </a:lnTo>
                  <a:lnTo>
                    <a:pt x="2480" y="491"/>
                  </a:lnTo>
                  <a:lnTo>
                    <a:pt x="2433" y="507"/>
                  </a:lnTo>
                  <a:lnTo>
                    <a:pt x="2391" y="516"/>
                  </a:lnTo>
                  <a:lnTo>
                    <a:pt x="2332" y="519"/>
                  </a:lnTo>
                  <a:lnTo>
                    <a:pt x="2263" y="514"/>
                  </a:lnTo>
                  <a:lnTo>
                    <a:pt x="2218" y="507"/>
                  </a:lnTo>
                  <a:lnTo>
                    <a:pt x="2179" y="498"/>
                  </a:lnTo>
                  <a:lnTo>
                    <a:pt x="2142" y="477"/>
                  </a:lnTo>
                  <a:lnTo>
                    <a:pt x="2095" y="442"/>
                  </a:lnTo>
                  <a:lnTo>
                    <a:pt x="2065" y="410"/>
                  </a:lnTo>
                  <a:lnTo>
                    <a:pt x="2038" y="375"/>
                  </a:lnTo>
                  <a:lnTo>
                    <a:pt x="2024" y="338"/>
                  </a:lnTo>
                  <a:lnTo>
                    <a:pt x="2014" y="303"/>
                  </a:lnTo>
                  <a:lnTo>
                    <a:pt x="2014" y="264"/>
                  </a:lnTo>
                  <a:lnTo>
                    <a:pt x="2019" y="225"/>
                  </a:lnTo>
                  <a:lnTo>
                    <a:pt x="2028" y="188"/>
                  </a:lnTo>
                  <a:lnTo>
                    <a:pt x="2038" y="153"/>
                  </a:lnTo>
                  <a:lnTo>
                    <a:pt x="2051" y="116"/>
                  </a:lnTo>
                  <a:lnTo>
                    <a:pt x="2058" y="79"/>
                  </a:lnTo>
                  <a:lnTo>
                    <a:pt x="2058" y="47"/>
                  </a:lnTo>
                  <a:lnTo>
                    <a:pt x="2048" y="10"/>
                  </a:lnTo>
                  <a:lnTo>
                    <a:pt x="1570" y="10"/>
                  </a:lnTo>
                  <a:lnTo>
                    <a:pt x="1575" y="86"/>
                  </a:lnTo>
                  <a:lnTo>
                    <a:pt x="1570" y="139"/>
                  </a:lnTo>
                  <a:lnTo>
                    <a:pt x="1568" y="183"/>
                  </a:lnTo>
                  <a:lnTo>
                    <a:pt x="1568" y="223"/>
                  </a:lnTo>
                  <a:lnTo>
                    <a:pt x="1563" y="264"/>
                  </a:lnTo>
                  <a:lnTo>
                    <a:pt x="1553" y="306"/>
                  </a:lnTo>
                  <a:lnTo>
                    <a:pt x="1540" y="334"/>
                  </a:lnTo>
                  <a:lnTo>
                    <a:pt x="1523" y="359"/>
                  </a:lnTo>
                  <a:lnTo>
                    <a:pt x="1499" y="380"/>
                  </a:lnTo>
                  <a:lnTo>
                    <a:pt x="1471" y="396"/>
                  </a:lnTo>
                  <a:lnTo>
                    <a:pt x="1439" y="405"/>
                  </a:lnTo>
                  <a:lnTo>
                    <a:pt x="1405" y="410"/>
                  </a:lnTo>
                  <a:lnTo>
                    <a:pt x="1373" y="412"/>
                  </a:lnTo>
                  <a:lnTo>
                    <a:pt x="1331" y="412"/>
                  </a:lnTo>
                  <a:lnTo>
                    <a:pt x="1292" y="408"/>
                  </a:lnTo>
                  <a:lnTo>
                    <a:pt x="1260" y="405"/>
                  </a:lnTo>
                  <a:lnTo>
                    <a:pt x="1218" y="403"/>
                  </a:lnTo>
                  <a:lnTo>
                    <a:pt x="1173" y="398"/>
                  </a:lnTo>
                  <a:lnTo>
                    <a:pt x="1124" y="398"/>
                  </a:lnTo>
                  <a:lnTo>
                    <a:pt x="1082" y="403"/>
                  </a:lnTo>
                  <a:lnTo>
                    <a:pt x="1040" y="408"/>
                  </a:lnTo>
                  <a:lnTo>
                    <a:pt x="996" y="419"/>
                  </a:lnTo>
                  <a:lnTo>
                    <a:pt x="964" y="435"/>
                  </a:lnTo>
                  <a:lnTo>
                    <a:pt x="929" y="456"/>
                  </a:lnTo>
                  <a:lnTo>
                    <a:pt x="907" y="484"/>
                  </a:lnTo>
                  <a:lnTo>
                    <a:pt x="885" y="514"/>
                  </a:lnTo>
                  <a:lnTo>
                    <a:pt x="875" y="544"/>
                  </a:lnTo>
                  <a:lnTo>
                    <a:pt x="870" y="579"/>
                  </a:lnTo>
                  <a:lnTo>
                    <a:pt x="875" y="614"/>
                  </a:lnTo>
                  <a:lnTo>
                    <a:pt x="877" y="651"/>
                  </a:lnTo>
                  <a:lnTo>
                    <a:pt x="875" y="690"/>
                  </a:lnTo>
                  <a:lnTo>
                    <a:pt x="868" y="720"/>
                  </a:lnTo>
                  <a:lnTo>
                    <a:pt x="858" y="752"/>
                  </a:lnTo>
                  <a:lnTo>
                    <a:pt x="843" y="782"/>
                  </a:lnTo>
                  <a:lnTo>
                    <a:pt x="823" y="803"/>
                  </a:lnTo>
                  <a:lnTo>
                    <a:pt x="791" y="824"/>
                  </a:lnTo>
                  <a:lnTo>
                    <a:pt x="752" y="838"/>
                  </a:lnTo>
                  <a:lnTo>
                    <a:pt x="712" y="850"/>
                  </a:lnTo>
                  <a:lnTo>
                    <a:pt x="675" y="859"/>
                  </a:lnTo>
                  <a:lnTo>
                    <a:pt x="636" y="868"/>
                  </a:lnTo>
                  <a:lnTo>
                    <a:pt x="584" y="877"/>
                  </a:lnTo>
                  <a:lnTo>
                    <a:pt x="545" y="884"/>
                  </a:lnTo>
                  <a:lnTo>
                    <a:pt x="503" y="896"/>
                  </a:lnTo>
                  <a:lnTo>
                    <a:pt x="468" y="907"/>
                  </a:lnTo>
                  <a:lnTo>
                    <a:pt x="434" y="921"/>
                  </a:lnTo>
                  <a:lnTo>
                    <a:pt x="407" y="940"/>
                  </a:lnTo>
                  <a:lnTo>
                    <a:pt x="382" y="958"/>
                  </a:lnTo>
                  <a:lnTo>
                    <a:pt x="355" y="988"/>
                  </a:lnTo>
                  <a:lnTo>
                    <a:pt x="338" y="1016"/>
                  </a:lnTo>
                  <a:lnTo>
                    <a:pt x="323" y="1049"/>
                  </a:lnTo>
                  <a:lnTo>
                    <a:pt x="316" y="1088"/>
                  </a:lnTo>
                  <a:lnTo>
                    <a:pt x="320" y="1125"/>
                  </a:lnTo>
                  <a:lnTo>
                    <a:pt x="325" y="1162"/>
                  </a:lnTo>
                  <a:lnTo>
                    <a:pt x="338" y="1206"/>
                  </a:lnTo>
                  <a:lnTo>
                    <a:pt x="350" y="1254"/>
                  </a:lnTo>
                  <a:lnTo>
                    <a:pt x="360" y="1298"/>
                  </a:lnTo>
                  <a:lnTo>
                    <a:pt x="365" y="1333"/>
                  </a:lnTo>
                  <a:lnTo>
                    <a:pt x="365" y="1366"/>
                  </a:lnTo>
                  <a:lnTo>
                    <a:pt x="360" y="1410"/>
                  </a:lnTo>
                  <a:lnTo>
                    <a:pt x="348" y="1447"/>
                  </a:lnTo>
                  <a:lnTo>
                    <a:pt x="338" y="1479"/>
                  </a:lnTo>
                  <a:lnTo>
                    <a:pt x="323" y="1509"/>
                  </a:lnTo>
                  <a:lnTo>
                    <a:pt x="303" y="1548"/>
                  </a:lnTo>
                  <a:lnTo>
                    <a:pt x="276" y="1592"/>
                  </a:lnTo>
                  <a:lnTo>
                    <a:pt x="247" y="1625"/>
                  </a:lnTo>
                  <a:lnTo>
                    <a:pt x="217" y="1650"/>
                  </a:lnTo>
                  <a:lnTo>
                    <a:pt x="190" y="1673"/>
                  </a:lnTo>
                  <a:lnTo>
                    <a:pt x="160" y="1692"/>
                  </a:lnTo>
                  <a:lnTo>
                    <a:pt x="131" y="1703"/>
                  </a:lnTo>
                  <a:lnTo>
                    <a:pt x="89" y="1713"/>
                  </a:lnTo>
                  <a:lnTo>
                    <a:pt x="42" y="1720"/>
                  </a:lnTo>
                  <a:lnTo>
                    <a:pt x="0" y="1720"/>
                  </a:lnTo>
                  <a:close/>
                </a:path>
              </a:pathLst>
            </a:custGeom>
            <a:solidFill>
              <a:srgbClr val="0000ff"/>
            </a:solidFill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802120" y="5318280"/>
              <a:ext cx="16588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SimSun"/>
                  <a:ea typeface="SimSun"/>
                </a:rPr>
                <a:t>产品及服务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-65520" y="2035080"/>
            <a:ext cx="5100120" cy="4775040"/>
            <a:chOff x="-65520" y="2035080"/>
            <a:chExt cx="5100120" cy="4775040"/>
          </a:xfrm>
        </p:grpSpPr>
        <p:sp>
          <p:nvSpPr>
            <p:cNvPr id="172" name=""/>
            <p:cNvSpPr/>
            <p:nvPr/>
          </p:nvSpPr>
          <p:spPr>
            <a:xfrm rot="21060600">
              <a:off x="228600" y="2361960"/>
              <a:ext cx="4511520" cy="4120920"/>
            </a:xfrm>
            <a:custGeom>
              <a:avLst/>
              <a:gdLst/>
              <a:ahLst/>
              <a:rect l="l" t="t" r="r" b="b"/>
              <a:pathLst>
                <a:path w="2842" h="2596">
                  <a:moveTo>
                    <a:pt x="2842" y="2138"/>
                  </a:moveTo>
                  <a:lnTo>
                    <a:pt x="2842" y="2596"/>
                  </a:lnTo>
                  <a:lnTo>
                    <a:pt x="3" y="2596"/>
                  </a:lnTo>
                  <a:lnTo>
                    <a:pt x="0" y="523"/>
                  </a:lnTo>
                  <a:lnTo>
                    <a:pt x="247" y="523"/>
                  </a:lnTo>
                  <a:lnTo>
                    <a:pt x="257" y="505"/>
                  </a:lnTo>
                  <a:lnTo>
                    <a:pt x="264" y="479"/>
                  </a:lnTo>
                  <a:lnTo>
                    <a:pt x="264" y="458"/>
                  </a:lnTo>
                  <a:lnTo>
                    <a:pt x="262" y="433"/>
                  </a:lnTo>
                  <a:lnTo>
                    <a:pt x="252" y="401"/>
                  </a:lnTo>
                  <a:lnTo>
                    <a:pt x="242" y="359"/>
                  </a:lnTo>
                  <a:lnTo>
                    <a:pt x="232" y="331"/>
                  </a:lnTo>
                  <a:lnTo>
                    <a:pt x="222" y="296"/>
                  </a:lnTo>
                  <a:lnTo>
                    <a:pt x="220" y="264"/>
                  </a:lnTo>
                  <a:lnTo>
                    <a:pt x="220" y="232"/>
                  </a:lnTo>
                  <a:lnTo>
                    <a:pt x="222" y="202"/>
                  </a:lnTo>
                  <a:lnTo>
                    <a:pt x="232" y="169"/>
                  </a:lnTo>
                  <a:lnTo>
                    <a:pt x="244" y="139"/>
                  </a:lnTo>
                  <a:lnTo>
                    <a:pt x="264" y="116"/>
                  </a:lnTo>
                  <a:lnTo>
                    <a:pt x="291" y="88"/>
                  </a:lnTo>
                  <a:lnTo>
                    <a:pt x="316" y="67"/>
                  </a:lnTo>
                  <a:lnTo>
                    <a:pt x="343" y="47"/>
                  </a:lnTo>
                  <a:lnTo>
                    <a:pt x="372" y="30"/>
                  </a:lnTo>
                  <a:lnTo>
                    <a:pt x="407" y="16"/>
                  </a:lnTo>
                  <a:lnTo>
                    <a:pt x="446" y="7"/>
                  </a:lnTo>
                  <a:lnTo>
                    <a:pt x="488" y="3"/>
                  </a:lnTo>
                  <a:lnTo>
                    <a:pt x="523" y="0"/>
                  </a:lnTo>
                  <a:lnTo>
                    <a:pt x="560" y="0"/>
                  </a:lnTo>
                  <a:lnTo>
                    <a:pt x="594" y="3"/>
                  </a:lnTo>
                  <a:lnTo>
                    <a:pt x="621" y="7"/>
                  </a:lnTo>
                  <a:lnTo>
                    <a:pt x="653" y="16"/>
                  </a:lnTo>
                  <a:lnTo>
                    <a:pt x="685" y="26"/>
                  </a:lnTo>
                  <a:lnTo>
                    <a:pt x="710" y="40"/>
                  </a:lnTo>
                  <a:lnTo>
                    <a:pt x="737" y="58"/>
                  </a:lnTo>
                  <a:lnTo>
                    <a:pt x="762" y="81"/>
                  </a:lnTo>
                  <a:lnTo>
                    <a:pt x="786" y="107"/>
                  </a:lnTo>
                  <a:lnTo>
                    <a:pt x="809" y="132"/>
                  </a:lnTo>
                  <a:lnTo>
                    <a:pt x="826" y="160"/>
                  </a:lnTo>
                  <a:lnTo>
                    <a:pt x="838" y="195"/>
                  </a:lnTo>
                  <a:lnTo>
                    <a:pt x="848" y="234"/>
                  </a:lnTo>
                  <a:lnTo>
                    <a:pt x="848" y="271"/>
                  </a:lnTo>
                  <a:lnTo>
                    <a:pt x="838" y="308"/>
                  </a:lnTo>
                  <a:lnTo>
                    <a:pt x="828" y="345"/>
                  </a:lnTo>
                  <a:lnTo>
                    <a:pt x="819" y="382"/>
                  </a:lnTo>
                  <a:lnTo>
                    <a:pt x="806" y="424"/>
                  </a:lnTo>
                  <a:lnTo>
                    <a:pt x="799" y="456"/>
                  </a:lnTo>
                  <a:lnTo>
                    <a:pt x="799" y="475"/>
                  </a:lnTo>
                  <a:lnTo>
                    <a:pt x="804" y="491"/>
                  </a:lnTo>
                  <a:lnTo>
                    <a:pt x="811" y="509"/>
                  </a:lnTo>
                  <a:lnTo>
                    <a:pt x="1282" y="509"/>
                  </a:lnTo>
                  <a:lnTo>
                    <a:pt x="1272" y="595"/>
                  </a:lnTo>
                  <a:lnTo>
                    <a:pt x="1270" y="646"/>
                  </a:lnTo>
                  <a:lnTo>
                    <a:pt x="1272" y="687"/>
                  </a:lnTo>
                  <a:lnTo>
                    <a:pt x="1275" y="727"/>
                  </a:lnTo>
                  <a:lnTo>
                    <a:pt x="1279" y="768"/>
                  </a:lnTo>
                  <a:lnTo>
                    <a:pt x="1287" y="810"/>
                  </a:lnTo>
                  <a:lnTo>
                    <a:pt x="1302" y="838"/>
                  </a:lnTo>
                  <a:lnTo>
                    <a:pt x="1319" y="861"/>
                  </a:lnTo>
                  <a:lnTo>
                    <a:pt x="1341" y="882"/>
                  </a:lnTo>
                  <a:lnTo>
                    <a:pt x="1371" y="898"/>
                  </a:lnTo>
                  <a:lnTo>
                    <a:pt x="1403" y="910"/>
                  </a:lnTo>
                  <a:lnTo>
                    <a:pt x="1435" y="914"/>
                  </a:lnTo>
                  <a:lnTo>
                    <a:pt x="1469" y="917"/>
                  </a:lnTo>
                  <a:lnTo>
                    <a:pt x="1509" y="917"/>
                  </a:lnTo>
                  <a:lnTo>
                    <a:pt x="1551" y="912"/>
                  </a:lnTo>
                  <a:lnTo>
                    <a:pt x="1580" y="910"/>
                  </a:lnTo>
                  <a:lnTo>
                    <a:pt x="1624" y="905"/>
                  </a:lnTo>
                  <a:lnTo>
                    <a:pt x="1669" y="900"/>
                  </a:lnTo>
                  <a:lnTo>
                    <a:pt x="1718" y="900"/>
                  </a:lnTo>
                  <a:lnTo>
                    <a:pt x="1760" y="905"/>
                  </a:lnTo>
                  <a:lnTo>
                    <a:pt x="1802" y="912"/>
                  </a:lnTo>
                  <a:lnTo>
                    <a:pt x="1844" y="926"/>
                  </a:lnTo>
                  <a:lnTo>
                    <a:pt x="1878" y="940"/>
                  </a:lnTo>
                  <a:lnTo>
                    <a:pt x="1913" y="963"/>
                  </a:lnTo>
                  <a:lnTo>
                    <a:pt x="1935" y="988"/>
                  </a:lnTo>
                  <a:lnTo>
                    <a:pt x="1955" y="1018"/>
                  </a:lnTo>
                  <a:lnTo>
                    <a:pt x="1967" y="1051"/>
                  </a:lnTo>
                  <a:lnTo>
                    <a:pt x="1972" y="1083"/>
                  </a:lnTo>
                  <a:lnTo>
                    <a:pt x="1967" y="1120"/>
                  </a:lnTo>
                  <a:lnTo>
                    <a:pt x="1965" y="1157"/>
                  </a:lnTo>
                  <a:lnTo>
                    <a:pt x="1967" y="1194"/>
                  </a:lnTo>
                  <a:lnTo>
                    <a:pt x="1972" y="1227"/>
                  </a:lnTo>
                  <a:lnTo>
                    <a:pt x="1984" y="1257"/>
                  </a:lnTo>
                  <a:lnTo>
                    <a:pt x="1999" y="1287"/>
                  </a:lnTo>
                  <a:lnTo>
                    <a:pt x="2019" y="1308"/>
                  </a:lnTo>
                  <a:lnTo>
                    <a:pt x="2048" y="1328"/>
                  </a:lnTo>
                  <a:lnTo>
                    <a:pt x="2088" y="1342"/>
                  </a:lnTo>
                  <a:lnTo>
                    <a:pt x="2130" y="1354"/>
                  </a:lnTo>
                  <a:lnTo>
                    <a:pt x="2164" y="1363"/>
                  </a:lnTo>
                  <a:lnTo>
                    <a:pt x="2206" y="1372"/>
                  </a:lnTo>
                  <a:lnTo>
                    <a:pt x="2255" y="1382"/>
                  </a:lnTo>
                  <a:lnTo>
                    <a:pt x="2297" y="1389"/>
                  </a:lnTo>
                  <a:lnTo>
                    <a:pt x="2339" y="1400"/>
                  </a:lnTo>
                  <a:lnTo>
                    <a:pt x="2374" y="1412"/>
                  </a:lnTo>
                  <a:lnTo>
                    <a:pt x="2408" y="1426"/>
                  </a:lnTo>
                  <a:lnTo>
                    <a:pt x="2435" y="1444"/>
                  </a:lnTo>
                  <a:lnTo>
                    <a:pt x="2458" y="1463"/>
                  </a:lnTo>
                  <a:lnTo>
                    <a:pt x="2487" y="1493"/>
                  </a:lnTo>
                  <a:lnTo>
                    <a:pt x="2504" y="1520"/>
                  </a:lnTo>
                  <a:lnTo>
                    <a:pt x="2519" y="1551"/>
                  </a:lnTo>
                  <a:lnTo>
                    <a:pt x="2527" y="1592"/>
                  </a:lnTo>
                  <a:lnTo>
                    <a:pt x="2522" y="1632"/>
                  </a:lnTo>
                  <a:lnTo>
                    <a:pt x="2514" y="1666"/>
                  </a:lnTo>
                  <a:lnTo>
                    <a:pt x="2504" y="1710"/>
                  </a:lnTo>
                  <a:lnTo>
                    <a:pt x="2492" y="1759"/>
                  </a:lnTo>
                  <a:lnTo>
                    <a:pt x="2480" y="1803"/>
                  </a:lnTo>
                  <a:lnTo>
                    <a:pt x="2475" y="1840"/>
                  </a:lnTo>
                  <a:lnTo>
                    <a:pt x="2475" y="1870"/>
                  </a:lnTo>
                  <a:lnTo>
                    <a:pt x="2482" y="1914"/>
                  </a:lnTo>
                  <a:lnTo>
                    <a:pt x="2492" y="1951"/>
                  </a:lnTo>
                  <a:lnTo>
                    <a:pt x="2507" y="1979"/>
                  </a:lnTo>
                  <a:lnTo>
                    <a:pt x="2524" y="2006"/>
                  </a:lnTo>
                  <a:lnTo>
                    <a:pt x="2549" y="2036"/>
                  </a:lnTo>
                  <a:lnTo>
                    <a:pt x="2576" y="2067"/>
                  </a:lnTo>
                  <a:lnTo>
                    <a:pt x="2608" y="2092"/>
                  </a:lnTo>
                  <a:lnTo>
                    <a:pt x="2645" y="2113"/>
                  </a:lnTo>
                  <a:lnTo>
                    <a:pt x="2679" y="2124"/>
                  </a:lnTo>
                  <a:lnTo>
                    <a:pt x="2716" y="2134"/>
                  </a:lnTo>
                  <a:lnTo>
                    <a:pt x="2753" y="2138"/>
                  </a:lnTo>
                  <a:lnTo>
                    <a:pt x="2798" y="2141"/>
                  </a:lnTo>
                  <a:lnTo>
                    <a:pt x="2842" y="2138"/>
                  </a:lnTo>
                  <a:close/>
                </a:path>
              </a:pathLst>
            </a:custGeom>
            <a:solidFill>
              <a:srgbClr val="00ff00"/>
            </a:solidFill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762200">
              <a:off x="846720" y="4557600"/>
              <a:ext cx="16588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SimSun"/>
                  <a:ea typeface="SimSun"/>
                </a:rPr>
                <a:t>产品及服务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ff0000"/>
                </a:solidFill>
                <a:latin typeface="SimSun"/>
                <a:ea typeface="Times New Roman"/>
              </a:rPr>
              <a:t>AIDA</a:t>
            </a:r>
            <a:r>
              <a:rPr b="1" lang="zh-CN" sz="4700" spc="-1" strike="noStrike">
                <a:solidFill>
                  <a:srgbClr val="ff0000"/>
                </a:solidFill>
                <a:latin typeface="SimSun"/>
                <a:ea typeface="Times New Roman"/>
              </a:rPr>
              <a:t>销售技巧</a:t>
            </a:r>
            <a:r>
              <a:rPr b="1" lang="zh-TW" sz="4700" spc="-1" strike="noStrike">
                <a:solidFill>
                  <a:srgbClr val="000000"/>
                </a:solidFill>
                <a:latin typeface="SimSun"/>
              </a:rPr>
              <a:t> 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905120" y="182880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120000"/>
              </a:lnSpc>
              <a:spcBef>
                <a:spcPts val="901"/>
              </a:spcBef>
              <a:buClr>
                <a:srgbClr val="ff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zh-TW" sz="3600" spc="-1" strike="noStrike">
                <a:solidFill>
                  <a:srgbClr val="9933ff"/>
                </a:solidFill>
                <a:latin typeface="Times New Roman"/>
              </a:rPr>
              <a:t>ttention </a:t>
            </a:r>
            <a:r>
              <a:rPr b="1" lang="zh-CN" sz="3600" spc="-1" strike="noStrike">
                <a:solidFill>
                  <a:srgbClr val="000000"/>
                </a:solidFill>
                <a:latin typeface="SimSun"/>
                <a:ea typeface="Times New Roman"/>
              </a:rPr>
              <a:t>引发注意</a:t>
            </a:r>
            <a:r>
              <a:rPr b="1" lang="zh-TW" sz="3600" spc="-1" strike="noStrike">
                <a:solidFill>
                  <a:srgbClr val="000000"/>
                </a:solidFill>
                <a:latin typeface="SimSu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20000"/>
              </a:lnSpc>
              <a:spcBef>
                <a:spcPts val="901"/>
              </a:spcBef>
              <a:buClr>
                <a:srgbClr val="ff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zh-TW" sz="3600" spc="-1" strike="noStrike">
                <a:solidFill>
                  <a:srgbClr val="9933ff"/>
                </a:solidFill>
                <a:latin typeface="Times New Roman"/>
              </a:rPr>
              <a:t>nterest </a:t>
            </a:r>
            <a:r>
              <a:rPr b="1" lang="zh-CN" sz="3600" spc="-1" strike="noStrike">
                <a:solidFill>
                  <a:srgbClr val="000000"/>
                </a:solidFill>
                <a:latin typeface="SimSun"/>
                <a:ea typeface="SimSun"/>
              </a:rPr>
              <a:t>提起兴趣</a:t>
            </a:r>
            <a:r>
              <a:rPr b="1" lang="zh-TW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TW" sz="3600" spc="-1" strike="noStrike">
                <a:solidFill>
                  <a:srgbClr val="9933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20000"/>
              </a:lnSpc>
              <a:spcBef>
                <a:spcPts val="901"/>
              </a:spcBef>
              <a:buClr>
                <a:srgbClr val="ff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lang="zh-TW" sz="3600" spc="-1" strike="noStrike">
                <a:solidFill>
                  <a:srgbClr val="9933ff"/>
                </a:solidFill>
                <a:latin typeface="Times New Roman"/>
              </a:rPr>
              <a:t>esire </a:t>
            </a:r>
            <a:r>
              <a:rPr b="1" lang="zh-CN" sz="3600" spc="-1" strike="noStrike">
                <a:solidFill>
                  <a:srgbClr val="000000"/>
                </a:solidFill>
                <a:latin typeface="SimSun"/>
                <a:ea typeface="Times New Roman"/>
              </a:rPr>
              <a:t>提升欲望</a:t>
            </a:r>
            <a:r>
              <a:rPr b="1" lang="zh-TW" sz="3600" spc="-1" strike="noStrike">
                <a:solidFill>
                  <a:srgbClr val="000000"/>
                </a:solidFill>
                <a:latin typeface="SimSu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20000"/>
              </a:lnSpc>
              <a:spcBef>
                <a:spcPts val="901"/>
              </a:spcBef>
              <a:buClr>
                <a:srgbClr val="ff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zh-TW" sz="3600" spc="-1" strike="noStrike">
                <a:solidFill>
                  <a:srgbClr val="9933ff"/>
                </a:solidFill>
                <a:latin typeface="Times New Roman"/>
              </a:rPr>
              <a:t>ction </a:t>
            </a:r>
            <a:r>
              <a:rPr b="1" lang="zh-CN" sz="3600" spc="-1" strike="noStrike">
                <a:solidFill>
                  <a:srgbClr val="000000"/>
                </a:solidFill>
                <a:latin typeface="SimSun"/>
                <a:ea typeface="SimSun"/>
              </a:rPr>
              <a:t>建议行动</a:t>
            </a:r>
            <a:r>
              <a:rPr b="1" lang="zh-TW" sz="3600" spc="-1" strike="noStrike">
                <a:solidFill>
                  <a:srgbClr val="9933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 flipV="1" rot="10800000">
            <a:off x="1143360" y="1752480"/>
            <a:ext cx="5115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BD05299_" descr=""/>
          <p:cNvPicPr/>
          <p:nvPr/>
        </p:nvPicPr>
        <p:blipFill>
          <a:blip r:embed="rId2"/>
          <a:stretch/>
        </p:blipFill>
        <p:spPr>
          <a:xfrm>
            <a:off x="5972040" y="3352680"/>
            <a:ext cx="3171960" cy="350532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4572000" y="457200"/>
            <a:ext cx="2751120" cy="345276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 txBox="1"/>
          <p:nvPr/>
        </p:nvSpPr>
        <p:spPr>
          <a:xfrm>
            <a:off x="1180800" y="3695040"/>
            <a:ext cx="6858720" cy="160092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efef9"/>
              </a:gs>
              <a:gs pos="100000">
                <a:srgbClr val="ffffcc"/>
              </a:gs>
            </a:gsLst>
            <a:lin ang="13500000"/>
          </a:gradFill>
          <a:ln w="0">
            <a:noFill/>
          </a:ln>
          <a:effectLst>
            <a:outerShdw dist="53966" dir="2700000" blurRad="0" rotWithShape="0">
              <a:srgbClr val="989879"/>
            </a:outerShdw>
          </a:effectLst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4000" spc="-1" strike="noStrike">
                <a:solidFill>
                  <a:srgbClr val="cc00cc"/>
                </a:solidFill>
                <a:latin typeface="Times New Roman"/>
              </a:rPr>
              <a:t>作出充分的準備才開始打電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2680" y="428760"/>
            <a:ext cx="4265640" cy="967320"/>
          </a:xfrm>
          <a:prstGeom prst="cloudCallout">
            <a:avLst>
              <a:gd name="adj1" fmla="val 62425"/>
              <a:gd name="adj2" fmla="val 56472"/>
            </a:avLst>
          </a:prstGeom>
          <a:solidFill>
            <a:srgbClr val="3333cc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3500" spc="-1" strike="noStrike">
                <a:solidFill>
                  <a:srgbClr val="ffffff"/>
                </a:solidFill>
                <a:latin typeface="Kids"/>
              </a:rPr>
              <a:t>?</a:t>
            </a:r>
            <a:r>
              <a:rPr b="1" i="1" lang="zh-CN" sz="3500" spc="-1" strike="noStrike">
                <a:solidFill>
                  <a:srgbClr val="ffffff"/>
                </a:solidFill>
                <a:latin typeface="SimSun"/>
                <a:ea typeface="SimSun"/>
              </a:rPr>
              <a:t>怎样开始 </a:t>
            </a:r>
            <a:r>
              <a:rPr b="1" i="1" lang="zh-TW" sz="3500" spc="-1" strike="noStrike">
                <a:solidFill>
                  <a:srgbClr val="ffffff"/>
                </a:solidFill>
                <a:latin typeface="Kids"/>
              </a:rPr>
              <a:t>?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709560"/>
            <a:ext cx="8653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SimSun"/>
                <a:ea typeface="SimSun"/>
              </a:rPr>
              <a:t>怎样开始第一句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110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准备好纸和笔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准备好礼貌用语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准备好讲述内容</a:t>
            </a: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SimSun"/>
              </a:rPr>
              <a:t>(</a:t>
            </a: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SimSun"/>
              </a:rPr>
              <a:t>草稿</a:t>
            </a: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SimSu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准备好微笑的声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准备好</a:t>
            </a:r>
            <a:r>
              <a:rPr b="1" lang="zh-CN" sz="4000" spc="-1" strike="noStrike">
                <a:solidFill>
                  <a:srgbClr val="000000"/>
                </a:solidFill>
                <a:latin typeface="SimSun"/>
                <a:ea typeface="SimSun"/>
              </a:rPr>
              <a:t>简单客户资料</a:t>
            </a:r>
            <a:r>
              <a:rPr b="1" lang="zh-TW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ISN054" descr=""/>
          <p:cNvPicPr/>
          <p:nvPr/>
        </p:nvPicPr>
        <p:blipFill>
          <a:blip r:embed="rId2"/>
          <a:stretch/>
        </p:blipFill>
        <p:spPr>
          <a:xfrm>
            <a:off x="5935680" y="2438280"/>
            <a:ext cx="32083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838080" y="447840"/>
            <a:ext cx="18432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80880" y="2133720"/>
            <a:ext cx="35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SimSun"/>
              </a:rPr>
              <a:t>电话手稿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SimSun"/>
              </a:rPr>
              <a:t>(</a:t>
            </a:r>
            <a:r>
              <a:rPr b="1" lang="zh-TW" sz="3200" spc="-1" strike="noStrike">
                <a:solidFill>
                  <a:srgbClr val="000000"/>
                </a:solidFill>
                <a:latin typeface="Verdana"/>
              </a:rPr>
              <a:t>一</a:t>
            </a:r>
            <a:r>
              <a:rPr b="1" lang="zh-TW" sz="32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43400" y="611280"/>
            <a:ext cx="3534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SimSun"/>
                <a:ea typeface="SimSun"/>
              </a:rPr>
              <a:t>引发兴趣的电话手稿</a:t>
            </a:r>
            <a:r>
              <a:rPr b="1" lang="zh-TW" sz="48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85800" y="2895480"/>
            <a:ext cx="6400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Verdana"/>
                <a:ea typeface="华文新魏"/>
              </a:rPr>
              <a:t>您好，我是</a:t>
            </a:r>
            <a:r>
              <a:rPr b="1" lang="zh-CN" sz="2800" spc="-1" strike="noStrike">
                <a:solidFill>
                  <a:srgbClr val="9933ff"/>
                </a:solidFill>
                <a:latin typeface="Verdana"/>
                <a:ea typeface="华文新魏"/>
              </a:rPr>
              <a:t>× ×</a:t>
            </a:r>
            <a:r>
              <a:rPr b="1" lang="zh-CN" sz="2800" spc="-1" strike="noStrike">
                <a:solidFill>
                  <a:srgbClr val="9933ff"/>
                </a:solidFill>
                <a:latin typeface="Verdana"/>
                <a:ea typeface="华文新魏"/>
              </a:rPr>
              <a:t>公司</a:t>
            </a:r>
            <a:r>
              <a:rPr b="1" lang="zh-CN" sz="2800" spc="-1" strike="noStrike">
                <a:solidFill>
                  <a:srgbClr val="9933ff"/>
                </a:solidFill>
                <a:latin typeface="SimSun"/>
                <a:ea typeface="SimSun"/>
              </a:rPr>
              <a:t>的某某</a:t>
            </a:r>
            <a:r>
              <a:rPr b="1" lang="zh-CN" sz="2800" spc="-1" strike="noStrike">
                <a:solidFill>
                  <a:srgbClr val="9933ff"/>
                </a:solidFill>
                <a:latin typeface="Verdana"/>
                <a:ea typeface="华文新魏"/>
              </a:rPr>
              <a:t>。请问你们经理在吗？我们公司为了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华文新魏"/>
              </a:rPr>
              <a:t>推动国内电子商务的进程</a:t>
            </a:r>
            <a:r>
              <a:rPr b="1" lang="zh-CN" sz="2800" spc="-1" strike="noStrike">
                <a:solidFill>
                  <a:srgbClr val="9933ff"/>
                </a:solidFill>
                <a:latin typeface="Verdana"/>
                <a:ea typeface="华文新魏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华文新魏"/>
              </a:rPr>
              <a:t>正在举办面向各企业的电脑操作、互联网知识和电子商务的培训</a:t>
            </a:r>
            <a:r>
              <a:rPr b="1" lang="zh-CN" sz="2800" spc="-1" strike="noStrike">
                <a:solidFill>
                  <a:srgbClr val="9933ff"/>
                </a:solidFill>
                <a:latin typeface="Verdana"/>
                <a:ea typeface="华文新魏"/>
              </a:rPr>
              <a:t>，</a:t>
            </a:r>
            <a:r>
              <a:rPr b="1" lang="zh-CN" sz="2800" spc="-1" strike="noStrike">
                <a:solidFill>
                  <a:srgbClr val="9933ff"/>
                </a:solidFill>
                <a:latin typeface="SimSun"/>
                <a:ea typeface="SimSun"/>
              </a:rPr>
              <a:t>想邀请您</a:t>
            </a:r>
            <a:r>
              <a:rPr b="1" lang="zh-CN" sz="2800" spc="-1" strike="noStrike">
                <a:solidFill>
                  <a:srgbClr val="9933ff"/>
                </a:solidFill>
                <a:latin typeface="Verdana"/>
                <a:ea typeface="SimSun"/>
              </a:rPr>
              <a:t>(</a:t>
            </a:r>
            <a:r>
              <a:rPr b="1" lang="zh-CN" sz="2800" spc="-1" strike="noStrike">
                <a:solidFill>
                  <a:srgbClr val="9933ff"/>
                </a:solidFill>
                <a:latin typeface="SimSun"/>
                <a:ea typeface="SimSun"/>
              </a:rPr>
              <a:t>贵公司</a:t>
            </a:r>
            <a:r>
              <a:rPr b="1" lang="zh-CN" sz="2800" spc="-1" strike="noStrike">
                <a:solidFill>
                  <a:srgbClr val="9933ff"/>
                </a:solidFill>
                <a:latin typeface="Verdana"/>
                <a:ea typeface="SimSun"/>
              </a:rPr>
              <a:t>)</a:t>
            </a:r>
            <a:r>
              <a:rPr b="1" lang="zh-CN" sz="2800" spc="-1" strike="noStrike">
                <a:solidFill>
                  <a:srgbClr val="9933ff"/>
                </a:solidFill>
                <a:latin typeface="SimSun"/>
                <a:ea typeface="SimSun"/>
              </a:rPr>
              <a:t>参加。</a:t>
            </a:r>
            <a:r>
              <a:rPr b="0" lang="zh-TW" sz="2800" spc="-1" strike="noStrike">
                <a:solidFill>
                  <a:srgbClr val="000000"/>
                </a:solidFill>
                <a:latin typeface="Verdana"/>
                <a:ea typeface="华文新魏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BD07153_" descr=""/>
          <p:cNvPicPr/>
          <p:nvPr/>
        </p:nvPicPr>
        <p:blipFill>
          <a:blip r:embed="rId2"/>
          <a:stretch/>
        </p:blipFill>
        <p:spPr>
          <a:xfrm>
            <a:off x="6477120" y="4495680"/>
            <a:ext cx="2103480" cy="20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425520" y="3048120"/>
            <a:ext cx="5746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Verdana"/>
                <a:ea typeface="华文新魏"/>
              </a:rPr>
              <a:t>您好，我是</a:t>
            </a:r>
            <a:r>
              <a:rPr b="1" lang="zh-CN" sz="2800" spc="-1" strike="noStrike">
                <a:solidFill>
                  <a:srgbClr val="9933ff"/>
                </a:solidFill>
                <a:latin typeface="Verdana"/>
                <a:ea typeface="华文新魏"/>
              </a:rPr>
              <a:t>× ×</a:t>
            </a:r>
            <a:r>
              <a:rPr b="1" lang="zh-CN" sz="2800" spc="-1" strike="noStrike">
                <a:solidFill>
                  <a:srgbClr val="9933ff"/>
                </a:solidFill>
                <a:latin typeface="Verdana"/>
                <a:ea typeface="华文新魏"/>
              </a:rPr>
              <a:t>公司。请问您们经理在吗？我们正在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华文新魏"/>
              </a:rPr>
              <a:t>对各企业进行“电子商务—中国企业发展的机遇和挑战”的调查</a:t>
            </a:r>
            <a:r>
              <a:rPr b="1" lang="zh-CN" sz="2800" spc="-1" strike="noStrike">
                <a:solidFill>
                  <a:srgbClr val="9933ff"/>
                </a:solidFill>
                <a:latin typeface="Verdana"/>
                <a:ea typeface="华文新魏"/>
              </a:rPr>
              <a:t>，同时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华文新魏"/>
              </a:rPr>
              <a:t>针对贵公司的调查结果提供相应的解决方案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BS02064_" descr=""/>
          <p:cNvPicPr/>
          <p:nvPr/>
        </p:nvPicPr>
        <p:blipFill>
          <a:blip r:embed="rId2"/>
          <a:stretch/>
        </p:blipFill>
        <p:spPr>
          <a:xfrm>
            <a:off x="6172200" y="4270320"/>
            <a:ext cx="2254320" cy="224316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1643400" y="611280"/>
            <a:ext cx="3534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SimSun"/>
                <a:ea typeface="SimSun"/>
              </a:rPr>
              <a:t>引发兴趣的电话手稿</a:t>
            </a:r>
            <a:r>
              <a:rPr b="1" lang="zh-TW" sz="48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80880" y="2133720"/>
            <a:ext cx="35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SimSun"/>
              </a:rPr>
              <a:t>电话手稿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SimSun"/>
              </a:rPr>
              <a:t>(</a:t>
            </a:r>
            <a:r>
              <a:rPr b="1" lang="zh-TW" sz="3200" spc="-1" strike="noStrike">
                <a:solidFill>
                  <a:srgbClr val="000000"/>
                </a:solidFill>
                <a:latin typeface="Verdana"/>
              </a:rPr>
              <a:t>二</a:t>
            </a:r>
            <a:r>
              <a:rPr b="1" lang="zh-TW" sz="32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"/>
          <p:cNvGrpSpPr/>
          <p:nvPr/>
        </p:nvGrpSpPr>
        <p:grpSpPr>
          <a:xfrm>
            <a:off x="2743200" y="1371600"/>
            <a:ext cx="3962160" cy="3276360"/>
            <a:chOff x="2743200" y="1371600"/>
            <a:chExt cx="3962160" cy="3276360"/>
          </a:xfrm>
        </p:grpSpPr>
        <p:sp>
          <p:nvSpPr>
            <p:cNvPr id="194" name=""/>
            <p:cNvSpPr/>
            <p:nvPr/>
          </p:nvSpPr>
          <p:spPr>
            <a:xfrm>
              <a:off x="2895480" y="1371600"/>
              <a:ext cx="3733920" cy="3276360"/>
            </a:xfrm>
            <a:prstGeom prst="ellipse">
              <a:avLst/>
            </a:prstGeom>
            <a:noFill/>
            <a:ln w="254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 txBox="1"/>
            <p:nvPr/>
          </p:nvSpPr>
          <p:spPr>
            <a:xfrm>
              <a:off x="2743200" y="1828800"/>
              <a:ext cx="3962160" cy="2361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3971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cc99ff"/>
                    </a:solidFill>
                    <a:miter/>
                  </a:ln>
                  <a:gradFill rotWithShape="0">
                    <a:gsLst>
                      <a:gs pos="0">
                        <a:srgbClr val="6600cc"/>
                      </a:gs>
                      <a:gs pos="100000">
                        <a:srgbClr val="cc00cc"/>
                      </a:gs>
                    </a:gsLst>
                    <a:lin ang="5400000"/>
                  </a:gradFill>
                  <a:effectLst>
                    <a:outerShdw dist="53966" dir="2700000" blurRad="0" rotWithShape="0">
                      <a:srgbClr val="9999ff"/>
                    </a:outerShdw>
                  </a:effectLst>
                  <a:latin typeface="Impact"/>
                </a:rPr>
                <a:t>Stop</a:t>
              </a:r>
              <a:endParaRPr b="1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809880" y="1600200"/>
              <a:ext cx="1905120" cy="2666880"/>
            </a:xfrm>
            <a:prstGeom prst="line">
              <a:avLst/>
            </a:prstGeom>
            <a:ln w="254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3157560" y="4838760"/>
            <a:ext cx="5554800" cy="966960"/>
          </a:xfrm>
          <a:prstGeom prst="horizontalScroll">
            <a:avLst>
              <a:gd name="adj" fmla="val 13652"/>
            </a:avLst>
          </a:prstGeom>
          <a:gradFill rotWithShape="0">
            <a:gsLst>
              <a:gs pos="0">
                <a:srgbClr val="ffff99"/>
              </a:gs>
              <a:gs pos="50000">
                <a:srgbClr val="fefeee"/>
              </a:gs>
              <a:gs pos="100000">
                <a:srgbClr val="ffff99"/>
              </a:gs>
            </a:gsLst>
            <a:lin ang="13500000"/>
          </a:gradFill>
          <a:ln w="9360">
            <a:solidFill>
              <a:srgbClr val="808080"/>
            </a:solidFill>
            <a:miter/>
          </a:ln>
          <a:effectLst>
            <a:outerShdw dist="53966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ff"/>
                </a:solidFill>
                <a:latin typeface="SimSun"/>
                <a:ea typeface="SimSun"/>
              </a:rPr>
              <a:t>抓紧机会</a:t>
            </a:r>
            <a:r>
              <a:rPr b="1" lang="zh-TW" sz="4000" spc="-1" strike="noStrike">
                <a:solidFill>
                  <a:srgbClr val="9900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rot="1680000">
            <a:off x="747360" y="663120"/>
            <a:ext cx="2492280" cy="550080"/>
          </a:xfrm>
          <a:custGeom>
            <a:avLst/>
            <a:gdLst>
              <a:gd name="textAreaLeft" fmla="*/ 0 w 2492280"/>
              <a:gd name="textAreaRight" fmla="*/ 2492640 w 2492280"/>
              <a:gd name="textAreaTop" fmla="*/ 0 h 550080"/>
              <a:gd name="textAreaBottom" fmla="*/ 550440 h 550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53966" dir="2700000" blurRad="0" rotWithShape="0">
              <a:srgbClr val="9898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9900ff"/>
                </a:solidFill>
                <a:latin typeface="SimSun"/>
                <a:ea typeface="SimSun"/>
              </a:rPr>
              <a:t>当异议出现</a:t>
            </a:r>
            <a:r>
              <a:rPr b="1" lang="zh-TW" sz="3000" spc="-1" strike="noStrike">
                <a:solidFill>
                  <a:srgbClr val="9900ff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914400" y="289512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8560" indent="-62856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Wingding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ff"/>
                </a:solidFill>
                <a:latin typeface="SimSun"/>
                <a:ea typeface="SimSun"/>
              </a:rPr>
              <a:t>没有需要</a:t>
            </a:r>
            <a:r>
              <a:rPr b="1" lang="zh-TW" sz="3600" spc="-1" strike="noStrike">
                <a:solidFill>
                  <a:srgbClr val="9933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28560" indent="-62856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Wingding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ff"/>
                </a:solidFill>
                <a:latin typeface="SimSun"/>
                <a:ea typeface="SimSun"/>
              </a:rPr>
              <a:t>没有时间</a:t>
            </a:r>
            <a:r>
              <a:rPr b="1" lang="zh-TW" sz="3600" spc="-1" strike="noStrike">
                <a:solidFill>
                  <a:srgbClr val="9933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28560" indent="-62856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Wingding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ff"/>
                </a:solidFill>
                <a:latin typeface="SimSun"/>
                <a:ea typeface="SimSun"/>
              </a:rPr>
              <a:t>没有信心</a:t>
            </a:r>
            <a:r>
              <a:rPr b="1" lang="zh-TW" sz="3600" spc="-1" strike="noStrike">
                <a:solidFill>
                  <a:srgbClr val="9933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28560" indent="-62856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Wingding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ff"/>
                </a:solidFill>
                <a:latin typeface="SimSun"/>
                <a:ea typeface="SimSun"/>
              </a:rPr>
              <a:t>并不急迫</a:t>
            </a:r>
            <a:r>
              <a:rPr b="1" lang="zh-TW" sz="3600" spc="-1" strike="noStrike">
                <a:solidFill>
                  <a:srgbClr val="9933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28560" indent="-62856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Wingding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ff"/>
                </a:solidFill>
                <a:latin typeface="SimSun"/>
                <a:ea typeface="SimSun"/>
              </a:rPr>
              <a:t>不明白产品对公司的帮助</a:t>
            </a:r>
            <a:r>
              <a:rPr b="1" lang="zh-TW" sz="3600" spc="-1" strike="noStrike">
                <a:solidFill>
                  <a:srgbClr val="9933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380880" y="380880"/>
            <a:ext cx="7848720" cy="2514600"/>
            <a:chOff x="380880" y="380880"/>
            <a:chExt cx="7848720" cy="2514600"/>
          </a:xfrm>
        </p:grpSpPr>
        <p:pic>
          <p:nvPicPr>
            <p:cNvPr id="201" name="" descr=""/>
            <p:cNvPicPr/>
            <p:nvPr/>
          </p:nvPicPr>
          <p:blipFill>
            <a:blip r:embed="rId2"/>
            <a:stretch/>
          </p:blipFill>
          <p:spPr>
            <a:xfrm>
              <a:off x="380880" y="380880"/>
              <a:ext cx="7848720" cy="251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3429000" y="1143000"/>
              <a:ext cx="426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33cc"/>
                  </a:solidFill>
                  <a:latin typeface="SimSun"/>
                  <a:ea typeface="Times New Roman"/>
                </a:rPr>
                <a:t>怎样将异议变为机会</a:t>
              </a:r>
              <a:r>
                <a:rPr b="1" lang="zh-TW" sz="3200" spc="-1" strike="noStrike">
                  <a:solidFill>
                    <a:srgbClr val="3333cc"/>
                  </a:solidFill>
                  <a:latin typeface="SimSun"/>
                  <a:ea typeface="SimSu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ff0000"/>
                </a:solidFill>
                <a:latin typeface="SimSun"/>
                <a:ea typeface="Times New Roman"/>
              </a:rPr>
              <a:t>LSCPA</a:t>
            </a:r>
            <a:r>
              <a:rPr b="1" lang="zh-CN" sz="4700" spc="-1" strike="noStrike">
                <a:solidFill>
                  <a:srgbClr val="ff0000"/>
                </a:solidFill>
                <a:latin typeface="SimSun"/>
                <a:ea typeface="Times New Roman"/>
              </a:rPr>
              <a:t>异议处理技巧</a:t>
            </a:r>
            <a:r>
              <a:rPr b="1" i="1" lang="zh-TW" sz="4700" spc="-1" strike="noStrike">
                <a:solidFill>
                  <a:srgbClr val="000000"/>
                </a:solidFill>
                <a:latin typeface="SimSun"/>
              </a:rPr>
              <a:t> 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120000"/>
              </a:lnSpc>
              <a:spcBef>
                <a:spcPts val="901"/>
              </a:spcBef>
              <a:buClr>
                <a:srgbClr val="ff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zh-TW" sz="3600" spc="-1" strike="noStrike">
                <a:solidFill>
                  <a:srgbClr val="9933ff"/>
                </a:solidFill>
                <a:latin typeface="Times New Roman"/>
              </a:rPr>
              <a:t>isten </a:t>
            </a:r>
            <a:r>
              <a:rPr b="1" lang="zh-CN" sz="3600" spc="-1" strike="noStrike">
                <a:solidFill>
                  <a:srgbClr val="000000"/>
                </a:solidFill>
                <a:latin typeface="SimSun"/>
                <a:ea typeface="SimSun"/>
              </a:rPr>
              <a:t>细心聆听</a:t>
            </a:r>
            <a:r>
              <a:rPr b="1" lang="zh-TW" sz="3600" spc="-1" strike="noStrike">
                <a:solidFill>
                  <a:srgbClr val="9933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20000"/>
              </a:lnSpc>
              <a:spcBef>
                <a:spcPts val="901"/>
              </a:spcBef>
              <a:buClr>
                <a:srgbClr val="ff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zh-TW" sz="3600" spc="-1" strike="noStrike">
                <a:solidFill>
                  <a:srgbClr val="9933ff"/>
                </a:solidFill>
                <a:latin typeface="Times New Roman"/>
              </a:rPr>
              <a:t>hare </a:t>
            </a:r>
            <a:r>
              <a:rPr b="1" lang="zh-CN" sz="3600" spc="-1" strike="noStrike">
                <a:solidFill>
                  <a:srgbClr val="000000"/>
                </a:solidFill>
                <a:latin typeface="SimSun"/>
                <a:ea typeface="SimSun"/>
              </a:rPr>
              <a:t>分享感受</a:t>
            </a:r>
            <a:r>
              <a:rPr b="1" lang="zh-TW" sz="3600" spc="-1" strike="noStrike">
                <a:solidFill>
                  <a:srgbClr val="9933ff"/>
                </a:solidFill>
                <a:latin typeface="Times New Roman"/>
              </a:rPr>
              <a:t> </a:t>
            </a:r>
            <a:r>
              <a:rPr b="1" lang="zh-TW" sz="3600" spc="-1" strike="noStrike">
                <a:solidFill>
                  <a:srgbClr val="9933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20000"/>
              </a:lnSpc>
              <a:spcBef>
                <a:spcPts val="901"/>
              </a:spcBef>
              <a:buClr>
                <a:srgbClr val="ff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zh-TW" sz="3600" spc="-1" strike="noStrike">
                <a:solidFill>
                  <a:srgbClr val="9933ff"/>
                </a:solidFill>
                <a:latin typeface="Times New Roman"/>
              </a:rPr>
              <a:t>larify </a:t>
            </a:r>
            <a:r>
              <a:rPr b="1" lang="zh-CN" sz="3600" spc="-1" strike="noStrike">
                <a:solidFill>
                  <a:srgbClr val="000000"/>
                </a:solidFill>
                <a:latin typeface="SimSun"/>
                <a:ea typeface="SimSun"/>
              </a:rPr>
              <a:t>澄清异议</a:t>
            </a:r>
            <a:r>
              <a:rPr b="1" lang="zh-TW" sz="3600" spc="-1" strike="noStrike">
                <a:solidFill>
                  <a:srgbClr val="9933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20000"/>
              </a:lnSpc>
              <a:spcBef>
                <a:spcPts val="901"/>
              </a:spcBef>
              <a:buClr>
                <a:srgbClr val="ff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lang="zh-TW" sz="3600" spc="-1" strike="noStrike">
                <a:solidFill>
                  <a:srgbClr val="9933ff"/>
                </a:solidFill>
                <a:latin typeface="Times New Roman"/>
              </a:rPr>
              <a:t>resent </a:t>
            </a:r>
            <a:r>
              <a:rPr b="1" lang="zh-CN" sz="3600" spc="-1" strike="noStrike">
                <a:solidFill>
                  <a:srgbClr val="000000"/>
                </a:solidFill>
                <a:latin typeface="SimSun"/>
                <a:ea typeface="SimSun"/>
              </a:rPr>
              <a:t>提出方案</a:t>
            </a:r>
            <a:r>
              <a:rPr b="1" lang="zh-TW" sz="3600" spc="-1" strike="noStrike">
                <a:solidFill>
                  <a:srgbClr val="9933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20000"/>
              </a:lnSpc>
              <a:spcBef>
                <a:spcPts val="901"/>
              </a:spcBef>
              <a:buClr>
                <a:srgbClr val="ff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9933ff"/>
                </a:solidFill>
                <a:latin typeface="Times New Roman"/>
              </a:rPr>
              <a:t>Ask for </a:t>
            </a:r>
            <a:r>
              <a:rPr b="1" lang="zh-TW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zh-TW" sz="3600" spc="-1" strike="noStrike">
                <a:solidFill>
                  <a:srgbClr val="9933ff"/>
                </a:solidFill>
                <a:latin typeface="Times New Roman"/>
              </a:rPr>
              <a:t>ction </a:t>
            </a:r>
            <a:r>
              <a:rPr b="1" lang="zh-CN" sz="3600" spc="-1" strike="noStrike">
                <a:solidFill>
                  <a:srgbClr val="000000"/>
                </a:solidFill>
                <a:latin typeface="SimSun"/>
                <a:ea typeface="Times New Roman"/>
              </a:rPr>
              <a:t>要求</a:t>
            </a:r>
            <a:r>
              <a:rPr b="1" lang="zh-CN" sz="3600" spc="-1" strike="noStrike">
                <a:solidFill>
                  <a:srgbClr val="000000"/>
                </a:solidFill>
                <a:latin typeface="SimSun"/>
                <a:ea typeface="SimSun"/>
              </a:rPr>
              <a:t>行动</a:t>
            </a:r>
            <a:r>
              <a:rPr b="1" lang="zh-TW" sz="3600" spc="-1" strike="noStrike">
                <a:solidFill>
                  <a:srgbClr val="9933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 flipV="1" rot="10800000">
            <a:off x="534600" y="1752480"/>
            <a:ext cx="4856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6004440" y="3347280"/>
            <a:ext cx="2747520" cy="3116880"/>
            <a:chOff x="6004440" y="3347280"/>
            <a:chExt cx="2747520" cy="3116880"/>
          </a:xfrm>
        </p:grpSpPr>
        <p:sp>
          <p:nvSpPr>
            <p:cNvPr id="207" name=""/>
            <p:cNvSpPr/>
            <p:nvPr/>
          </p:nvSpPr>
          <p:spPr>
            <a:xfrm>
              <a:off x="6400800" y="6172200"/>
              <a:ext cx="593640" cy="189000"/>
            </a:xfrm>
            <a:custGeom>
              <a:avLst/>
              <a:gdLst/>
              <a:ahLst/>
              <a:rect l="l" t="t" r="r" b="b"/>
              <a:pathLst>
                <a:path w="748" h="121">
                  <a:moveTo>
                    <a:pt x="447" y="0"/>
                  </a:moveTo>
                  <a:lnTo>
                    <a:pt x="379" y="4"/>
                  </a:lnTo>
                  <a:lnTo>
                    <a:pt x="307" y="9"/>
                  </a:lnTo>
                  <a:lnTo>
                    <a:pt x="257" y="15"/>
                  </a:lnTo>
                  <a:lnTo>
                    <a:pt x="223" y="12"/>
                  </a:lnTo>
                  <a:lnTo>
                    <a:pt x="169" y="13"/>
                  </a:lnTo>
                  <a:lnTo>
                    <a:pt x="94" y="18"/>
                  </a:lnTo>
                  <a:lnTo>
                    <a:pt x="48" y="25"/>
                  </a:lnTo>
                  <a:lnTo>
                    <a:pt x="19" y="34"/>
                  </a:lnTo>
                  <a:lnTo>
                    <a:pt x="5" y="42"/>
                  </a:lnTo>
                  <a:lnTo>
                    <a:pt x="0" y="55"/>
                  </a:lnTo>
                  <a:lnTo>
                    <a:pt x="10" y="64"/>
                  </a:lnTo>
                  <a:lnTo>
                    <a:pt x="28" y="72"/>
                  </a:lnTo>
                  <a:lnTo>
                    <a:pt x="53" y="79"/>
                  </a:lnTo>
                  <a:lnTo>
                    <a:pt x="88" y="86"/>
                  </a:lnTo>
                  <a:lnTo>
                    <a:pt x="127" y="91"/>
                  </a:lnTo>
                  <a:lnTo>
                    <a:pt x="233" y="97"/>
                  </a:lnTo>
                  <a:lnTo>
                    <a:pt x="513" y="111"/>
                  </a:lnTo>
                  <a:lnTo>
                    <a:pt x="748" y="121"/>
                  </a:lnTo>
                  <a:lnTo>
                    <a:pt x="447" y="0"/>
                  </a:lnTo>
                  <a:close/>
                </a:path>
              </a:pathLst>
            </a:custGeom>
            <a:solidFill>
              <a:srgbClr val="3f3f3f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8" name=""/>
            <p:cNvGrpSpPr/>
            <p:nvPr/>
          </p:nvGrpSpPr>
          <p:grpSpPr>
            <a:xfrm>
              <a:off x="6004440" y="3347280"/>
              <a:ext cx="2747520" cy="3116880"/>
              <a:chOff x="6004440" y="3347280"/>
              <a:chExt cx="2747520" cy="311688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6004440" y="3420000"/>
                <a:ext cx="945360" cy="1180800"/>
                <a:chOff x="6004440" y="3420000"/>
                <a:chExt cx="945360" cy="118080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6004440" y="3420000"/>
                  <a:ext cx="945360" cy="1180800"/>
                  <a:chOff x="6004440" y="3420000"/>
                  <a:chExt cx="945360" cy="1180800"/>
                </a:xfrm>
              </p:grpSpPr>
              <p:grpSp>
                <p:nvGrpSpPr>
                  <p:cNvPr id="211" name=""/>
                  <p:cNvGrpSpPr/>
                  <p:nvPr/>
                </p:nvGrpSpPr>
                <p:grpSpPr>
                  <a:xfrm>
                    <a:off x="6112800" y="3420000"/>
                    <a:ext cx="837000" cy="1106640"/>
                    <a:chOff x="6112800" y="3420000"/>
                    <a:chExt cx="837000" cy="1106640"/>
                  </a:xfrm>
                </p:grpSpPr>
                <p:grpSp>
                  <p:nvGrpSpPr>
                    <p:cNvPr id="212" name=""/>
                    <p:cNvGrpSpPr/>
                    <p:nvPr/>
                  </p:nvGrpSpPr>
                  <p:grpSpPr>
                    <a:xfrm>
                      <a:off x="6112800" y="3420000"/>
                      <a:ext cx="837000" cy="1106640"/>
                      <a:chOff x="6112800" y="3420000"/>
                      <a:chExt cx="837000" cy="1106640"/>
                    </a:xfrm>
                  </p:grpSpPr>
                  <p:sp>
                    <p:nvSpPr>
                      <p:cNvPr id="213" name=""/>
                      <p:cNvSpPr/>
                      <p:nvPr/>
                    </p:nvSpPr>
                    <p:spPr>
                      <a:xfrm rot="92400">
                        <a:off x="6131880" y="3430440"/>
                        <a:ext cx="803520" cy="108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12" h="693">
                            <a:moveTo>
                              <a:pt x="808" y="60"/>
                            </a:moveTo>
                            <a:lnTo>
                              <a:pt x="896" y="0"/>
                            </a:lnTo>
                            <a:lnTo>
                              <a:pt x="923" y="1"/>
                            </a:lnTo>
                            <a:lnTo>
                              <a:pt x="946" y="4"/>
                            </a:lnTo>
                            <a:lnTo>
                              <a:pt x="967" y="10"/>
                            </a:lnTo>
                            <a:lnTo>
                              <a:pt x="984" y="17"/>
                            </a:lnTo>
                            <a:lnTo>
                              <a:pt x="997" y="25"/>
                            </a:lnTo>
                            <a:lnTo>
                              <a:pt x="1007" y="37"/>
                            </a:lnTo>
                            <a:lnTo>
                              <a:pt x="1012" y="53"/>
                            </a:lnTo>
                            <a:lnTo>
                              <a:pt x="1010" y="68"/>
                            </a:lnTo>
                            <a:lnTo>
                              <a:pt x="73" y="693"/>
                            </a:lnTo>
                            <a:lnTo>
                              <a:pt x="0" y="645"/>
                            </a:lnTo>
                            <a:lnTo>
                              <a:pt x="808" y="60"/>
                            </a:lnTo>
                            <a:close/>
                          </a:path>
                        </a:pathLst>
                      </a:custGeom>
                      <a:solidFill>
                        <a:srgbClr val="7f3f00"/>
                      </a:solidFill>
                      <a:ln w="111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4" name=""/>
                      <p:cNvSpPr/>
                      <p:nvPr/>
                    </p:nvSpPr>
                    <p:spPr>
                      <a:xfrm rot="92400">
                        <a:off x="6113520" y="4430160"/>
                        <a:ext cx="65160" cy="79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2" h="51">
                            <a:moveTo>
                              <a:pt x="3" y="2"/>
                            </a:moveTo>
                            <a:lnTo>
                              <a:pt x="24" y="0"/>
                            </a:lnTo>
                            <a:lnTo>
                              <a:pt x="44" y="5"/>
                            </a:lnTo>
                            <a:lnTo>
                              <a:pt x="61" y="11"/>
                            </a:lnTo>
                            <a:lnTo>
                              <a:pt x="72" y="18"/>
                            </a:lnTo>
                            <a:lnTo>
                              <a:pt x="80" y="30"/>
                            </a:lnTo>
                            <a:lnTo>
                              <a:pt x="82" y="42"/>
                            </a:lnTo>
                            <a:lnTo>
                              <a:pt x="79" y="49"/>
                            </a:lnTo>
                            <a:lnTo>
                              <a:pt x="64" y="51"/>
                            </a:lnTo>
                            <a:lnTo>
                              <a:pt x="42" y="50"/>
                            </a:lnTo>
                            <a:lnTo>
                              <a:pt x="29" y="46"/>
                            </a:lnTo>
                            <a:lnTo>
                              <a:pt x="16" y="40"/>
                            </a:lnTo>
                            <a:lnTo>
                              <a:pt x="8" y="34"/>
                            </a:lnTo>
                            <a:lnTo>
                              <a:pt x="1" y="22"/>
                            </a:lnTo>
                            <a:lnTo>
                              <a:pt x="0" y="11"/>
                            </a:lnTo>
                            <a:lnTo>
                              <a:pt x="3" y="2"/>
                            </a:lnTo>
                            <a:close/>
                          </a:path>
                        </a:pathLst>
                      </a:custGeom>
                      <a:solidFill>
                        <a:srgbClr val="5f3f1f"/>
                      </a:solidFill>
                      <a:ln w="111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2760" bIns="32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15" name=""/>
                    <p:cNvGrpSpPr/>
                    <p:nvPr/>
                  </p:nvGrpSpPr>
                  <p:grpSpPr>
                    <a:xfrm>
                      <a:off x="6297480" y="3445200"/>
                      <a:ext cx="648360" cy="797040"/>
                      <a:chOff x="6297480" y="3445200"/>
                      <a:chExt cx="648360" cy="797040"/>
                    </a:xfrm>
                  </p:grpSpPr>
                  <p:grpSp>
                    <p:nvGrpSpPr>
                      <p:cNvPr id="216" name=""/>
                      <p:cNvGrpSpPr/>
                      <p:nvPr/>
                    </p:nvGrpSpPr>
                    <p:grpSpPr>
                      <a:xfrm>
                        <a:off x="6782760" y="3445200"/>
                        <a:ext cx="163080" cy="147240"/>
                        <a:chOff x="6782760" y="3445200"/>
                        <a:chExt cx="163080" cy="147240"/>
                      </a:xfrm>
                    </p:grpSpPr>
                    <p:sp>
                      <p:nvSpPr>
                        <p:cNvPr id="217" name=""/>
                        <p:cNvSpPr/>
                        <p:nvPr/>
                      </p:nvSpPr>
                      <p:spPr>
                        <a:xfrm flipV="1">
                          <a:off x="6782760" y="3445200"/>
                          <a:ext cx="101880" cy="122040"/>
                        </a:xfrm>
                        <a:prstGeom prst="line">
                          <a:avLst/>
                        </a:prstGeom>
                        <a:ln w="111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18" name=""/>
                        <p:cNvSpPr/>
                        <p:nvPr/>
                      </p:nvSpPr>
                      <p:spPr>
                        <a:xfrm flipV="1">
                          <a:off x="6840720" y="3461400"/>
                          <a:ext cx="76680" cy="77760"/>
                        </a:xfrm>
                        <a:prstGeom prst="line">
                          <a:avLst/>
                        </a:prstGeom>
                        <a:ln w="111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30960" bIns="309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19" name=""/>
                        <p:cNvSpPr/>
                        <p:nvPr/>
                      </p:nvSpPr>
                      <p:spPr>
                        <a:xfrm flipV="1">
                          <a:off x="6829920" y="3483000"/>
                          <a:ext cx="107640" cy="109440"/>
                        </a:xfrm>
                        <a:prstGeom prst="line">
                          <a:avLst/>
                        </a:prstGeom>
                        <a:ln w="111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20" name=""/>
                        <p:cNvSpPr/>
                        <p:nvPr/>
                      </p:nvSpPr>
                      <p:spPr>
                        <a:xfrm flipV="1">
                          <a:off x="6873120" y="3522240"/>
                          <a:ext cx="72720" cy="61920"/>
                        </a:xfrm>
                        <a:prstGeom prst="line">
                          <a:avLst/>
                        </a:prstGeom>
                        <a:ln w="111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5120" bIns="15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21" name=""/>
                      <p:cNvGrpSpPr/>
                      <p:nvPr/>
                    </p:nvGrpSpPr>
                    <p:grpSpPr>
                      <a:xfrm>
                        <a:off x="6297480" y="3953880"/>
                        <a:ext cx="221040" cy="288360"/>
                        <a:chOff x="6297480" y="3953880"/>
                        <a:chExt cx="221040" cy="288360"/>
                      </a:xfrm>
                    </p:grpSpPr>
                    <p:sp>
                      <p:nvSpPr>
                        <p:cNvPr id="222" name=""/>
                        <p:cNvSpPr/>
                        <p:nvPr/>
                      </p:nvSpPr>
                      <p:spPr>
                        <a:xfrm flipV="1">
                          <a:off x="6297480" y="4106520"/>
                          <a:ext cx="77040" cy="99720"/>
                        </a:xfrm>
                        <a:prstGeom prst="line">
                          <a:avLst/>
                        </a:prstGeom>
                        <a:ln w="111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23" name=""/>
                        <p:cNvSpPr/>
                        <p:nvPr/>
                      </p:nvSpPr>
                      <p:spPr>
                        <a:xfrm flipV="1">
                          <a:off x="6336360" y="4172040"/>
                          <a:ext cx="44280" cy="53280"/>
                        </a:xfrm>
                        <a:prstGeom prst="line">
                          <a:avLst/>
                        </a:prstGeom>
                        <a:ln w="111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6480" bIns="6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24" name=""/>
                        <p:cNvSpPr/>
                        <p:nvPr/>
                      </p:nvSpPr>
                      <p:spPr>
                        <a:xfrm flipV="1">
                          <a:off x="6351840" y="4037040"/>
                          <a:ext cx="164160" cy="205200"/>
                        </a:xfrm>
                        <a:prstGeom prst="line">
                          <a:avLst/>
                        </a:prstGeom>
                        <a:ln w="111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25" name=""/>
                        <p:cNvSpPr/>
                        <p:nvPr/>
                      </p:nvSpPr>
                      <p:spPr>
                        <a:xfrm flipV="1">
                          <a:off x="6434640" y="3953880"/>
                          <a:ext cx="83880" cy="94680"/>
                        </a:xfrm>
                        <a:prstGeom prst="line">
                          <a:avLst/>
                        </a:prstGeom>
                        <a:ln w="111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  <p:sp>
                <p:nvSpPr>
                  <p:cNvPr id="226" name=""/>
                  <p:cNvSpPr/>
                  <p:nvPr/>
                </p:nvSpPr>
                <p:spPr>
                  <a:xfrm rot="92400">
                    <a:off x="6011280" y="4070880"/>
                    <a:ext cx="488880" cy="523080"/>
                  </a:xfrm>
                  <a:custGeom>
                    <a:avLst/>
                    <a:gdLst/>
                    <a:ahLst/>
                    <a:rect l="l" t="t" r="r" b="b"/>
                    <a:pathLst>
                      <a:path w="616" h="334">
                        <a:moveTo>
                          <a:pt x="0" y="157"/>
                        </a:moveTo>
                        <a:lnTo>
                          <a:pt x="13" y="133"/>
                        </a:lnTo>
                        <a:lnTo>
                          <a:pt x="33" y="107"/>
                        </a:lnTo>
                        <a:lnTo>
                          <a:pt x="54" y="86"/>
                        </a:lnTo>
                        <a:lnTo>
                          <a:pt x="81" y="64"/>
                        </a:lnTo>
                        <a:lnTo>
                          <a:pt x="106" y="47"/>
                        </a:lnTo>
                        <a:lnTo>
                          <a:pt x="137" y="30"/>
                        </a:lnTo>
                        <a:lnTo>
                          <a:pt x="170" y="15"/>
                        </a:lnTo>
                        <a:lnTo>
                          <a:pt x="206" y="0"/>
                        </a:lnTo>
                        <a:lnTo>
                          <a:pt x="226" y="13"/>
                        </a:lnTo>
                        <a:lnTo>
                          <a:pt x="251" y="27"/>
                        </a:lnTo>
                        <a:lnTo>
                          <a:pt x="280" y="42"/>
                        </a:lnTo>
                        <a:lnTo>
                          <a:pt x="320" y="62"/>
                        </a:lnTo>
                        <a:lnTo>
                          <a:pt x="358" y="80"/>
                        </a:lnTo>
                        <a:lnTo>
                          <a:pt x="397" y="96"/>
                        </a:lnTo>
                        <a:lnTo>
                          <a:pt x="442" y="115"/>
                        </a:lnTo>
                        <a:lnTo>
                          <a:pt x="489" y="132"/>
                        </a:lnTo>
                        <a:lnTo>
                          <a:pt x="531" y="145"/>
                        </a:lnTo>
                        <a:lnTo>
                          <a:pt x="569" y="158"/>
                        </a:lnTo>
                        <a:lnTo>
                          <a:pt x="616" y="173"/>
                        </a:lnTo>
                        <a:lnTo>
                          <a:pt x="420" y="334"/>
                        </a:lnTo>
                        <a:lnTo>
                          <a:pt x="384" y="312"/>
                        </a:lnTo>
                        <a:lnTo>
                          <a:pt x="343" y="288"/>
                        </a:lnTo>
                        <a:lnTo>
                          <a:pt x="316" y="270"/>
                        </a:lnTo>
                        <a:lnTo>
                          <a:pt x="285" y="253"/>
                        </a:lnTo>
                        <a:lnTo>
                          <a:pt x="249" y="238"/>
                        </a:lnTo>
                        <a:lnTo>
                          <a:pt x="199" y="218"/>
                        </a:lnTo>
                        <a:lnTo>
                          <a:pt x="157" y="203"/>
                        </a:lnTo>
                        <a:lnTo>
                          <a:pt x="112" y="188"/>
                        </a:lnTo>
                        <a:lnTo>
                          <a:pt x="74" y="175"/>
                        </a:lnTo>
                        <a:lnTo>
                          <a:pt x="33" y="164"/>
                        </a:lnTo>
                        <a:lnTo>
                          <a:pt x="0" y="157"/>
                        </a:lnTo>
                        <a:close/>
                      </a:path>
                    </a:pathLst>
                  </a:custGeom>
                  <a:solidFill>
                    <a:srgbClr val="7f3f00"/>
                  </a:solidFill>
                  <a:ln w="11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7" name=""/>
                <p:cNvSpPr/>
                <p:nvPr/>
              </p:nvSpPr>
              <p:spPr>
                <a:xfrm rot="92400">
                  <a:off x="6338880" y="4348080"/>
                  <a:ext cx="155520" cy="250200"/>
                </a:xfrm>
                <a:custGeom>
                  <a:avLst/>
                  <a:gdLst/>
                  <a:ahLst/>
                  <a:rect l="l" t="t" r="r" b="b"/>
                  <a:pathLst>
                    <a:path w="196" h="160">
                      <a:moveTo>
                        <a:pt x="196" y="0"/>
                      </a:moveTo>
                      <a:lnTo>
                        <a:pt x="168" y="7"/>
                      </a:lnTo>
                      <a:lnTo>
                        <a:pt x="143" y="17"/>
                      </a:lnTo>
                      <a:lnTo>
                        <a:pt x="120" y="29"/>
                      </a:lnTo>
                      <a:lnTo>
                        <a:pt x="97" y="43"/>
                      </a:lnTo>
                      <a:lnTo>
                        <a:pt x="72" y="61"/>
                      </a:lnTo>
                      <a:lnTo>
                        <a:pt x="57" y="75"/>
                      </a:lnTo>
                      <a:lnTo>
                        <a:pt x="38" y="94"/>
                      </a:lnTo>
                      <a:lnTo>
                        <a:pt x="21" y="114"/>
                      </a:lnTo>
                      <a:lnTo>
                        <a:pt x="6" y="135"/>
                      </a:lnTo>
                      <a:lnTo>
                        <a:pt x="0" y="160"/>
                      </a:lnTo>
                      <a:lnTo>
                        <a:pt x="29" y="155"/>
                      </a:lnTo>
                      <a:lnTo>
                        <a:pt x="52" y="148"/>
                      </a:lnTo>
                      <a:lnTo>
                        <a:pt x="82" y="138"/>
                      </a:lnTo>
                      <a:lnTo>
                        <a:pt x="108" y="124"/>
                      </a:lnTo>
                      <a:lnTo>
                        <a:pt x="133" y="108"/>
                      </a:lnTo>
                      <a:lnTo>
                        <a:pt x="153" y="91"/>
                      </a:lnTo>
                      <a:lnTo>
                        <a:pt x="168" y="74"/>
                      </a:lnTo>
                      <a:lnTo>
                        <a:pt x="183" y="53"/>
                      </a:lnTo>
                      <a:lnTo>
                        <a:pt x="191" y="36"/>
                      </a:lnTo>
                      <a:lnTo>
                        <a:pt x="194" y="17"/>
                      </a:lnTo>
                      <a:lnTo>
                        <a:pt x="196" y="0"/>
                      </a:lnTo>
                      <a:close/>
                    </a:path>
                  </a:pathLst>
                </a:custGeom>
                <a:solidFill>
                  <a:srgbClr val="5f3f1f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6426720" y="3347280"/>
                <a:ext cx="1401480" cy="3116880"/>
                <a:chOff x="6426720" y="3347280"/>
                <a:chExt cx="1401480" cy="3116880"/>
              </a:xfrm>
            </p:grpSpPr>
            <p:grpSp>
              <p:nvGrpSpPr>
                <p:cNvPr id="229" name=""/>
                <p:cNvGrpSpPr/>
                <p:nvPr/>
              </p:nvGrpSpPr>
              <p:grpSpPr>
                <a:xfrm>
                  <a:off x="6426720" y="3347280"/>
                  <a:ext cx="1401480" cy="3116880"/>
                  <a:chOff x="6426720" y="3347280"/>
                  <a:chExt cx="1401480" cy="3116880"/>
                </a:xfrm>
              </p:grpSpPr>
              <p:grpSp>
                <p:nvGrpSpPr>
                  <p:cNvPr id="230" name=""/>
                  <p:cNvGrpSpPr/>
                  <p:nvPr/>
                </p:nvGrpSpPr>
                <p:grpSpPr>
                  <a:xfrm>
                    <a:off x="6643800" y="5475240"/>
                    <a:ext cx="845640" cy="988920"/>
                    <a:chOff x="6643800" y="5475240"/>
                    <a:chExt cx="845640" cy="988920"/>
                  </a:xfrm>
                </p:grpSpPr>
                <p:grpSp>
                  <p:nvGrpSpPr>
                    <p:cNvPr id="231" name=""/>
                    <p:cNvGrpSpPr/>
                    <p:nvPr/>
                  </p:nvGrpSpPr>
                  <p:grpSpPr>
                    <a:xfrm>
                      <a:off x="6797880" y="5500080"/>
                      <a:ext cx="691560" cy="667080"/>
                      <a:chOff x="6797880" y="5500080"/>
                      <a:chExt cx="691560" cy="667080"/>
                    </a:xfrm>
                  </p:grpSpPr>
                  <p:sp>
                    <p:nvSpPr>
                      <p:cNvPr id="232" name=""/>
                      <p:cNvSpPr/>
                      <p:nvPr/>
                    </p:nvSpPr>
                    <p:spPr>
                      <a:xfrm rot="108600">
                        <a:off x="6807960" y="5510520"/>
                        <a:ext cx="671400" cy="646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45" h="407">
                            <a:moveTo>
                              <a:pt x="224" y="0"/>
                            </a:moveTo>
                            <a:lnTo>
                              <a:pt x="296" y="10"/>
                            </a:lnTo>
                            <a:lnTo>
                              <a:pt x="237" y="91"/>
                            </a:lnTo>
                            <a:lnTo>
                              <a:pt x="183" y="158"/>
                            </a:lnTo>
                            <a:lnTo>
                              <a:pt x="148" y="207"/>
                            </a:lnTo>
                            <a:lnTo>
                              <a:pt x="138" y="228"/>
                            </a:lnTo>
                            <a:lnTo>
                              <a:pt x="140" y="245"/>
                            </a:lnTo>
                            <a:lnTo>
                              <a:pt x="153" y="257"/>
                            </a:lnTo>
                            <a:lnTo>
                              <a:pt x="179" y="269"/>
                            </a:lnTo>
                            <a:lnTo>
                              <a:pt x="216" y="282"/>
                            </a:lnTo>
                            <a:lnTo>
                              <a:pt x="254" y="290"/>
                            </a:lnTo>
                            <a:lnTo>
                              <a:pt x="306" y="300"/>
                            </a:lnTo>
                            <a:lnTo>
                              <a:pt x="356" y="305"/>
                            </a:lnTo>
                            <a:lnTo>
                              <a:pt x="417" y="308"/>
                            </a:lnTo>
                            <a:lnTo>
                              <a:pt x="473" y="305"/>
                            </a:lnTo>
                            <a:lnTo>
                              <a:pt x="529" y="300"/>
                            </a:lnTo>
                            <a:lnTo>
                              <a:pt x="590" y="292"/>
                            </a:lnTo>
                            <a:lnTo>
                              <a:pt x="611" y="295"/>
                            </a:lnTo>
                            <a:lnTo>
                              <a:pt x="619" y="298"/>
                            </a:lnTo>
                            <a:lnTo>
                              <a:pt x="623" y="305"/>
                            </a:lnTo>
                            <a:lnTo>
                              <a:pt x="614" y="319"/>
                            </a:lnTo>
                            <a:lnTo>
                              <a:pt x="606" y="327"/>
                            </a:lnTo>
                            <a:lnTo>
                              <a:pt x="618" y="330"/>
                            </a:lnTo>
                            <a:lnTo>
                              <a:pt x="702" y="321"/>
                            </a:lnTo>
                            <a:lnTo>
                              <a:pt x="722" y="324"/>
                            </a:lnTo>
                            <a:lnTo>
                              <a:pt x="733" y="329"/>
                            </a:lnTo>
                            <a:lnTo>
                              <a:pt x="738" y="337"/>
                            </a:lnTo>
                            <a:lnTo>
                              <a:pt x="730" y="344"/>
                            </a:lnTo>
                            <a:lnTo>
                              <a:pt x="715" y="350"/>
                            </a:lnTo>
                            <a:lnTo>
                              <a:pt x="697" y="357"/>
                            </a:lnTo>
                            <a:lnTo>
                              <a:pt x="710" y="362"/>
                            </a:lnTo>
                            <a:lnTo>
                              <a:pt x="746" y="360"/>
                            </a:lnTo>
                            <a:lnTo>
                              <a:pt x="776" y="362"/>
                            </a:lnTo>
                            <a:lnTo>
                              <a:pt x="806" y="368"/>
                            </a:lnTo>
                            <a:lnTo>
                              <a:pt x="839" y="377"/>
                            </a:lnTo>
                            <a:lnTo>
                              <a:pt x="845" y="384"/>
                            </a:lnTo>
                            <a:lnTo>
                              <a:pt x="843" y="393"/>
                            </a:lnTo>
                            <a:lnTo>
                              <a:pt x="829" y="399"/>
                            </a:lnTo>
                            <a:lnTo>
                              <a:pt x="799" y="402"/>
                            </a:lnTo>
                            <a:lnTo>
                              <a:pt x="750" y="404"/>
                            </a:lnTo>
                            <a:lnTo>
                              <a:pt x="695" y="402"/>
                            </a:lnTo>
                            <a:lnTo>
                              <a:pt x="634" y="405"/>
                            </a:lnTo>
                            <a:lnTo>
                              <a:pt x="593" y="407"/>
                            </a:lnTo>
                            <a:lnTo>
                              <a:pt x="516" y="404"/>
                            </a:lnTo>
                            <a:lnTo>
                              <a:pt x="476" y="399"/>
                            </a:lnTo>
                            <a:lnTo>
                              <a:pt x="418" y="393"/>
                            </a:lnTo>
                            <a:lnTo>
                              <a:pt x="323" y="391"/>
                            </a:lnTo>
                            <a:lnTo>
                              <a:pt x="0" y="333"/>
                            </a:lnTo>
                            <a:lnTo>
                              <a:pt x="39" y="194"/>
                            </a:lnTo>
                            <a:lnTo>
                              <a:pt x="224" y="0"/>
                            </a:lnTo>
                            <a:close/>
                          </a:path>
                        </a:pathLst>
                      </a:custGeom>
                      <a:solidFill>
                        <a:srgbClr val="ff9f00"/>
                      </a:solidFill>
                      <a:ln w="111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3" name=""/>
                      <p:cNvSpPr/>
                      <p:nvPr/>
                    </p:nvSpPr>
                    <p:spPr>
                      <a:xfrm rot="108600">
                        <a:off x="7079760" y="5994360"/>
                        <a:ext cx="106560" cy="34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5" h="22">
                            <a:moveTo>
                              <a:pt x="0" y="0"/>
                            </a:moveTo>
                            <a:lnTo>
                              <a:pt x="69" y="20"/>
                            </a:lnTo>
                            <a:lnTo>
                              <a:pt x="99" y="20"/>
                            </a:lnTo>
                            <a:lnTo>
                              <a:pt x="135" y="22"/>
                            </a:lnTo>
                          </a:path>
                        </a:pathLst>
                      </a:custGeom>
                      <a:noFill/>
                      <a:ln w="111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1880" bIns="-11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34" name=""/>
                    <p:cNvGrpSpPr/>
                    <p:nvPr/>
                  </p:nvGrpSpPr>
                  <p:grpSpPr>
                    <a:xfrm>
                      <a:off x="6643800" y="5475240"/>
                      <a:ext cx="705240" cy="988920"/>
                      <a:chOff x="6643800" y="5475240"/>
                      <a:chExt cx="705240" cy="988920"/>
                    </a:xfrm>
                  </p:grpSpPr>
                  <p:sp>
                    <p:nvSpPr>
                      <p:cNvPr id="235" name=""/>
                      <p:cNvSpPr/>
                      <p:nvPr/>
                    </p:nvSpPr>
                    <p:spPr>
                      <a:xfrm rot="108600">
                        <a:off x="6658920" y="5485320"/>
                        <a:ext cx="675000" cy="968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50" h="610">
                            <a:moveTo>
                              <a:pt x="306" y="0"/>
                            </a:moveTo>
                            <a:lnTo>
                              <a:pt x="443" y="16"/>
                            </a:lnTo>
                            <a:lnTo>
                              <a:pt x="437" y="35"/>
                            </a:lnTo>
                            <a:lnTo>
                              <a:pt x="422" y="57"/>
                            </a:lnTo>
                            <a:lnTo>
                              <a:pt x="407" y="76"/>
                            </a:lnTo>
                            <a:lnTo>
                              <a:pt x="386" y="98"/>
                            </a:lnTo>
                            <a:lnTo>
                              <a:pt x="362" y="118"/>
                            </a:lnTo>
                            <a:lnTo>
                              <a:pt x="339" y="136"/>
                            </a:lnTo>
                            <a:lnTo>
                              <a:pt x="325" y="161"/>
                            </a:lnTo>
                            <a:lnTo>
                              <a:pt x="298" y="196"/>
                            </a:lnTo>
                            <a:lnTo>
                              <a:pt x="272" y="228"/>
                            </a:lnTo>
                            <a:lnTo>
                              <a:pt x="262" y="239"/>
                            </a:lnTo>
                            <a:lnTo>
                              <a:pt x="255" y="252"/>
                            </a:lnTo>
                            <a:lnTo>
                              <a:pt x="250" y="268"/>
                            </a:lnTo>
                            <a:lnTo>
                              <a:pt x="245" y="286"/>
                            </a:lnTo>
                            <a:lnTo>
                              <a:pt x="241" y="304"/>
                            </a:lnTo>
                            <a:lnTo>
                              <a:pt x="242" y="320"/>
                            </a:lnTo>
                            <a:lnTo>
                              <a:pt x="250" y="333"/>
                            </a:lnTo>
                            <a:lnTo>
                              <a:pt x="267" y="344"/>
                            </a:lnTo>
                            <a:lnTo>
                              <a:pt x="303" y="349"/>
                            </a:lnTo>
                            <a:lnTo>
                              <a:pt x="339" y="357"/>
                            </a:lnTo>
                            <a:lnTo>
                              <a:pt x="377" y="366"/>
                            </a:lnTo>
                            <a:lnTo>
                              <a:pt x="422" y="377"/>
                            </a:lnTo>
                            <a:lnTo>
                              <a:pt x="448" y="379"/>
                            </a:lnTo>
                            <a:lnTo>
                              <a:pt x="476" y="383"/>
                            </a:lnTo>
                            <a:lnTo>
                              <a:pt x="503" y="389"/>
                            </a:lnTo>
                            <a:lnTo>
                              <a:pt x="529" y="396"/>
                            </a:lnTo>
                            <a:lnTo>
                              <a:pt x="550" y="405"/>
                            </a:lnTo>
                            <a:lnTo>
                              <a:pt x="572" y="416"/>
                            </a:lnTo>
                            <a:lnTo>
                              <a:pt x="587" y="413"/>
                            </a:lnTo>
                            <a:lnTo>
                              <a:pt x="605" y="412"/>
                            </a:lnTo>
                            <a:lnTo>
                              <a:pt x="616" y="415"/>
                            </a:lnTo>
                            <a:lnTo>
                              <a:pt x="623" y="419"/>
                            </a:lnTo>
                            <a:lnTo>
                              <a:pt x="633" y="428"/>
                            </a:lnTo>
                            <a:lnTo>
                              <a:pt x="666" y="429"/>
                            </a:lnTo>
                            <a:lnTo>
                              <a:pt x="712" y="432"/>
                            </a:lnTo>
                            <a:lnTo>
                              <a:pt x="763" y="436"/>
                            </a:lnTo>
                            <a:lnTo>
                              <a:pt x="807" y="438"/>
                            </a:lnTo>
                            <a:lnTo>
                              <a:pt x="835" y="441"/>
                            </a:lnTo>
                            <a:lnTo>
                              <a:pt x="847" y="445"/>
                            </a:lnTo>
                            <a:lnTo>
                              <a:pt x="850" y="451"/>
                            </a:lnTo>
                            <a:lnTo>
                              <a:pt x="847" y="456"/>
                            </a:lnTo>
                            <a:lnTo>
                              <a:pt x="832" y="462"/>
                            </a:lnTo>
                            <a:lnTo>
                              <a:pt x="807" y="468"/>
                            </a:lnTo>
                            <a:lnTo>
                              <a:pt x="774" y="475"/>
                            </a:lnTo>
                            <a:lnTo>
                              <a:pt x="745" y="478"/>
                            </a:lnTo>
                            <a:lnTo>
                              <a:pt x="717" y="479"/>
                            </a:lnTo>
                            <a:lnTo>
                              <a:pt x="694" y="480"/>
                            </a:lnTo>
                            <a:lnTo>
                              <a:pt x="730" y="492"/>
                            </a:lnTo>
                            <a:lnTo>
                              <a:pt x="756" y="501"/>
                            </a:lnTo>
                            <a:lnTo>
                              <a:pt x="774" y="509"/>
                            </a:lnTo>
                            <a:lnTo>
                              <a:pt x="784" y="518"/>
                            </a:lnTo>
                            <a:lnTo>
                              <a:pt x="783" y="528"/>
                            </a:lnTo>
                            <a:lnTo>
                              <a:pt x="774" y="533"/>
                            </a:lnTo>
                            <a:lnTo>
                              <a:pt x="761" y="536"/>
                            </a:lnTo>
                            <a:lnTo>
                              <a:pt x="738" y="537"/>
                            </a:lnTo>
                            <a:lnTo>
                              <a:pt x="707" y="535"/>
                            </a:lnTo>
                            <a:lnTo>
                              <a:pt x="676" y="532"/>
                            </a:lnTo>
                            <a:lnTo>
                              <a:pt x="659" y="531"/>
                            </a:lnTo>
                            <a:lnTo>
                              <a:pt x="648" y="533"/>
                            </a:lnTo>
                            <a:lnTo>
                              <a:pt x="641" y="538"/>
                            </a:lnTo>
                            <a:lnTo>
                              <a:pt x="644" y="544"/>
                            </a:lnTo>
                            <a:lnTo>
                              <a:pt x="654" y="550"/>
                            </a:lnTo>
                            <a:lnTo>
                              <a:pt x="667" y="559"/>
                            </a:lnTo>
                            <a:lnTo>
                              <a:pt x="694" y="576"/>
                            </a:lnTo>
                            <a:lnTo>
                              <a:pt x="708" y="589"/>
                            </a:lnTo>
                            <a:lnTo>
                              <a:pt x="708" y="598"/>
                            </a:lnTo>
                            <a:lnTo>
                              <a:pt x="702" y="606"/>
                            </a:lnTo>
                            <a:lnTo>
                              <a:pt x="690" y="609"/>
                            </a:lnTo>
                            <a:lnTo>
                              <a:pt x="674" y="610"/>
                            </a:lnTo>
                            <a:lnTo>
                              <a:pt x="639" y="605"/>
                            </a:lnTo>
                            <a:lnTo>
                              <a:pt x="605" y="601"/>
                            </a:lnTo>
                            <a:lnTo>
                              <a:pt x="573" y="598"/>
                            </a:lnTo>
                            <a:lnTo>
                              <a:pt x="517" y="587"/>
                            </a:lnTo>
                            <a:lnTo>
                              <a:pt x="473" y="573"/>
                            </a:lnTo>
                            <a:lnTo>
                              <a:pt x="420" y="555"/>
                            </a:lnTo>
                            <a:lnTo>
                              <a:pt x="382" y="540"/>
                            </a:lnTo>
                            <a:lnTo>
                              <a:pt x="341" y="524"/>
                            </a:lnTo>
                            <a:lnTo>
                              <a:pt x="298" y="505"/>
                            </a:lnTo>
                            <a:lnTo>
                              <a:pt x="257" y="486"/>
                            </a:lnTo>
                            <a:lnTo>
                              <a:pt x="206" y="465"/>
                            </a:lnTo>
                            <a:lnTo>
                              <a:pt x="163" y="450"/>
                            </a:lnTo>
                            <a:lnTo>
                              <a:pt x="109" y="432"/>
                            </a:lnTo>
                            <a:lnTo>
                              <a:pt x="66" y="416"/>
                            </a:lnTo>
                            <a:lnTo>
                              <a:pt x="41" y="405"/>
                            </a:lnTo>
                            <a:lnTo>
                              <a:pt x="18" y="394"/>
                            </a:lnTo>
                            <a:lnTo>
                              <a:pt x="2" y="379"/>
                            </a:lnTo>
                            <a:lnTo>
                              <a:pt x="0" y="365"/>
                            </a:lnTo>
                            <a:lnTo>
                              <a:pt x="7" y="352"/>
                            </a:lnTo>
                            <a:lnTo>
                              <a:pt x="23" y="341"/>
                            </a:lnTo>
                            <a:lnTo>
                              <a:pt x="53" y="328"/>
                            </a:lnTo>
                            <a:lnTo>
                              <a:pt x="109" y="280"/>
                            </a:lnTo>
                            <a:lnTo>
                              <a:pt x="148" y="246"/>
                            </a:lnTo>
                            <a:lnTo>
                              <a:pt x="168" y="220"/>
                            </a:lnTo>
                            <a:lnTo>
                              <a:pt x="275" y="49"/>
                            </a:lnTo>
                            <a:lnTo>
                              <a:pt x="306" y="0"/>
                            </a:lnTo>
                            <a:close/>
                          </a:path>
                        </a:pathLst>
                      </a:custGeom>
                      <a:solidFill>
                        <a:srgbClr val="ffbf1f"/>
                      </a:solidFill>
                      <a:ln w="111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236" name=""/>
                      <p:cNvGrpSpPr/>
                      <p:nvPr/>
                    </p:nvGrpSpPr>
                    <p:grpSpPr>
                      <a:xfrm>
                        <a:off x="6727320" y="5953320"/>
                        <a:ext cx="436680" cy="282240"/>
                        <a:chOff x="6727320" y="5953320"/>
                        <a:chExt cx="436680" cy="282240"/>
                      </a:xfrm>
                    </p:grpSpPr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rot="108600">
                          <a:off x="7076160" y="6150240"/>
                          <a:ext cx="34920" cy="842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5" h="53">
                              <a:moveTo>
                                <a:pt x="37" y="0"/>
                              </a:moveTo>
                              <a:lnTo>
                                <a:pt x="42" y="7"/>
                              </a:lnTo>
                              <a:lnTo>
                                <a:pt x="45" y="15"/>
                              </a:lnTo>
                              <a:lnTo>
                                <a:pt x="43" y="24"/>
                              </a:lnTo>
                              <a:lnTo>
                                <a:pt x="37" y="36"/>
                              </a:lnTo>
                              <a:lnTo>
                                <a:pt x="30" y="42"/>
                              </a:lnTo>
                              <a:lnTo>
                                <a:pt x="17" y="48"/>
                              </a:lnTo>
                              <a:lnTo>
                                <a:pt x="0" y="53"/>
                              </a:lnTo>
                            </a:path>
                          </a:pathLst>
                        </a:custGeom>
                        <a:noFill/>
                        <a:ln w="111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37440" bIns="374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 rot="108600">
                          <a:off x="7133040" y="6169680"/>
                          <a:ext cx="29880" cy="651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6" h="41">
                              <a:moveTo>
                                <a:pt x="25" y="0"/>
                              </a:moveTo>
                              <a:lnTo>
                                <a:pt x="33" y="10"/>
                              </a:lnTo>
                              <a:lnTo>
                                <a:pt x="36" y="16"/>
                              </a:lnTo>
                              <a:lnTo>
                                <a:pt x="33" y="23"/>
                              </a:lnTo>
                              <a:lnTo>
                                <a:pt x="26" y="29"/>
                              </a:lnTo>
                              <a:lnTo>
                                <a:pt x="16" y="34"/>
                              </a:lnTo>
                              <a:lnTo>
                                <a:pt x="0" y="41"/>
                              </a:lnTo>
                            </a:path>
                          </a:pathLst>
                        </a:custGeom>
                        <a:noFill/>
                        <a:ln w="111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8360" bIns="18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 rot="108600">
                          <a:off x="6729480" y="5954040"/>
                          <a:ext cx="50760" cy="160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5" h="101">
                              <a:moveTo>
                                <a:pt x="65" y="0"/>
                              </a:moveTo>
                              <a:lnTo>
                                <a:pt x="45" y="11"/>
                              </a:lnTo>
                              <a:lnTo>
                                <a:pt x="25" y="26"/>
                              </a:lnTo>
                              <a:lnTo>
                                <a:pt x="13" y="40"/>
                              </a:lnTo>
                              <a:lnTo>
                                <a:pt x="5" y="50"/>
                              </a:lnTo>
                              <a:lnTo>
                                <a:pt x="0" y="62"/>
                              </a:lnTo>
                              <a:lnTo>
                                <a:pt x="0" y="73"/>
                              </a:lnTo>
                              <a:lnTo>
                                <a:pt x="5" y="85"/>
                              </a:lnTo>
                              <a:lnTo>
                                <a:pt x="18" y="101"/>
                              </a:lnTo>
                            </a:path>
                          </a:pathLst>
                        </a:custGeom>
                        <a:noFill/>
                        <a:ln w="111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6426720" y="3347280"/>
                    <a:ext cx="1401480" cy="2250720"/>
                    <a:chOff x="6426720" y="3347280"/>
                    <a:chExt cx="1401480" cy="2250720"/>
                  </a:xfrm>
                </p:grpSpPr>
                <p:grpSp>
                  <p:nvGrpSpPr>
                    <p:cNvPr id="241" name=""/>
                    <p:cNvGrpSpPr/>
                    <p:nvPr/>
                  </p:nvGrpSpPr>
                  <p:grpSpPr>
                    <a:xfrm>
                      <a:off x="6426720" y="3347280"/>
                      <a:ext cx="1401480" cy="2250720"/>
                      <a:chOff x="6426720" y="3347280"/>
                      <a:chExt cx="1401480" cy="2250720"/>
                    </a:xfrm>
                  </p:grpSpPr>
                  <p:grpSp>
                    <p:nvGrpSpPr>
                      <p:cNvPr id="242" name=""/>
                      <p:cNvGrpSpPr/>
                      <p:nvPr/>
                    </p:nvGrpSpPr>
                    <p:grpSpPr>
                      <a:xfrm>
                        <a:off x="6426720" y="3536280"/>
                        <a:ext cx="447120" cy="588600"/>
                        <a:chOff x="6426720" y="3536280"/>
                        <a:chExt cx="447120" cy="588600"/>
                      </a:xfrm>
                    </p:grpSpPr>
                    <p:grpSp>
                      <p:nvGrpSpPr>
                        <p:cNvPr id="243" name=""/>
                        <p:cNvGrpSpPr/>
                        <p:nvPr/>
                      </p:nvGrpSpPr>
                      <p:grpSpPr>
                        <a:xfrm>
                          <a:off x="6426720" y="3744360"/>
                          <a:ext cx="327960" cy="341640"/>
                          <a:chOff x="6426720" y="3744360"/>
                          <a:chExt cx="327960" cy="341640"/>
                        </a:xfrm>
                      </p:grpSpPr>
                      <p:sp>
                        <p:nvSpPr>
                          <p:cNvPr id="244" name=""/>
                          <p:cNvSpPr/>
                          <p:nvPr/>
                        </p:nvSpPr>
                        <p:spPr>
                          <a:xfrm rot="108600">
                            <a:off x="6431760" y="3749040"/>
                            <a:ext cx="317520" cy="3319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400" h="209">
                                <a:moveTo>
                                  <a:pt x="230" y="0"/>
                                </a:moveTo>
                                <a:lnTo>
                                  <a:pt x="151" y="8"/>
                                </a:lnTo>
                                <a:lnTo>
                                  <a:pt x="136" y="12"/>
                                </a:lnTo>
                                <a:lnTo>
                                  <a:pt x="153" y="42"/>
                                </a:lnTo>
                                <a:lnTo>
                                  <a:pt x="128" y="42"/>
                                </a:lnTo>
                                <a:lnTo>
                                  <a:pt x="118" y="45"/>
                                </a:lnTo>
                                <a:lnTo>
                                  <a:pt x="108" y="87"/>
                                </a:lnTo>
                                <a:lnTo>
                                  <a:pt x="92" y="84"/>
                                </a:lnTo>
                                <a:lnTo>
                                  <a:pt x="51" y="96"/>
                                </a:lnTo>
                                <a:lnTo>
                                  <a:pt x="8" y="117"/>
                                </a:lnTo>
                                <a:lnTo>
                                  <a:pt x="0" y="138"/>
                                </a:lnTo>
                                <a:lnTo>
                                  <a:pt x="9" y="158"/>
                                </a:lnTo>
                                <a:lnTo>
                                  <a:pt x="28" y="170"/>
                                </a:lnTo>
                                <a:lnTo>
                                  <a:pt x="42" y="177"/>
                                </a:lnTo>
                                <a:lnTo>
                                  <a:pt x="67" y="173"/>
                                </a:lnTo>
                                <a:lnTo>
                                  <a:pt x="97" y="171"/>
                                </a:lnTo>
                                <a:lnTo>
                                  <a:pt x="123" y="174"/>
                                </a:lnTo>
                                <a:lnTo>
                                  <a:pt x="151" y="179"/>
                                </a:lnTo>
                                <a:lnTo>
                                  <a:pt x="181" y="189"/>
                                </a:lnTo>
                                <a:lnTo>
                                  <a:pt x="215" y="209"/>
                                </a:lnTo>
                                <a:lnTo>
                                  <a:pt x="309" y="207"/>
                                </a:lnTo>
                                <a:lnTo>
                                  <a:pt x="400" y="189"/>
                                </a:lnTo>
                                <a:lnTo>
                                  <a:pt x="260" y="0"/>
                                </a:lnTo>
                                <a:lnTo>
                                  <a:pt x="230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111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45" name=""/>
                          <p:cNvSpPr/>
                          <p:nvPr/>
                        </p:nvSpPr>
                        <p:spPr>
                          <a:xfrm>
                            <a:off x="6521760" y="3885120"/>
                            <a:ext cx="119160" cy="48240"/>
                          </a:xfrm>
                          <a:prstGeom prst="line">
                            <a:avLst/>
                          </a:prstGeom>
                          <a:ln w="111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440" bIns="14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46" name=""/>
                          <p:cNvSpPr/>
                          <p:nvPr/>
                        </p:nvSpPr>
                        <p:spPr>
                          <a:xfrm>
                            <a:off x="6555600" y="3813120"/>
                            <a:ext cx="88200" cy="20160"/>
                          </a:xfrm>
                          <a:prstGeom prst="line">
                            <a:avLst/>
                          </a:prstGeom>
                          <a:ln w="111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6640" bIns="-266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rot="108600">
                          <a:off x="6609240" y="3865680"/>
                          <a:ext cx="122400" cy="2224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5" h="140">
                              <a:moveTo>
                                <a:pt x="0" y="12"/>
                              </a:moveTo>
                              <a:lnTo>
                                <a:pt x="81" y="0"/>
                              </a:lnTo>
                              <a:lnTo>
                                <a:pt x="155" y="125"/>
                              </a:lnTo>
                              <a:lnTo>
                                <a:pt x="65" y="140"/>
                              </a:lnTo>
                              <a:lnTo>
                                <a:pt x="0" y="12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dfdfff"/>
                        </a:solidFill>
                        <a:ln w="111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rot="108600">
                          <a:off x="6564600" y="3924720"/>
                          <a:ext cx="122400" cy="1983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" h="125">
                              <a:moveTo>
                                <a:pt x="97" y="0"/>
                              </a:moveTo>
                              <a:lnTo>
                                <a:pt x="49" y="1"/>
                              </a:lnTo>
                              <a:lnTo>
                                <a:pt x="19" y="25"/>
                              </a:lnTo>
                              <a:lnTo>
                                <a:pt x="14" y="37"/>
                              </a:lnTo>
                              <a:lnTo>
                                <a:pt x="19" y="49"/>
                              </a:lnTo>
                              <a:lnTo>
                                <a:pt x="44" y="67"/>
                              </a:lnTo>
                              <a:lnTo>
                                <a:pt x="14" y="85"/>
                              </a:lnTo>
                              <a:lnTo>
                                <a:pt x="0" y="99"/>
                              </a:lnTo>
                              <a:lnTo>
                                <a:pt x="8" y="113"/>
                              </a:lnTo>
                              <a:lnTo>
                                <a:pt x="23" y="125"/>
                              </a:lnTo>
                              <a:lnTo>
                                <a:pt x="67" y="123"/>
                              </a:lnTo>
                              <a:lnTo>
                                <a:pt x="117" y="114"/>
                              </a:lnTo>
                              <a:lnTo>
                                <a:pt x="136" y="99"/>
                              </a:lnTo>
                              <a:lnTo>
                                <a:pt x="153" y="25"/>
                              </a:lnTo>
                              <a:lnTo>
                                <a:pt x="117" y="16"/>
                              </a:lnTo>
                              <a:lnTo>
                                <a:pt x="97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ff"/>
                        </a:solidFill>
                        <a:ln w="111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rot="108600">
                          <a:off x="6586920" y="3540600"/>
                          <a:ext cx="280800" cy="3715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55" h="234">
                              <a:moveTo>
                                <a:pt x="147" y="224"/>
                              </a:moveTo>
                              <a:lnTo>
                                <a:pt x="103" y="233"/>
                              </a:lnTo>
                              <a:lnTo>
                                <a:pt x="88" y="234"/>
                              </a:lnTo>
                              <a:lnTo>
                                <a:pt x="75" y="231"/>
                              </a:lnTo>
                              <a:lnTo>
                                <a:pt x="65" y="222"/>
                              </a:lnTo>
                              <a:lnTo>
                                <a:pt x="20" y="179"/>
                              </a:lnTo>
                              <a:lnTo>
                                <a:pt x="0" y="143"/>
                              </a:lnTo>
                              <a:lnTo>
                                <a:pt x="9" y="101"/>
                              </a:lnTo>
                              <a:lnTo>
                                <a:pt x="23" y="62"/>
                              </a:lnTo>
                              <a:lnTo>
                                <a:pt x="35" y="62"/>
                              </a:lnTo>
                              <a:lnTo>
                                <a:pt x="65" y="68"/>
                              </a:lnTo>
                              <a:lnTo>
                                <a:pt x="112" y="83"/>
                              </a:lnTo>
                              <a:lnTo>
                                <a:pt x="117" y="54"/>
                              </a:lnTo>
                              <a:lnTo>
                                <a:pt x="127" y="39"/>
                              </a:lnTo>
                              <a:lnTo>
                                <a:pt x="154" y="32"/>
                              </a:lnTo>
                              <a:lnTo>
                                <a:pt x="188" y="29"/>
                              </a:lnTo>
                              <a:lnTo>
                                <a:pt x="231" y="29"/>
                              </a:lnTo>
                              <a:lnTo>
                                <a:pt x="236" y="18"/>
                              </a:lnTo>
                              <a:lnTo>
                                <a:pt x="241" y="9"/>
                              </a:lnTo>
                              <a:lnTo>
                                <a:pt x="256" y="1"/>
                              </a:lnTo>
                              <a:lnTo>
                                <a:pt x="277" y="0"/>
                              </a:lnTo>
                              <a:lnTo>
                                <a:pt x="315" y="3"/>
                              </a:lnTo>
                              <a:lnTo>
                                <a:pt x="290" y="19"/>
                              </a:lnTo>
                              <a:lnTo>
                                <a:pt x="315" y="45"/>
                              </a:lnTo>
                              <a:lnTo>
                                <a:pt x="355" y="74"/>
                              </a:lnTo>
                              <a:lnTo>
                                <a:pt x="147" y="22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ff"/>
                        </a:solidFill>
                        <a:ln w="111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50" name=""/>
                      <p:cNvGrpSpPr/>
                      <p:nvPr/>
                    </p:nvGrpSpPr>
                    <p:grpSpPr>
                      <a:xfrm>
                        <a:off x="6917760" y="3347280"/>
                        <a:ext cx="910440" cy="929880"/>
                        <a:chOff x="6917760" y="3347280"/>
                        <a:chExt cx="910440" cy="929880"/>
                      </a:xfrm>
                    </p:grpSpPr>
                    <p:grpSp>
                      <p:nvGrpSpPr>
                        <p:cNvPr id="251" name=""/>
                        <p:cNvGrpSpPr/>
                        <p:nvPr/>
                      </p:nvGrpSpPr>
                      <p:grpSpPr>
                        <a:xfrm>
                          <a:off x="6917760" y="3347280"/>
                          <a:ext cx="574560" cy="929880"/>
                          <a:chOff x="6917760" y="3347280"/>
                          <a:chExt cx="574560" cy="929880"/>
                        </a:xfrm>
                      </p:grpSpPr>
                      <p:sp>
                        <p:nvSpPr>
                          <p:cNvPr id="252" name=""/>
                          <p:cNvSpPr/>
                          <p:nvPr/>
                        </p:nvSpPr>
                        <p:spPr>
                          <a:xfrm rot="108600">
                            <a:off x="6931800" y="3355560"/>
                            <a:ext cx="546120" cy="9129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688" h="575">
                                <a:moveTo>
                                  <a:pt x="28" y="192"/>
                                </a:moveTo>
                                <a:lnTo>
                                  <a:pt x="66" y="148"/>
                                </a:lnTo>
                                <a:lnTo>
                                  <a:pt x="117" y="103"/>
                                </a:lnTo>
                                <a:lnTo>
                                  <a:pt x="166" y="60"/>
                                </a:lnTo>
                                <a:lnTo>
                                  <a:pt x="275" y="24"/>
                                </a:lnTo>
                                <a:lnTo>
                                  <a:pt x="262" y="64"/>
                                </a:lnTo>
                                <a:lnTo>
                                  <a:pt x="370" y="0"/>
                                </a:lnTo>
                                <a:lnTo>
                                  <a:pt x="356" y="21"/>
                                </a:lnTo>
                                <a:lnTo>
                                  <a:pt x="346" y="48"/>
                                </a:lnTo>
                                <a:lnTo>
                                  <a:pt x="433" y="0"/>
                                </a:lnTo>
                                <a:lnTo>
                                  <a:pt x="359" y="66"/>
                                </a:lnTo>
                                <a:lnTo>
                                  <a:pt x="349" y="91"/>
                                </a:lnTo>
                                <a:lnTo>
                                  <a:pt x="390" y="60"/>
                                </a:lnTo>
                                <a:lnTo>
                                  <a:pt x="469" y="39"/>
                                </a:lnTo>
                                <a:lnTo>
                                  <a:pt x="547" y="37"/>
                                </a:lnTo>
                                <a:lnTo>
                                  <a:pt x="468" y="66"/>
                                </a:lnTo>
                                <a:lnTo>
                                  <a:pt x="438" y="102"/>
                                </a:lnTo>
                                <a:lnTo>
                                  <a:pt x="443" y="122"/>
                                </a:lnTo>
                                <a:lnTo>
                                  <a:pt x="468" y="123"/>
                                </a:lnTo>
                                <a:lnTo>
                                  <a:pt x="507" y="135"/>
                                </a:lnTo>
                                <a:lnTo>
                                  <a:pt x="563" y="161"/>
                                </a:lnTo>
                                <a:lnTo>
                                  <a:pt x="552" y="173"/>
                                </a:lnTo>
                                <a:lnTo>
                                  <a:pt x="548" y="183"/>
                                </a:lnTo>
                                <a:lnTo>
                                  <a:pt x="557" y="198"/>
                                </a:lnTo>
                                <a:lnTo>
                                  <a:pt x="571" y="210"/>
                                </a:lnTo>
                                <a:lnTo>
                                  <a:pt x="596" y="222"/>
                                </a:lnTo>
                                <a:lnTo>
                                  <a:pt x="629" y="231"/>
                                </a:lnTo>
                                <a:lnTo>
                                  <a:pt x="660" y="237"/>
                                </a:lnTo>
                                <a:lnTo>
                                  <a:pt x="688" y="240"/>
                                </a:lnTo>
                                <a:lnTo>
                                  <a:pt x="650" y="267"/>
                                </a:lnTo>
                                <a:lnTo>
                                  <a:pt x="624" y="294"/>
                                </a:lnTo>
                                <a:lnTo>
                                  <a:pt x="596" y="324"/>
                                </a:lnTo>
                                <a:lnTo>
                                  <a:pt x="571" y="355"/>
                                </a:lnTo>
                                <a:lnTo>
                                  <a:pt x="548" y="388"/>
                                </a:lnTo>
                                <a:lnTo>
                                  <a:pt x="504" y="404"/>
                                </a:lnTo>
                                <a:lnTo>
                                  <a:pt x="436" y="407"/>
                                </a:lnTo>
                                <a:lnTo>
                                  <a:pt x="390" y="398"/>
                                </a:lnTo>
                                <a:lnTo>
                                  <a:pt x="361" y="392"/>
                                </a:lnTo>
                                <a:lnTo>
                                  <a:pt x="332" y="402"/>
                                </a:lnTo>
                                <a:lnTo>
                                  <a:pt x="341" y="436"/>
                                </a:lnTo>
                                <a:lnTo>
                                  <a:pt x="369" y="474"/>
                                </a:lnTo>
                                <a:lnTo>
                                  <a:pt x="385" y="499"/>
                                </a:lnTo>
                                <a:lnTo>
                                  <a:pt x="385" y="520"/>
                                </a:lnTo>
                                <a:lnTo>
                                  <a:pt x="356" y="575"/>
                                </a:lnTo>
                                <a:lnTo>
                                  <a:pt x="19" y="553"/>
                                </a:lnTo>
                                <a:lnTo>
                                  <a:pt x="5" y="383"/>
                                </a:lnTo>
                                <a:lnTo>
                                  <a:pt x="0" y="284"/>
                                </a:lnTo>
                                <a:lnTo>
                                  <a:pt x="10" y="228"/>
                                </a:lnTo>
                                <a:lnTo>
                                  <a:pt x="28" y="192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111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53" name=""/>
                          <p:cNvSpPr/>
                          <p:nvPr/>
                        </p:nvSpPr>
                        <p:spPr>
                          <a:xfrm rot="108600">
                            <a:off x="7288920" y="3606840"/>
                            <a:ext cx="87120" cy="270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09" h="17">
                                <a:moveTo>
                                  <a:pt x="109" y="17"/>
                                </a:moveTo>
                                <a:lnTo>
                                  <a:pt x="89" y="11"/>
                                </a:lnTo>
                                <a:lnTo>
                                  <a:pt x="64" y="5"/>
                                </a:lnTo>
                                <a:lnTo>
                                  <a:pt x="44" y="0"/>
                                </a:lnTo>
                                <a:lnTo>
                                  <a:pt x="21" y="3"/>
                                </a:lnTo>
                                <a:lnTo>
                                  <a:pt x="0" y="12"/>
                                </a:lnTo>
                              </a:path>
                            </a:pathLst>
                          </a:custGeom>
                          <a:noFill/>
                          <a:ln w="111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9800" bIns="-19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54" name=""/>
                        <p:cNvGrpSpPr/>
                        <p:nvPr/>
                      </p:nvGrpSpPr>
                      <p:grpSpPr>
                        <a:xfrm>
                          <a:off x="7160400" y="3731040"/>
                          <a:ext cx="667800" cy="466560"/>
                          <a:chOff x="7160400" y="3731040"/>
                          <a:chExt cx="667800" cy="466560"/>
                        </a:xfrm>
                      </p:grpSpPr>
                      <p:sp>
                        <p:nvSpPr>
                          <p:cNvPr id="255" name=""/>
                          <p:cNvSpPr/>
                          <p:nvPr/>
                        </p:nvSpPr>
                        <p:spPr>
                          <a:xfrm rot="108600">
                            <a:off x="7166880" y="3741120"/>
                            <a:ext cx="654120" cy="4460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826" h="281">
                                <a:moveTo>
                                  <a:pt x="0" y="164"/>
                                </a:moveTo>
                                <a:lnTo>
                                  <a:pt x="81" y="132"/>
                                </a:lnTo>
                                <a:lnTo>
                                  <a:pt x="190" y="153"/>
                                </a:lnTo>
                                <a:lnTo>
                                  <a:pt x="254" y="128"/>
                                </a:lnTo>
                                <a:lnTo>
                                  <a:pt x="302" y="77"/>
                                </a:lnTo>
                                <a:lnTo>
                                  <a:pt x="354" y="30"/>
                                </a:lnTo>
                                <a:lnTo>
                                  <a:pt x="379" y="0"/>
                                </a:lnTo>
                                <a:lnTo>
                                  <a:pt x="434" y="3"/>
                                </a:lnTo>
                                <a:lnTo>
                                  <a:pt x="470" y="11"/>
                                </a:lnTo>
                                <a:lnTo>
                                  <a:pt x="499" y="33"/>
                                </a:lnTo>
                                <a:lnTo>
                                  <a:pt x="537" y="63"/>
                                </a:lnTo>
                                <a:lnTo>
                                  <a:pt x="577" y="90"/>
                                </a:lnTo>
                                <a:lnTo>
                                  <a:pt x="633" y="117"/>
                                </a:lnTo>
                                <a:lnTo>
                                  <a:pt x="691" y="141"/>
                                </a:lnTo>
                                <a:lnTo>
                                  <a:pt x="735" y="159"/>
                                </a:lnTo>
                                <a:lnTo>
                                  <a:pt x="766" y="168"/>
                                </a:lnTo>
                                <a:lnTo>
                                  <a:pt x="794" y="172"/>
                                </a:lnTo>
                                <a:lnTo>
                                  <a:pt x="826" y="168"/>
                                </a:lnTo>
                                <a:lnTo>
                                  <a:pt x="824" y="191"/>
                                </a:lnTo>
                                <a:lnTo>
                                  <a:pt x="814" y="215"/>
                                </a:lnTo>
                                <a:lnTo>
                                  <a:pt x="784" y="243"/>
                                </a:lnTo>
                                <a:lnTo>
                                  <a:pt x="755" y="265"/>
                                </a:lnTo>
                                <a:lnTo>
                                  <a:pt x="725" y="275"/>
                                </a:lnTo>
                                <a:lnTo>
                                  <a:pt x="691" y="266"/>
                                </a:lnTo>
                                <a:lnTo>
                                  <a:pt x="653" y="253"/>
                                </a:lnTo>
                                <a:lnTo>
                                  <a:pt x="611" y="242"/>
                                </a:lnTo>
                                <a:lnTo>
                                  <a:pt x="564" y="233"/>
                                </a:lnTo>
                                <a:lnTo>
                                  <a:pt x="527" y="248"/>
                                </a:lnTo>
                                <a:lnTo>
                                  <a:pt x="478" y="266"/>
                                </a:lnTo>
                                <a:lnTo>
                                  <a:pt x="443" y="250"/>
                                </a:lnTo>
                                <a:lnTo>
                                  <a:pt x="386" y="228"/>
                                </a:lnTo>
                                <a:lnTo>
                                  <a:pt x="349" y="240"/>
                                </a:lnTo>
                                <a:lnTo>
                                  <a:pt x="298" y="254"/>
                                </a:lnTo>
                                <a:lnTo>
                                  <a:pt x="233" y="263"/>
                                </a:lnTo>
                                <a:lnTo>
                                  <a:pt x="145" y="275"/>
                                </a:lnTo>
                                <a:lnTo>
                                  <a:pt x="79" y="281"/>
                                </a:lnTo>
                                <a:lnTo>
                                  <a:pt x="46" y="253"/>
                                </a:lnTo>
                                <a:lnTo>
                                  <a:pt x="35" y="236"/>
                                </a:lnTo>
                                <a:lnTo>
                                  <a:pt x="12" y="197"/>
                                </a:lnTo>
                                <a:lnTo>
                                  <a:pt x="0" y="164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5f00"/>
                          </a:solidFill>
                          <a:ln w="111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grpSp>
                        <p:nvGrpSpPr>
                          <p:cNvPr id="256" name=""/>
                          <p:cNvGrpSpPr/>
                          <p:nvPr/>
                        </p:nvGrpSpPr>
                        <p:grpSpPr>
                          <a:xfrm>
                            <a:off x="7245000" y="3902400"/>
                            <a:ext cx="534600" cy="217440"/>
                            <a:chOff x="7245000" y="3902400"/>
                            <a:chExt cx="534600" cy="217440"/>
                          </a:xfrm>
                        </p:grpSpPr>
                        <p:sp>
                          <p:nvSpPr>
                            <p:cNvPr id="257" name=""/>
                            <p:cNvSpPr/>
                            <p:nvPr/>
                          </p:nvSpPr>
                          <p:spPr>
                            <a:xfrm rot="108600">
                              <a:off x="7520400" y="3903120"/>
                              <a:ext cx="54000" cy="475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8" h="30">
                                  <a:moveTo>
                                    <a:pt x="13" y="0"/>
                                  </a:moveTo>
                                  <a:lnTo>
                                    <a:pt x="68" y="19"/>
                                  </a:lnTo>
                                  <a:lnTo>
                                    <a:pt x="0" y="30"/>
                                  </a:lnTo>
                                </a:path>
                              </a:pathLst>
                            </a:custGeom>
                            <a:noFill/>
                            <a:ln w="111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720" bIns="7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58" name=""/>
                            <p:cNvSpPr/>
                            <p:nvPr/>
                          </p:nvSpPr>
                          <p:spPr>
                            <a:xfrm flipH="1">
                              <a:off x="7727760" y="4024800"/>
                              <a:ext cx="51840" cy="38160"/>
                            </a:xfrm>
                            <a:prstGeom prst="line">
                              <a:avLst/>
                            </a:prstGeom>
                            <a:ln w="111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8640" bIns="-864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59" name=""/>
                            <p:cNvSpPr/>
                            <p:nvPr/>
                          </p:nvSpPr>
                          <p:spPr>
                            <a:xfrm rot="108600">
                              <a:off x="7245720" y="4046760"/>
                              <a:ext cx="66960" cy="7164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82" h="45">
                                  <a:moveTo>
                                    <a:pt x="82" y="0"/>
                                  </a:moveTo>
                                  <a:lnTo>
                                    <a:pt x="44" y="10"/>
                                  </a:lnTo>
                                  <a:lnTo>
                                    <a:pt x="24" y="21"/>
                                  </a:lnTo>
                                  <a:lnTo>
                                    <a:pt x="13" y="31"/>
                                  </a:lnTo>
                                  <a:lnTo>
                                    <a:pt x="0" y="45"/>
                                  </a:lnTo>
                                </a:path>
                              </a:pathLst>
                            </a:custGeom>
                            <a:noFill/>
                            <a:ln w="111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24840" bIns="2484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60" name=""/>
                            <p:cNvSpPr/>
                            <p:nvPr/>
                          </p:nvSpPr>
                          <p:spPr>
                            <a:xfrm rot="108600">
                              <a:off x="7266600" y="4051800"/>
                              <a:ext cx="342720" cy="540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434" h="34">
                                  <a:moveTo>
                                    <a:pt x="0" y="25"/>
                                  </a:moveTo>
                                  <a:lnTo>
                                    <a:pt x="55" y="16"/>
                                  </a:lnTo>
                                  <a:lnTo>
                                    <a:pt x="119" y="9"/>
                                  </a:lnTo>
                                  <a:lnTo>
                                    <a:pt x="173" y="2"/>
                                  </a:lnTo>
                                  <a:lnTo>
                                    <a:pt x="221" y="0"/>
                                  </a:lnTo>
                                  <a:lnTo>
                                    <a:pt x="271" y="3"/>
                                  </a:lnTo>
                                  <a:lnTo>
                                    <a:pt x="320" y="9"/>
                                  </a:lnTo>
                                  <a:lnTo>
                                    <a:pt x="373" y="18"/>
                                  </a:lnTo>
                                  <a:lnTo>
                                    <a:pt x="434" y="34"/>
                                  </a:lnTo>
                                </a:path>
                              </a:pathLst>
                            </a:custGeom>
                            <a:noFill/>
                            <a:ln w="111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7200" bIns="72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  <p:grpSp>
                    <p:nvGrpSpPr>
                      <p:cNvPr id="261" name=""/>
                      <p:cNvGrpSpPr/>
                      <p:nvPr/>
                    </p:nvGrpSpPr>
                    <p:grpSpPr>
                      <a:xfrm>
                        <a:off x="6585480" y="4721760"/>
                        <a:ext cx="750600" cy="876240"/>
                        <a:chOff x="6585480" y="4721760"/>
                        <a:chExt cx="750600" cy="876240"/>
                      </a:xfrm>
                    </p:grpSpPr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rot="108600">
                          <a:off x="6999120" y="5262840"/>
                          <a:ext cx="214200" cy="3063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70" h="193">
                              <a:moveTo>
                                <a:pt x="181" y="0"/>
                              </a:moveTo>
                              <a:lnTo>
                                <a:pt x="270" y="0"/>
                              </a:lnTo>
                              <a:lnTo>
                                <a:pt x="262" y="28"/>
                              </a:lnTo>
                              <a:lnTo>
                                <a:pt x="252" y="58"/>
                              </a:lnTo>
                              <a:lnTo>
                                <a:pt x="232" y="85"/>
                              </a:lnTo>
                              <a:lnTo>
                                <a:pt x="206" y="108"/>
                              </a:lnTo>
                              <a:lnTo>
                                <a:pt x="168" y="132"/>
                              </a:lnTo>
                              <a:lnTo>
                                <a:pt x="132" y="151"/>
                              </a:lnTo>
                              <a:lnTo>
                                <a:pt x="92" y="177"/>
                              </a:lnTo>
                              <a:lnTo>
                                <a:pt x="72" y="189"/>
                              </a:lnTo>
                              <a:lnTo>
                                <a:pt x="58" y="192"/>
                              </a:lnTo>
                              <a:lnTo>
                                <a:pt x="35" y="193"/>
                              </a:lnTo>
                              <a:lnTo>
                                <a:pt x="0" y="177"/>
                              </a:lnTo>
                              <a:lnTo>
                                <a:pt x="181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dfdfff"/>
                        </a:solidFill>
                        <a:ln w="111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63" name=""/>
                        <p:cNvSpPr/>
                        <p:nvPr/>
                      </p:nvSpPr>
                      <p:spPr>
                        <a:xfrm rot="108600">
                          <a:off x="6598800" y="4732920"/>
                          <a:ext cx="723960" cy="853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13" h="538">
                              <a:moveTo>
                                <a:pt x="349" y="397"/>
                              </a:moveTo>
                              <a:lnTo>
                                <a:pt x="344" y="428"/>
                              </a:lnTo>
                              <a:lnTo>
                                <a:pt x="348" y="461"/>
                              </a:lnTo>
                              <a:lnTo>
                                <a:pt x="359" y="494"/>
                              </a:lnTo>
                              <a:lnTo>
                                <a:pt x="369" y="512"/>
                              </a:lnTo>
                              <a:lnTo>
                                <a:pt x="387" y="525"/>
                              </a:lnTo>
                              <a:lnTo>
                                <a:pt x="410" y="524"/>
                              </a:lnTo>
                              <a:lnTo>
                                <a:pt x="438" y="520"/>
                              </a:lnTo>
                              <a:lnTo>
                                <a:pt x="453" y="530"/>
                              </a:lnTo>
                              <a:lnTo>
                                <a:pt x="471" y="536"/>
                              </a:lnTo>
                              <a:lnTo>
                                <a:pt x="493" y="538"/>
                              </a:lnTo>
                              <a:lnTo>
                                <a:pt x="514" y="535"/>
                              </a:lnTo>
                              <a:lnTo>
                                <a:pt x="537" y="524"/>
                              </a:lnTo>
                              <a:lnTo>
                                <a:pt x="558" y="509"/>
                              </a:lnTo>
                              <a:lnTo>
                                <a:pt x="585" y="491"/>
                              </a:lnTo>
                              <a:lnTo>
                                <a:pt x="613" y="472"/>
                              </a:lnTo>
                              <a:lnTo>
                                <a:pt x="639" y="453"/>
                              </a:lnTo>
                              <a:lnTo>
                                <a:pt x="670" y="431"/>
                              </a:lnTo>
                              <a:lnTo>
                                <a:pt x="712" y="394"/>
                              </a:lnTo>
                              <a:lnTo>
                                <a:pt x="750" y="365"/>
                              </a:lnTo>
                              <a:lnTo>
                                <a:pt x="796" y="340"/>
                              </a:lnTo>
                              <a:lnTo>
                                <a:pt x="829" y="325"/>
                              </a:lnTo>
                              <a:lnTo>
                                <a:pt x="860" y="303"/>
                              </a:lnTo>
                              <a:lnTo>
                                <a:pt x="890" y="275"/>
                              </a:lnTo>
                              <a:lnTo>
                                <a:pt x="904" y="247"/>
                              </a:lnTo>
                              <a:lnTo>
                                <a:pt x="913" y="213"/>
                              </a:lnTo>
                              <a:lnTo>
                                <a:pt x="895" y="168"/>
                              </a:lnTo>
                              <a:lnTo>
                                <a:pt x="209" y="50"/>
                              </a:lnTo>
                              <a:lnTo>
                                <a:pt x="173" y="47"/>
                              </a:lnTo>
                              <a:lnTo>
                                <a:pt x="130" y="24"/>
                              </a:lnTo>
                              <a:lnTo>
                                <a:pt x="76" y="0"/>
                              </a:lnTo>
                              <a:lnTo>
                                <a:pt x="0" y="33"/>
                              </a:lnTo>
                              <a:lnTo>
                                <a:pt x="21" y="53"/>
                              </a:lnTo>
                              <a:lnTo>
                                <a:pt x="59" y="75"/>
                              </a:lnTo>
                              <a:lnTo>
                                <a:pt x="26" y="87"/>
                              </a:lnTo>
                              <a:lnTo>
                                <a:pt x="2" y="104"/>
                              </a:lnTo>
                              <a:lnTo>
                                <a:pt x="36" y="116"/>
                              </a:lnTo>
                              <a:lnTo>
                                <a:pt x="59" y="130"/>
                              </a:lnTo>
                              <a:lnTo>
                                <a:pt x="74" y="152"/>
                              </a:lnTo>
                              <a:lnTo>
                                <a:pt x="79" y="170"/>
                              </a:lnTo>
                              <a:lnTo>
                                <a:pt x="21" y="164"/>
                              </a:lnTo>
                              <a:lnTo>
                                <a:pt x="16" y="183"/>
                              </a:lnTo>
                              <a:lnTo>
                                <a:pt x="26" y="209"/>
                              </a:lnTo>
                              <a:lnTo>
                                <a:pt x="56" y="235"/>
                              </a:lnTo>
                              <a:lnTo>
                                <a:pt x="87" y="253"/>
                              </a:lnTo>
                              <a:lnTo>
                                <a:pt x="133" y="267"/>
                              </a:lnTo>
                              <a:lnTo>
                                <a:pt x="178" y="274"/>
                              </a:lnTo>
                              <a:lnTo>
                                <a:pt x="184" y="301"/>
                              </a:lnTo>
                              <a:lnTo>
                                <a:pt x="212" y="325"/>
                              </a:lnTo>
                              <a:lnTo>
                                <a:pt x="249" y="352"/>
                              </a:lnTo>
                              <a:lnTo>
                                <a:pt x="295" y="377"/>
                              </a:lnTo>
                              <a:lnTo>
                                <a:pt x="349" y="397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ff"/>
                        </a:solidFill>
                        <a:ln w="111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264" name=""/>
                    <p:cNvGrpSpPr/>
                    <p:nvPr/>
                  </p:nvGrpSpPr>
                  <p:grpSpPr>
                    <a:xfrm>
                      <a:off x="7011720" y="3564720"/>
                      <a:ext cx="530280" cy="416520"/>
                      <a:chOff x="7011720" y="3564720"/>
                      <a:chExt cx="530280" cy="416520"/>
                    </a:xfrm>
                  </p:grpSpPr>
                  <p:sp>
                    <p:nvSpPr>
                      <p:cNvPr id="265" name=""/>
                      <p:cNvSpPr/>
                      <p:nvPr/>
                    </p:nvSpPr>
                    <p:spPr>
                      <a:xfrm rot="108600">
                        <a:off x="7013160" y="3698280"/>
                        <a:ext cx="388800" cy="117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90" h="74">
                            <a:moveTo>
                              <a:pt x="0" y="53"/>
                            </a:moveTo>
                            <a:lnTo>
                              <a:pt x="35" y="26"/>
                            </a:lnTo>
                            <a:lnTo>
                              <a:pt x="79" y="4"/>
                            </a:lnTo>
                            <a:lnTo>
                              <a:pt x="116" y="0"/>
                            </a:lnTo>
                            <a:lnTo>
                              <a:pt x="490" y="29"/>
                            </a:lnTo>
                            <a:lnTo>
                              <a:pt x="480" y="59"/>
                            </a:lnTo>
                            <a:lnTo>
                              <a:pt x="405" y="57"/>
                            </a:lnTo>
                            <a:lnTo>
                              <a:pt x="236" y="53"/>
                            </a:lnTo>
                            <a:lnTo>
                              <a:pt x="125" y="50"/>
                            </a:lnTo>
                            <a:lnTo>
                              <a:pt x="104" y="54"/>
                            </a:lnTo>
                            <a:lnTo>
                              <a:pt x="74" y="74"/>
                            </a:lnTo>
                            <a:lnTo>
                              <a:pt x="0" y="53"/>
                            </a:lnTo>
                            <a:close/>
                          </a:path>
                        </a:pathLst>
                      </a:custGeom>
                      <a:solidFill>
                        <a:srgbClr val="bf7f3f"/>
                      </a:solidFill>
                      <a:ln w="111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6" name=""/>
                      <p:cNvSpPr/>
                      <p:nvPr/>
                    </p:nvSpPr>
                    <p:spPr>
                      <a:xfrm rot="108600">
                        <a:off x="7480440" y="3612600"/>
                        <a:ext cx="58680" cy="174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2" h="110">
                            <a:moveTo>
                              <a:pt x="23" y="0"/>
                            </a:moveTo>
                            <a:lnTo>
                              <a:pt x="48" y="15"/>
                            </a:lnTo>
                            <a:lnTo>
                              <a:pt x="59" y="29"/>
                            </a:lnTo>
                            <a:lnTo>
                              <a:pt x="67" y="47"/>
                            </a:lnTo>
                            <a:lnTo>
                              <a:pt x="72" y="64"/>
                            </a:lnTo>
                            <a:lnTo>
                              <a:pt x="64" y="80"/>
                            </a:lnTo>
                            <a:lnTo>
                              <a:pt x="49" y="94"/>
                            </a:lnTo>
                            <a:lnTo>
                              <a:pt x="26" y="104"/>
                            </a:lnTo>
                            <a:lnTo>
                              <a:pt x="0" y="110"/>
                            </a:lnTo>
                            <a:lnTo>
                              <a:pt x="23" y="0"/>
                            </a:lnTo>
                            <a:close/>
                          </a:path>
                        </a:pathLst>
                      </a:custGeom>
                      <a:solidFill>
                        <a:srgbClr val="9fbfff"/>
                      </a:solidFill>
                      <a:ln w="111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7" name=""/>
                      <p:cNvSpPr/>
                      <p:nvPr/>
                    </p:nvSpPr>
                    <p:spPr>
                      <a:xfrm rot="108600">
                        <a:off x="7444080" y="3565800"/>
                        <a:ext cx="76320" cy="227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5" h="143">
                            <a:moveTo>
                              <a:pt x="0" y="118"/>
                            </a:moveTo>
                            <a:lnTo>
                              <a:pt x="44" y="0"/>
                            </a:lnTo>
                            <a:lnTo>
                              <a:pt x="95" y="15"/>
                            </a:lnTo>
                            <a:lnTo>
                              <a:pt x="51" y="143"/>
                            </a:lnTo>
                            <a:lnTo>
                              <a:pt x="5" y="140"/>
                            </a:lnTo>
                            <a:lnTo>
                              <a:pt x="0" y="118"/>
                            </a:lnTo>
                            <a:close/>
                          </a:path>
                        </a:pathLst>
                      </a:custGeom>
                      <a:solidFill>
                        <a:srgbClr val="bf7f3f"/>
                      </a:solidFill>
                      <a:ln w="111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8" name=""/>
                      <p:cNvSpPr/>
                      <p:nvPr/>
                    </p:nvSpPr>
                    <p:spPr>
                      <a:xfrm rot="108600">
                        <a:off x="7404480" y="3606120"/>
                        <a:ext cx="74520" cy="357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4" h="225">
                            <a:moveTo>
                              <a:pt x="42" y="0"/>
                            </a:moveTo>
                            <a:lnTo>
                              <a:pt x="66" y="12"/>
                            </a:lnTo>
                            <a:lnTo>
                              <a:pt x="81" y="29"/>
                            </a:lnTo>
                            <a:lnTo>
                              <a:pt x="89" y="49"/>
                            </a:lnTo>
                            <a:lnTo>
                              <a:pt x="94" y="71"/>
                            </a:lnTo>
                            <a:lnTo>
                              <a:pt x="93" y="92"/>
                            </a:lnTo>
                            <a:lnTo>
                              <a:pt x="84" y="122"/>
                            </a:lnTo>
                            <a:lnTo>
                              <a:pt x="73" y="149"/>
                            </a:lnTo>
                            <a:lnTo>
                              <a:pt x="56" y="177"/>
                            </a:lnTo>
                            <a:lnTo>
                              <a:pt x="32" y="200"/>
                            </a:lnTo>
                            <a:lnTo>
                              <a:pt x="0" y="225"/>
                            </a:lnTo>
                            <a:lnTo>
                              <a:pt x="42" y="0"/>
                            </a:lnTo>
                            <a:close/>
                          </a:path>
                        </a:pathLst>
                      </a:custGeom>
                      <a:solidFill>
                        <a:srgbClr val="9fbfff"/>
                      </a:solidFill>
                      <a:ln w="111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9" name=""/>
                      <p:cNvSpPr/>
                      <p:nvPr/>
                    </p:nvSpPr>
                    <p:spPr>
                      <a:xfrm rot="108600">
                        <a:off x="7362000" y="3571560"/>
                        <a:ext cx="96840" cy="407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2" h="257">
                            <a:moveTo>
                              <a:pt x="59" y="0"/>
                            </a:moveTo>
                            <a:lnTo>
                              <a:pt x="122" y="4"/>
                            </a:lnTo>
                            <a:lnTo>
                              <a:pt x="59" y="257"/>
                            </a:lnTo>
                            <a:lnTo>
                              <a:pt x="0" y="254"/>
                            </a:lnTo>
                            <a:lnTo>
                              <a:pt x="59" y="0"/>
                            </a:lnTo>
                            <a:close/>
                          </a:path>
                        </a:pathLst>
                      </a:custGeom>
                      <a:solidFill>
                        <a:srgbClr val="bf7f3f"/>
                      </a:solidFill>
                      <a:ln w="111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270" name=""/>
                <p:cNvGrpSpPr/>
                <p:nvPr/>
              </p:nvGrpSpPr>
              <p:grpSpPr>
                <a:xfrm>
                  <a:off x="6655680" y="3616560"/>
                  <a:ext cx="754200" cy="1629360"/>
                  <a:chOff x="6655680" y="3616560"/>
                  <a:chExt cx="754200" cy="1629360"/>
                </a:xfrm>
              </p:grpSpPr>
              <p:grpSp>
                <p:nvGrpSpPr>
                  <p:cNvPr id="271" name=""/>
                  <p:cNvGrpSpPr/>
                  <p:nvPr/>
                </p:nvGrpSpPr>
                <p:grpSpPr>
                  <a:xfrm>
                    <a:off x="6655680" y="3616560"/>
                    <a:ext cx="754200" cy="1629360"/>
                    <a:chOff x="6655680" y="3616560"/>
                    <a:chExt cx="754200" cy="1629360"/>
                  </a:xfrm>
                </p:grpSpPr>
                <p:grpSp>
                  <p:nvGrpSpPr>
                    <p:cNvPr id="272" name=""/>
                    <p:cNvGrpSpPr/>
                    <p:nvPr/>
                  </p:nvGrpSpPr>
                  <p:grpSpPr>
                    <a:xfrm>
                      <a:off x="7014240" y="4194360"/>
                      <a:ext cx="329400" cy="300600"/>
                      <a:chOff x="7014240" y="4194360"/>
                      <a:chExt cx="329400" cy="300600"/>
                    </a:xfrm>
                  </p:grpSpPr>
                  <p:sp>
                    <p:nvSpPr>
                      <p:cNvPr id="273" name=""/>
                      <p:cNvSpPr/>
                      <p:nvPr/>
                    </p:nvSpPr>
                    <p:spPr>
                      <a:xfrm rot="108600">
                        <a:off x="7016760" y="4197600"/>
                        <a:ext cx="227160" cy="185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85" h="117">
                            <a:moveTo>
                              <a:pt x="0" y="55"/>
                            </a:moveTo>
                            <a:lnTo>
                              <a:pt x="64" y="0"/>
                            </a:lnTo>
                            <a:lnTo>
                              <a:pt x="278" y="12"/>
                            </a:lnTo>
                            <a:lnTo>
                              <a:pt x="285" y="27"/>
                            </a:lnTo>
                            <a:lnTo>
                              <a:pt x="280" y="45"/>
                            </a:lnTo>
                            <a:lnTo>
                              <a:pt x="230" y="64"/>
                            </a:lnTo>
                            <a:lnTo>
                              <a:pt x="135" y="117"/>
                            </a:lnTo>
                            <a:lnTo>
                              <a:pt x="0" y="55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111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74" name=""/>
                      <p:cNvSpPr/>
                      <p:nvPr/>
                    </p:nvSpPr>
                    <p:spPr>
                      <a:xfrm rot="108600">
                        <a:off x="7119000" y="4262760"/>
                        <a:ext cx="220680" cy="228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77" h="144">
                            <a:moveTo>
                              <a:pt x="0" y="84"/>
                            </a:moveTo>
                            <a:lnTo>
                              <a:pt x="96" y="12"/>
                            </a:lnTo>
                            <a:lnTo>
                              <a:pt x="140" y="27"/>
                            </a:lnTo>
                            <a:lnTo>
                              <a:pt x="160" y="12"/>
                            </a:lnTo>
                            <a:lnTo>
                              <a:pt x="210" y="0"/>
                            </a:lnTo>
                            <a:lnTo>
                              <a:pt x="228" y="21"/>
                            </a:lnTo>
                            <a:lnTo>
                              <a:pt x="247" y="26"/>
                            </a:lnTo>
                            <a:lnTo>
                              <a:pt x="247" y="43"/>
                            </a:lnTo>
                            <a:lnTo>
                              <a:pt x="277" y="49"/>
                            </a:lnTo>
                            <a:lnTo>
                              <a:pt x="271" y="59"/>
                            </a:lnTo>
                            <a:lnTo>
                              <a:pt x="191" y="78"/>
                            </a:lnTo>
                            <a:lnTo>
                              <a:pt x="206" y="104"/>
                            </a:lnTo>
                            <a:lnTo>
                              <a:pt x="198" y="120"/>
                            </a:lnTo>
                            <a:lnTo>
                              <a:pt x="178" y="123"/>
                            </a:lnTo>
                            <a:lnTo>
                              <a:pt x="154" y="115"/>
                            </a:lnTo>
                            <a:lnTo>
                              <a:pt x="149" y="144"/>
                            </a:lnTo>
                            <a:lnTo>
                              <a:pt x="0" y="84"/>
                            </a:lnTo>
                            <a:close/>
                          </a:path>
                        </a:pathLst>
                      </a:custGeom>
                      <a:solidFill>
                        <a:srgbClr val="ff001f"/>
                      </a:solidFill>
                      <a:ln w="111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75" name=""/>
                    <p:cNvGrpSpPr/>
                    <p:nvPr/>
                  </p:nvGrpSpPr>
                  <p:grpSpPr>
                    <a:xfrm>
                      <a:off x="6655680" y="3616560"/>
                      <a:ext cx="754200" cy="1629360"/>
                      <a:chOff x="6655680" y="3616560"/>
                      <a:chExt cx="754200" cy="1629360"/>
                    </a:xfrm>
                  </p:grpSpPr>
                  <p:grpSp>
                    <p:nvGrpSpPr>
                      <p:cNvPr id="276" name=""/>
                      <p:cNvGrpSpPr/>
                      <p:nvPr/>
                    </p:nvGrpSpPr>
                    <p:grpSpPr>
                      <a:xfrm>
                        <a:off x="6655680" y="3616560"/>
                        <a:ext cx="754200" cy="1629360"/>
                        <a:chOff x="6655680" y="3616560"/>
                        <a:chExt cx="754200" cy="1629360"/>
                      </a:xfrm>
                    </p:grpSpPr>
                    <p:grpSp>
                      <p:nvGrpSpPr>
                        <p:cNvPr id="277" name=""/>
                        <p:cNvGrpSpPr/>
                        <p:nvPr/>
                      </p:nvGrpSpPr>
                      <p:grpSpPr>
                        <a:xfrm>
                          <a:off x="6655680" y="3616560"/>
                          <a:ext cx="754200" cy="1629360"/>
                          <a:chOff x="6655680" y="3616560"/>
                          <a:chExt cx="754200" cy="1629360"/>
                        </a:xfrm>
                      </p:grpSpPr>
                      <p:grpSp>
                        <p:nvGrpSpPr>
                          <p:cNvPr id="278" name=""/>
                          <p:cNvGrpSpPr/>
                          <p:nvPr/>
                        </p:nvGrpSpPr>
                        <p:grpSpPr>
                          <a:xfrm>
                            <a:off x="6655680" y="3616560"/>
                            <a:ext cx="266400" cy="493560"/>
                            <a:chOff x="6655680" y="3616560"/>
                            <a:chExt cx="266400" cy="493560"/>
                          </a:xfrm>
                        </p:grpSpPr>
                        <p:sp>
                          <p:nvSpPr>
                            <p:cNvPr id="279" name=""/>
                            <p:cNvSpPr/>
                            <p:nvPr/>
                          </p:nvSpPr>
                          <p:spPr>
                            <a:xfrm rot="108600">
                              <a:off x="6768000" y="3939120"/>
                              <a:ext cx="136440" cy="1684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73" h="106">
                                  <a:moveTo>
                                    <a:pt x="0" y="39"/>
                                  </a:moveTo>
                                  <a:lnTo>
                                    <a:pt x="30" y="85"/>
                                  </a:lnTo>
                                  <a:lnTo>
                                    <a:pt x="56" y="106"/>
                                  </a:lnTo>
                                  <a:lnTo>
                                    <a:pt x="173" y="73"/>
                                  </a:lnTo>
                                  <a:lnTo>
                                    <a:pt x="105" y="0"/>
                                  </a:lnTo>
                                  <a:lnTo>
                                    <a:pt x="0" y="39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000080"/>
                            </a:solidFill>
                            <a:ln w="111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grpSp>
                          <p:nvGrpSpPr>
                            <p:cNvPr id="280" name=""/>
                            <p:cNvGrpSpPr/>
                            <p:nvPr/>
                          </p:nvGrpSpPr>
                          <p:grpSpPr>
                            <a:xfrm>
                              <a:off x="6655680" y="3616560"/>
                              <a:ext cx="266400" cy="487440"/>
                              <a:chOff x="6655680" y="3616560"/>
                              <a:chExt cx="266400" cy="487440"/>
                            </a:xfrm>
                          </p:grpSpPr>
                          <p:grpSp>
                            <p:nvGrpSpPr>
                              <p:cNvPr id="281" name=""/>
                              <p:cNvGrpSpPr/>
                              <p:nvPr/>
                            </p:nvGrpSpPr>
                            <p:grpSpPr>
                              <a:xfrm>
                                <a:off x="6655680" y="3616560"/>
                                <a:ext cx="266400" cy="487440"/>
                                <a:chOff x="6655680" y="3616560"/>
                                <a:chExt cx="266400" cy="487440"/>
                              </a:xfrm>
                            </p:grpSpPr>
                            <p:sp>
                              <p:nvSpPr>
                                <p:cNvPr id="282" name=""/>
                                <p:cNvSpPr/>
                                <p:nvPr/>
                              </p:nvSpPr>
                              <p:spPr>
                                <a:xfrm rot="108600">
                                  <a:off x="6693840" y="3893760"/>
                                  <a:ext cx="115920" cy="20808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45" h="131">
                                      <a:moveTo>
                                        <a:pt x="0" y="4"/>
                                      </a:moveTo>
                                      <a:lnTo>
                                        <a:pt x="3" y="59"/>
                                      </a:lnTo>
                                      <a:lnTo>
                                        <a:pt x="18" y="79"/>
                                      </a:lnTo>
                                      <a:lnTo>
                                        <a:pt x="36" y="103"/>
                                      </a:lnTo>
                                      <a:lnTo>
                                        <a:pt x="49" y="117"/>
                                      </a:lnTo>
                                      <a:lnTo>
                                        <a:pt x="68" y="131"/>
                                      </a:lnTo>
                                      <a:lnTo>
                                        <a:pt x="96" y="124"/>
                                      </a:lnTo>
                                      <a:lnTo>
                                        <a:pt x="145" y="118"/>
                                      </a:lnTo>
                                      <a:lnTo>
                                        <a:pt x="110" y="0"/>
                                      </a:lnTo>
                                      <a:lnTo>
                                        <a:pt x="0" y="4"/>
                                      </a:lnTo>
                                      <a:close/>
                                    </a:path>
                                  </a:pathLst>
                                </a:custGeom>
                                <a:solidFill>
                                  <a:srgbClr val="c0c0c0"/>
                                </a:solidFill>
                                <a:ln w="111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83" name=""/>
                                <p:cNvSpPr/>
                                <p:nvPr/>
                              </p:nvSpPr>
                              <p:spPr>
                                <a:xfrm rot="108600">
                                  <a:off x="6661080" y="3620160"/>
                                  <a:ext cx="255600" cy="3366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321" h="212">
                                      <a:moveTo>
                                        <a:pt x="0" y="198"/>
                                      </a:moveTo>
                                      <a:lnTo>
                                        <a:pt x="14" y="166"/>
                                      </a:lnTo>
                                      <a:lnTo>
                                        <a:pt x="29" y="145"/>
                                      </a:lnTo>
                                      <a:lnTo>
                                        <a:pt x="62" y="115"/>
                                      </a:lnTo>
                                      <a:lnTo>
                                        <a:pt x="122" y="76"/>
                                      </a:lnTo>
                                      <a:lnTo>
                                        <a:pt x="181" y="38"/>
                                      </a:lnTo>
                                      <a:lnTo>
                                        <a:pt x="242" y="0"/>
                                      </a:lnTo>
                                      <a:lnTo>
                                        <a:pt x="260" y="1"/>
                                      </a:lnTo>
                                      <a:lnTo>
                                        <a:pt x="321" y="37"/>
                                      </a:lnTo>
                                      <a:lnTo>
                                        <a:pt x="135" y="212"/>
                                      </a:lnTo>
                                      <a:lnTo>
                                        <a:pt x="0" y="198"/>
                                      </a:lnTo>
                                      <a:close/>
                                    </a:path>
                                  </a:pathLst>
                                </a:custGeom>
                                <a:solidFill>
                                  <a:srgbClr val="c0c0c0"/>
                                </a:solidFill>
                                <a:ln w="111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sp>
                            <p:nvSpPr>
                              <p:cNvPr id="284" name=""/>
                              <p:cNvSpPr/>
                              <p:nvPr/>
                            </p:nvSpPr>
                            <p:spPr>
                              <a:xfrm rot="108600">
                                <a:off x="6834240" y="3655440"/>
                                <a:ext cx="42840" cy="6660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ff9f00"/>
                              </a:solidFill>
                              <a:ln w="111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360" bIns="3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sp>
                        <p:nvSpPr>
                          <p:cNvPr id="285" name=""/>
                          <p:cNvSpPr/>
                          <p:nvPr/>
                        </p:nvSpPr>
                        <p:spPr>
                          <a:xfrm rot="108600">
                            <a:off x="6721560" y="3652920"/>
                            <a:ext cx="663480" cy="15829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837" h="997">
                                <a:moveTo>
                                  <a:pt x="0" y="227"/>
                                </a:moveTo>
                                <a:lnTo>
                                  <a:pt x="18" y="183"/>
                                </a:lnTo>
                                <a:lnTo>
                                  <a:pt x="50" y="143"/>
                                </a:lnTo>
                                <a:lnTo>
                                  <a:pt x="89" y="107"/>
                                </a:lnTo>
                                <a:lnTo>
                                  <a:pt x="129" y="71"/>
                                </a:lnTo>
                                <a:lnTo>
                                  <a:pt x="181" y="36"/>
                                </a:lnTo>
                                <a:lnTo>
                                  <a:pt x="221" y="0"/>
                                </a:lnTo>
                                <a:lnTo>
                                  <a:pt x="269" y="12"/>
                                </a:lnTo>
                                <a:lnTo>
                                  <a:pt x="315" y="30"/>
                                </a:lnTo>
                                <a:lnTo>
                                  <a:pt x="364" y="51"/>
                                </a:lnTo>
                                <a:lnTo>
                                  <a:pt x="414" y="80"/>
                                </a:lnTo>
                                <a:lnTo>
                                  <a:pt x="461" y="104"/>
                                </a:lnTo>
                                <a:lnTo>
                                  <a:pt x="536" y="153"/>
                                </a:lnTo>
                                <a:lnTo>
                                  <a:pt x="522" y="194"/>
                                </a:lnTo>
                                <a:lnTo>
                                  <a:pt x="503" y="246"/>
                                </a:lnTo>
                                <a:lnTo>
                                  <a:pt x="486" y="299"/>
                                </a:lnTo>
                                <a:lnTo>
                                  <a:pt x="476" y="337"/>
                                </a:lnTo>
                                <a:lnTo>
                                  <a:pt x="471" y="358"/>
                                </a:lnTo>
                                <a:lnTo>
                                  <a:pt x="448" y="394"/>
                                </a:lnTo>
                                <a:lnTo>
                                  <a:pt x="738" y="569"/>
                                </a:lnTo>
                                <a:lnTo>
                                  <a:pt x="773" y="619"/>
                                </a:lnTo>
                                <a:lnTo>
                                  <a:pt x="798" y="669"/>
                                </a:lnTo>
                                <a:lnTo>
                                  <a:pt x="827" y="717"/>
                                </a:lnTo>
                                <a:lnTo>
                                  <a:pt x="837" y="750"/>
                                </a:lnTo>
                                <a:lnTo>
                                  <a:pt x="832" y="790"/>
                                </a:lnTo>
                                <a:lnTo>
                                  <a:pt x="829" y="822"/>
                                </a:lnTo>
                                <a:lnTo>
                                  <a:pt x="812" y="873"/>
                                </a:lnTo>
                                <a:lnTo>
                                  <a:pt x="615" y="997"/>
                                </a:lnTo>
                                <a:lnTo>
                                  <a:pt x="522" y="994"/>
                                </a:lnTo>
                                <a:lnTo>
                                  <a:pt x="260" y="977"/>
                                </a:lnTo>
                                <a:lnTo>
                                  <a:pt x="139" y="890"/>
                                </a:lnTo>
                                <a:lnTo>
                                  <a:pt x="124" y="849"/>
                                </a:lnTo>
                                <a:lnTo>
                                  <a:pt x="97" y="789"/>
                                </a:lnTo>
                                <a:lnTo>
                                  <a:pt x="59" y="736"/>
                                </a:lnTo>
                                <a:lnTo>
                                  <a:pt x="43" y="684"/>
                                </a:lnTo>
                                <a:lnTo>
                                  <a:pt x="69" y="687"/>
                                </a:lnTo>
                                <a:lnTo>
                                  <a:pt x="124" y="720"/>
                                </a:lnTo>
                                <a:lnTo>
                                  <a:pt x="180" y="730"/>
                                </a:lnTo>
                                <a:lnTo>
                                  <a:pt x="191" y="718"/>
                                </a:lnTo>
                                <a:lnTo>
                                  <a:pt x="216" y="717"/>
                                </a:lnTo>
                                <a:lnTo>
                                  <a:pt x="221" y="660"/>
                                </a:lnTo>
                                <a:lnTo>
                                  <a:pt x="229" y="601"/>
                                </a:lnTo>
                                <a:lnTo>
                                  <a:pt x="86" y="513"/>
                                </a:lnTo>
                                <a:lnTo>
                                  <a:pt x="152" y="353"/>
                                </a:lnTo>
                                <a:lnTo>
                                  <a:pt x="185" y="293"/>
                                </a:lnTo>
                                <a:lnTo>
                                  <a:pt x="155" y="287"/>
                                </a:lnTo>
                                <a:lnTo>
                                  <a:pt x="176" y="273"/>
                                </a:lnTo>
                                <a:lnTo>
                                  <a:pt x="92" y="246"/>
                                </a:lnTo>
                                <a:lnTo>
                                  <a:pt x="0" y="227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0000ff"/>
                          </a:solidFill>
                          <a:ln w="111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86" name=""/>
                        <p:cNvGrpSpPr/>
                        <p:nvPr/>
                      </p:nvGrpSpPr>
                      <p:grpSpPr>
                        <a:xfrm>
                          <a:off x="6851520" y="4030560"/>
                          <a:ext cx="119520" cy="835920"/>
                          <a:chOff x="6851520" y="4030560"/>
                          <a:chExt cx="119520" cy="835920"/>
                        </a:xfrm>
                      </p:grpSpPr>
                      <p:grpSp>
                        <p:nvGrpSpPr>
                          <p:cNvPr id="287" name=""/>
                          <p:cNvGrpSpPr/>
                          <p:nvPr/>
                        </p:nvGrpSpPr>
                        <p:grpSpPr>
                          <a:xfrm>
                            <a:off x="6872760" y="4030560"/>
                            <a:ext cx="98280" cy="81360"/>
                            <a:chOff x="6872760" y="4030560"/>
                            <a:chExt cx="98280" cy="81360"/>
                          </a:xfrm>
                        </p:grpSpPr>
                        <p:sp>
                          <p:nvSpPr>
                            <p:cNvPr id="288" name=""/>
                            <p:cNvSpPr/>
                            <p:nvPr/>
                          </p:nvSpPr>
                          <p:spPr>
                            <a:xfrm flipV="1">
                              <a:off x="6872760" y="4030560"/>
                              <a:ext cx="88920" cy="47880"/>
                            </a:xfrm>
                            <a:prstGeom prst="line">
                              <a:avLst/>
                            </a:prstGeom>
                            <a:ln w="111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1080" bIns="108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89" name=""/>
                            <p:cNvSpPr/>
                            <p:nvPr/>
                          </p:nvSpPr>
                          <p:spPr>
                            <a:xfrm flipV="1">
                              <a:off x="6879600" y="4095720"/>
                              <a:ext cx="91440" cy="16200"/>
                            </a:xfrm>
                            <a:prstGeom prst="line">
                              <a:avLst/>
                            </a:prstGeom>
                            <a:ln w="111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0600" bIns="-306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90" name=""/>
                          <p:cNvGrpSpPr/>
                          <p:nvPr/>
                        </p:nvGrpSpPr>
                        <p:grpSpPr>
                          <a:xfrm>
                            <a:off x="6851520" y="4602240"/>
                            <a:ext cx="112680" cy="264240"/>
                            <a:chOff x="6851520" y="4602240"/>
                            <a:chExt cx="112680" cy="264240"/>
                          </a:xfrm>
                        </p:grpSpPr>
                        <p:sp>
                          <p:nvSpPr>
                            <p:cNvPr id="291" name=""/>
                            <p:cNvSpPr/>
                            <p:nvPr/>
                          </p:nvSpPr>
                          <p:spPr>
                            <a:xfrm rot="108600">
                              <a:off x="6897240" y="4602960"/>
                              <a:ext cx="66600" cy="1584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84" h="10">
                                  <a:moveTo>
                                    <a:pt x="0" y="0"/>
                                  </a:moveTo>
                                  <a:lnTo>
                                    <a:pt x="22" y="10"/>
                                  </a:lnTo>
                                  <a:lnTo>
                                    <a:pt x="84" y="4"/>
                                  </a:lnTo>
                                </a:path>
                              </a:pathLst>
                            </a:custGeom>
                            <a:noFill/>
                            <a:ln w="111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0960" bIns="-3096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92" name=""/>
                            <p:cNvSpPr/>
                            <p:nvPr/>
                          </p:nvSpPr>
                          <p:spPr>
                            <a:xfrm rot="108600">
                              <a:off x="6882480" y="4786560"/>
                              <a:ext cx="47520" cy="730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0" h="46">
                                  <a:moveTo>
                                    <a:pt x="0" y="0"/>
                                  </a:moveTo>
                                  <a:lnTo>
                                    <a:pt x="20" y="21"/>
                                  </a:lnTo>
                                  <a:lnTo>
                                    <a:pt x="60" y="46"/>
                                  </a:lnTo>
                                </a:path>
                              </a:pathLst>
                            </a:custGeom>
                            <a:noFill/>
                            <a:ln w="111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26280" bIns="2628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93" name=""/>
                            <p:cNvSpPr/>
                            <p:nvPr/>
                          </p:nvSpPr>
                          <p:spPr>
                            <a:xfrm>
                              <a:off x="6851520" y="4808520"/>
                              <a:ext cx="21960" cy="57960"/>
                            </a:xfrm>
                            <a:prstGeom prst="line">
                              <a:avLst/>
                            </a:prstGeom>
                            <a:ln w="111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11160" bIns="1116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  <p:sp>
                    <p:nvSpPr>
                      <p:cNvPr id="294" name=""/>
                      <p:cNvSpPr/>
                      <p:nvPr/>
                    </p:nvSpPr>
                    <p:spPr>
                      <a:xfrm rot="108600">
                        <a:off x="7026480" y="3798360"/>
                        <a:ext cx="133200" cy="277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68" h="175">
                            <a:moveTo>
                              <a:pt x="72" y="0"/>
                            </a:moveTo>
                            <a:lnTo>
                              <a:pt x="15" y="26"/>
                            </a:lnTo>
                            <a:lnTo>
                              <a:pt x="0" y="56"/>
                            </a:lnTo>
                            <a:lnTo>
                              <a:pt x="59" y="83"/>
                            </a:lnTo>
                            <a:lnTo>
                              <a:pt x="71" y="104"/>
                            </a:lnTo>
                            <a:lnTo>
                              <a:pt x="49" y="152"/>
                            </a:lnTo>
                            <a:lnTo>
                              <a:pt x="61" y="171"/>
                            </a:lnTo>
                            <a:lnTo>
                              <a:pt x="130" y="175"/>
                            </a:lnTo>
                            <a:lnTo>
                              <a:pt x="168" y="63"/>
                            </a:lnTo>
                            <a:lnTo>
                              <a:pt x="112" y="23"/>
                            </a:lnTo>
                            <a:lnTo>
                              <a:pt x="94" y="11"/>
                            </a:lnTo>
                            <a:lnTo>
                              <a:pt x="72" y="0"/>
                            </a:lnTo>
                            <a:close/>
                          </a:path>
                        </a:pathLst>
                      </a:custGeom>
                      <a:solidFill>
                        <a:srgbClr val="ff001f"/>
                      </a:solidFill>
                      <a:ln w="111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295" name=""/>
                  <p:cNvGrpSpPr/>
                  <p:nvPr/>
                </p:nvGrpSpPr>
                <p:grpSpPr>
                  <a:xfrm>
                    <a:off x="7286400" y="4775040"/>
                    <a:ext cx="47520" cy="183600"/>
                    <a:chOff x="7286400" y="4775040"/>
                    <a:chExt cx="47520" cy="183600"/>
                  </a:xfrm>
                </p:grpSpPr>
                <p:sp>
                  <p:nvSpPr>
                    <p:cNvPr id="296" name=""/>
                    <p:cNvSpPr/>
                    <p:nvPr/>
                  </p:nvSpPr>
                  <p:spPr>
                    <a:xfrm rot="108600">
                      <a:off x="7292520" y="4775400"/>
                      <a:ext cx="39960" cy="76320"/>
                    </a:xfrm>
                    <a:prstGeom prst="ellipse">
                      <a:avLst/>
                    </a:prstGeom>
                    <a:solidFill>
                      <a:srgbClr val="ff9f00"/>
                    </a:solidFill>
                    <a:ln w="11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0" bIns="7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7" name=""/>
                    <p:cNvSpPr/>
                    <p:nvPr/>
                  </p:nvSpPr>
                  <p:spPr>
                    <a:xfrm rot="108600">
                      <a:off x="7287480" y="4881600"/>
                      <a:ext cx="39600" cy="76320"/>
                    </a:xfrm>
                    <a:prstGeom prst="ellipse">
                      <a:avLst/>
                    </a:prstGeom>
                    <a:solidFill>
                      <a:srgbClr val="ff9f00"/>
                    </a:solidFill>
                    <a:ln w="11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0" bIns="7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298" name=""/>
              <p:cNvGrpSpPr/>
              <p:nvPr/>
            </p:nvGrpSpPr>
            <p:grpSpPr>
              <a:xfrm>
                <a:off x="7095960" y="3965400"/>
                <a:ext cx="1656000" cy="2392560"/>
                <a:chOff x="7095960" y="3965400"/>
                <a:chExt cx="1656000" cy="2392560"/>
              </a:xfrm>
            </p:grpSpPr>
            <p:grpSp>
              <p:nvGrpSpPr>
                <p:cNvPr id="299" name=""/>
                <p:cNvGrpSpPr/>
                <p:nvPr/>
              </p:nvGrpSpPr>
              <p:grpSpPr>
                <a:xfrm>
                  <a:off x="7095960" y="4695840"/>
                  <a:ext cx="1656000" cy="1662120"/>
                  <a:chOff x="7095960" y="4695840"/>
                  <a:chExt cx="1656000" cy="1662120"/>
                </a:xfrm>
              </p:grpSpPr>
              <p:sp>
                <p:nvSpPr>
                  <p:cNvPr id="300" name=""/>
                  <p:cNvSpPr/>
                  <p:nvPr/>
                </p:nvSpPr>
                <p:spPr>
                  <a:xfrm>
                    <a:off x="7095960" y="6116400"/>
                    <a:ext cx="792360" cy="227160"/>
                  </a:xfrm>
                  <a:custGeom>
                    <a:avLst/>
                    <a:gdLst/>
                    <a:ahLst/>
                    <a:rect l="l" t="t" r="r" b="b"/>
                    <a:pathLst>
                      <a:path w="997" h="143">
                        <a:moveTo>
                          <a:pt x="297" y="0"/>
                        </a:moveTo>
                        <a:lnTo>
                          <a:pt x="918" y="0"/>
                        </a:lnTo>
                        <a:lnTo>
                          <a:pt x="997" y="143"/>
                        </a:lnTo>
                        <a:lnTo>
                          <a:pt x="0" y="131"/>
                        </a:lnTo>
                        <a:lnTo>
                          <a:pt x="297" y="0"/>
                        </a:lnTo>
                        <a:close/>
                      </a:path>
                    </a:pathLst>
                  </a:custGeom>
                  <a:solidFill>
                    <a:srgbClr val="3f3f3f"/>
                  </a:solidFill>
                  <a:ln w="11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01" name=""/>
                  <p:cNvGrpSpPr/>
                  <p:nvPr/>
                </p:nvGrpSpPr>
                <p:grpSpPr>
                  <a:xfrm>
                    <a:off x="7483320" y="4695840"/>
                    <a:ext cx="1268640" cy="1662120"/>
                    <a:chOff x="7483320" y="4695840"/>
                    <a:chExt cx="1268640" cy="1662120"/>
                  </a:xfrm>
                </p:grpSpPr>
                <p:grpSp>
                  <p:nvGrpSpPr>
                    <p:cNvPr id="302" name=""/>
                    <p:cNvGrpSpPr/>
                    <p:nvPr/>
                  </p:nvGrpSpPr>
                  <p:grpSpPr>
                    <a:xfrm>
                      <a:off x="7548480" y="4873680"/>
                      <a:ext cx="1060560" cy="1484280"/>
                      <a:chOff x="7548480" y="4873680"/>
                      <a:chExt cx="1060560" cy="1484280"/>
                    </a:xfrm>
                  </p:grpSpPr>
                  <p:sp>
                    <p:nvSpPr>
                      <p:cNvPr id="303" name=""/>
                      <p:cNvSpPr/>
                      <p:nvPr/>
                    </p:nvSpPr>
                    <p:spPr>
                      <a:xfrm>
                        <a:off x="7548480" y="4873680"/>
                        <a:ext cx="1060560" cy="1484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37" h="935">
                            <a:moveTo>
                              <a:pt x="541" y="0"/>
                            </a:moveTo>
                            <a:lnTo>
                              <a:pt x="888" y="0"/>
                            </a:lnTo>
                            <a:lnTo>
                              <a:pt x="852" y="27"/>
                            </a:lnTo>
                            <a:lnTo>
                              <a:pt x="831" y="48"/>
                            </a:lnTo>
                            <a:lnTo>
                              <a:pt x="814" y="69"/>
                            </a:lnTo>
                            <a:lnTo>
                              <a:pt x="804" y="89"/>
                            </a:lnTo>
                            <a:lnTo>
                              <a:pt x="793" y="117"/>
                            </a:lnTo>
                            <a:lnTo>
                              <a:pt x="786" y="144"/>
                            </a:lnTo>
                            <a:lnTo>
                              <a:pt x="778" y="182"/>
                            </a:lnTo>
                            <a:lnTo>
                              <a:pt x="770" y="229"/>
                            </a:lnTo>
                            <a:lnTo>
                              <a:pt x="765" y="286"/>
                            </a:lnTo>
                            <a:lnTo>
                              <a:pt x="757" y="378"/>
                            </a:lnTo>
                            <a:lnTo>
                              <a:pt x="757" y="440"/>
                            </a:lnTo>
                            <a:lnTo>
                              <a:pt x="763" y="501"/>
                            </a:lnTo>
                            <a:lnTo>
                              <a:pt x="771" y="549"/>
                            </a:lnTo>
                            <a:lnTo>
                              <a:pt x="780" y="586"/>
                            </a:lnTo>
                            <a:lnTo>
                              <a:pt x="798" y="622"/>
                            </a:lnTo>
                            <a:lnTo>
                              <a:pt x="811" y="640"/>
                            </a:lnTo>
                            <a:lnTo>
                              <a:pt x="839" y="662"/>
                            </a:lnTo>
                            <a:lnTo>
                              <a:pt x="872" y="681"/>
                            </a:lnTo>
                            <a:lnTo>
                              <a:pt x="915" y="697"/>
                            </a:lnTo>
                            <a:lnTo>
                              <a:pt x="969" y="715"/>
                            </a:lnTo>
                            <a:lnTo>
                              <a:pt x="1015" y="727"/>
                            </a:lnTo>
                            <a:lnTo>
                              <a:pt x="1081" y="747"/>
                            </a:lnTo>
                            <a:lnTo>
                              <a:pt x="1205" y="784"/>
                            </a:lnTo>
                            <a:lnTo>
                              <a:pt x="1337" y="822"/>
                            </a:lnTo>
                            <a:lnTo>
                              <a:pt x="1337" y="855"/>
                            </a:lnTo>
                            <a:lnTo>
                              <a:pt x="1264" y="876"/>
                            </a:lnTo>
                            <a:lnTo>
                              <a:pt x="1180" y="894"/>
                            </a:lnTo>
                            <a:lnTo>
                              <a:pt x="1066" y="911"/>
                            </a:lnTo>
                            <a:lnTo>
                              <a:pt x="943" y="923"/>
                            </a:lnTo>
                            <a:lnTo>
                              <a:pt x="829" y="930"/>
                            </a:lnTo>
                            <a:lnTo>
                              <a:pt x="677" y="935"/>
                            </a:lnTo>
                            <a:lnTo>
                              <a:pt x="534" y="930"/>
                            </a:lnTo>
                            <a:lnTo>
                              <a:pt x="427" y="921"/>
                            </a:lnTo>
                            <a:lnTo>
                              <a:pt x="299" y="911"/>
                            </a:lnTo>
                            <a:lnTo>
                              <a:pt x="173" y="894"/>
                            </a:lnTo>
                            <a:lnTo>
                              <a:pt x="76" y="876"/>
                            </a:lnTo>
                            <a:lnTo>
                              <a:pt x="0" y="855"/>
                            </a:lnTo>
                            <a:lnTo>
                              <a:pt x="0" y="822"/>
                            </a:lnTo>
                            <a:lnTo>
                              <a:pt x="160" y="783"/>
                            </a:lnTo>
                            <a:lnTo>
                              <a:pt x="297" y="747"/>
                            </a:lnTo>
                            <a:lnTo>
                              <a:pt x="366" y="727"/>
                            </a:lnTo>
                            <a:lnTo>
                              <a:pt x="409" y="715"/>
                            </a:lnTo>
                            <a:lnTo>
                              <a:pt x="455" y="697"/>
                            </a:lnTo>
                            <a:lnTo>
                              <a:pt x="493" y="679"/>
                            </a:lnTo>
                            <a:lnTo>
                              <a:pt x="516" y="665"/>
                            </a:lnTo>
                            <a:lnTo>
                              <a:pt x="546" y="643"/>
                            </a:lnTo>
                            <a:lnTo>
                              <a:pt x="565" y="622"/>
                            </a:lnTo>
                            <a:lnTo>
                              <a:pt x="585" y="586"/>
                            </a:lnTo>
                            <a:lnTo>
                              <a:pt x="600" y="550"/>
                            </a:lnTo>
                            <a:lnTo>
                              <a:pt x="613" y="501"/>
                            </a:lnTo>
                            <a:lnTo>
                              <a:pt x="625" y="440"/>
                            </a:lnTo>
                            <a:lnTo>
                              <a:pt x="631" y="378"/>
                            </a:lnTo>
                            <a:lnTo>
                              <a:pt x="636" y="288"/>
                            </a:lnTo>
                            <a:lnTo>
                              <a:pt x="630" y="228"/>
                            </a:lnTo>
                            <a:lnTo>
                              <a:pt x="626" y="163"/>
                            </a:lnTo>
                            <a:lnTo>
                              <a:pt x="621" y="127"/>
                            </a:lnTo>
                            <a:lnTo>
                              <a:pt x="613" y="93"/>
                            </a:lnTo>
                            <a:lnTo>
                              <a:pt x="602" y="66"/>
                            </a:lnTo>
                            <a:lnTo>
                              <a:pt x="588" y="44"/>
                            </a:lnTo>
                            <a:lnTo>
                              <a:pt x="570" y="24"/>
                            </a:lnTo>
                            <a:lnTo>
                              <a:pt x="541" y="0"/>
                            </a:lnTo>
                            <a:close/>
                          </a:path>
                        </a:pathLst>
                      </a:custGeom>
                      <a:solidFill>
                        <a:srgbClr val="800000"/>
                      </a:solidFill>
                      <a:ln w="111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304" name=""/>
                      <p:cNvGrpSpPr/>
                      <p:nvPr/>
                    </p:nvGrpSpPr>
                    <p:grpSpPr>
                      <a:xfrm>
                        <a:off x="7548480" y="5945040"/>
                        <a:ext cx="1057320" cy="361800"/>
                        <a:chOff x="7548480" y="5945040"/>
                        <a:chExt cx="1057320" cy="361800"/>
                      </a:xfrm>
                    </p:grpSpPr>
                    <p:sp>
                      <p:nvSpPr>
                        <p:cNvPr id="305" name=""/>
                        <p:cNvSpPr/>
                        <p:nvPr/>
                      </p:nvSpPr>
                      <p:spPr>
                        <a:xfrm>
                          <a:off x="7951680" y="5945040"/>
                          <a:ext cx="277920" cy="46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51" h="29">
                              <a:moveTo>
                                <a:pt x="0" y="1"/>
                              </a:moveTo>
                              <a:lnTo>
                                <a:pt x="39" y="12"/>
                              </a:lnTo>
                              <a:lnTo>
                                <a:pt x="84" y="21"/>
                              </a:lnTo>
                              <a:lnTo>
                                <a:pt x="132" y="26"/>
                              </a:lnTo>
                              <a:lnTo>
                                <a:pt x="183" y="29"/>
                              </a:lnTo>
                              <a:lnTo>
                                <a:pt x="239" y="25"/>
                              </a:lnTo>
                              <a:lnTo>
                                <a:pt x="286" y="17"/>
                              </a:lnTo>
                              <a:lnTo>
                                <a:pt x="323" y="10"/>
                              </a:lnTo>
                              <a:lnTo>
                                <a:pt x="351" y="0"/>
                              </a:lnTo>
                            </a:path>
                          </a:pathLst>
                        </a:custGeom>
                        <a:noFill/>
                        <a:ln w="111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720" bIns="-7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06" name=""/>
                        <p:cNvSpPr/>
                        <p:nvPr/>
                      </p:nvSpPr>
                      <p:spPr>
                        <a:xfrm>
                          <a:off x="7548480" y="6181560"/>
                          <a:ext cx="1057320" cy="1252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32" h="79">
                              <a:moveTo>
                                <a:pt x="0" y="1"/>
                              </a:moveTo>
                              <a:lnTo>
                                <a:pt x="74" y="21"/>
                              </a:lnTo>
                              <a:lnTo>
                                <a:pt x="149" y="34"/>
                              </a:lnTo>
                              <a:lnTo>
                                <a:pt x="210" y="45"/>
                              </a:lnTo>
                              <a:lnTo>
                                <a:pt x="297" y="55"/>
                              </a:lnTo>
                              <a:lnTo>
                                <a:pt x="383" y="63"/>
                              </a:lnTo>
                              <a:lnTo>
                                <a:pt x="472" y="70"/>
                              </a:lnTo>
                              <a:lnTo>
                                <a:pt x="547" y="76"/>
                              </a:lnTo>
                              <a:lnTo>
                                <a:pt x="671" y="79"/>
                              </a:lnTo>
                              <a:lnTo>
                                <a:pt x="816" y="76"/>
                              </a:lnTo>
                              <a:lnTo>
                                <a:pt x="905" y="70"/>
                              </a:lnTo>
                              <a:lnTo>
                                <a:pt x="1051" y="57"/>
                              </a:lnTo>
                              <a:lnTo>
                                <a:pt x="1126" y="48"/>
                              </a:lnTo>
                              <a:lnTo>
                                <a:pt x="1193" y="36"/>
                              </a:lnTo>
                              <a:lnTo>
                                <a:pt x="1272" y="18"/>
                              </a:lnTo>
                              <a:lnTo>
                                <a:pt x="1332" y="0"/>
                              </a:lnTo>
                            </a:path>
                          </a:pathLst>
                        </a:custGeom>
                        <a:noFill/>
                        <a:ln w="111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307" name=""/>
                    <p:cNvSpPr/>
                    <p:nvPr/>
                  </p:nvSpPr>
                  <p:spPr>
                    <a:xfrm>
                      <a:off x="7483320" y="4695840"/>
                      <a:ext cx="1268640" cy="209520"/>
                    </a:xfrm>
                    <a:prstGeom prst="rect">
                      <a:avLst/>
                    </a:prstGeom>
                    <a:solidFill>
                      <a:srgbClr val="ff0000"/>
                    </a:solidFill>
                    <a:ln w="11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308" name=""/>
                <p:cNvGrpSpPr/>
                <p:nvPr/>
              </p:nvGrpSpPr>
              <p:grpSpPr>
                <a:xfrm>
                  <a:off x="7508880" y="3965400"/>
                  <a:ext cx="1173240" cy="819360"/>
                  <a:chOff x="7508880" y="3965400"/>
                  <a:chExt cx="1173240" cy="819360"/>
                </a:xfrm>
              </p:grpSpPr>
              <p:grpSp>
                <p:nvGrpSpPr>
                  <p:cNvPr id="309" name=""/>
                  <p:cNvGrpSpPr/>
                  <p:nvPr/>
                </p:nvGrpSpPr>
                <p:grpSpPr>
                  <a:xfrm>
                    <a:off x="7508880" y="4548240"/>
                    <a:ext cx="1173240" cy="236520"/>
                    <a:chOff x="7508880" y="4548240"/>
                    <a:chExt cx="1173240" cy="236520"/>
                  </a:xfrm>
                </p:grpSpPr>
                <p:grpSp>
                  <p:nvGrpSpPr>
                    <p:cNvPr id="310" name=""/>
                    <p:cNvGrpSpPr/>
                    <p:nvPr/>
                  </p:nvGrpSpPr>
                  <p:grpSpPr>
                    <a:xfrm>
                      <a:off x="7508880" y="4548240"/>
                      <a:ext cx="479520" cy="141120"/>
                      <a:chOff x="7508880" y="4548240"/>
                      <a:chExt cx="479520" cy="141120"/>
                    </a:xfrm>
                  </p:grpSpPr>
                  <p:sp>
                    <p:nvSpPr>
                      <p:cNvPr id="311" name=""/>
                      <p:cNvSpPr/>
                      <p:nvPr/>
                    </p:nvSpPr>
                    <p:spPr>
                      <a:xfrm>
                        <a:off x="7542360" y="4548240"/>
                        <a:ext cx="330120" cy="110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5" h="70">
                            <a:moveTo>
                              <a:pt x="0" y="38"/>
                            </a:moveTo>
                            <a:lnTo>
                              <a:pt x="180" y="32"/>
                            </a:lnTo>
                            <a:lnTo>
                              <a:pt x="415" y="0"/>
                            </a:lnTo>
                            <a:lnTo>
                              <a:pt x="415" y="47"/>
                            </a:lnTo>
                            <a:lnTo>
                              <a:pt x="170" y="67"/>
                            </a:lnTo>
                            <a:lnTo>
                              <a:pt x="0" y="70"/>
                            </a:lnTo>
                            <a:lnTo>
                              <a:pt x="0" y="38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111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312" name=""/>
                      <p:cNvGrpSpPr/>
                      <p:nvPr/>
                    </p:nvGrpSpPr>
                    <p:grpSpPr>
                      <a:xfrm>
                        <a:off x="7508880" y="4556160"/>
                        <a:ext cx="479520" cy="133200"/>
                        <a:chOff x="7508880" y="4556160"/>
                        <a:chExt cx="479520" cy="133200"/>
                      </a:xfrm>
                    </p:grpSpPr>
                    <p:sp>
                      <p:nvSpPr>
                        <p:cNvPr id="313" name=""/>
                        <p:cNvSpPr/>
                        <p:nvPr/>
                      </p:nvSpPr>
                      <p:spPr>
                        <a:xfrm>
                          <a:off x="7940520" y="4630680"/>
                          <a:ext cx="24120" cy="54000"/>
                        </a:xfrm>
                        <a:prstGeom prst="rect">
                          <a:avLst/>
                        </a:prstGeom>
                        <a:solidFill>
                          <a:srgbClr val="808080"/>
                        </a:solidFill>
                        <a:ln w="111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7200" bIns="72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314" name=""/>
                        <p:cNvGrpSpPr/>
                        <p:nvPr/>
                      </p:nvGrpSpPr>
                      <p:grpSpPr>
                        <a:xfrm>
                          <a:off x="7508880" y="4556160"/>
                          <a:ext cx="479520" cy="133200"/>
                          <a:chOff x="7508880" y="4556160"/>
                          <a:chExt cx="479520" cy="133200"/>
                        </a:xfrm>
                      </p:grpSpPr>
                      <p:sp>
                        <p:nvSpPr>
                          <p:cNvPr id="315" name=""/>
                          <p:cNvSpPr/>
                          <p:nvPr/>
                        </p:nvSpPr>
                        <p:spPr>
                          <a:xfrm>
                            <a:off x="7508880" y="4556160"/>
                            <a:ext cx="479520" cy="1332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605" h="84">
                                <a:moveTo>
                                  <a:pt x="605" y="0"/>
                                </a:moveTo>
                                <a:lnTo>
                                  <a:pt x="226" y="48"/>
                                </a:lnTo>
                                <a:lnTo>
                                  <a:pt x="0" y="56"/>
                                </a:lnTo>
                                <a:lnTo>
                                  <a:pt x="0" y="84"/>
                                </a:lnTo>
                                <a:lnTo>
                                  <a:pt x="233" y="77"/>
                                </a:lnTo>
                                <a:lnTo>
                                  <a:pt x="605" y="54"/>
                                </a:lnTo>
                                <a:lnTo>
                                  <a:pt x="605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c0c0c0"/>
                          </a:solidFill>
                          <a:ln w="111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16" name=""/>
                          <p:cNvSpPr/>
                          <p:nvPr/>
                        </p:nvSpPr>
                        <p:spPr>
                          <a:xfrm>
                            <a:off x="7531200" y="4581360"/>
                            <a:ext cx="441360" cy="824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557" h="52">
                                <a:moveTo>
                                  <a:pt x="0" y="52"/>
                                </a:moveTo>
                                <a:lnTo>
                                  <a:pt x="208" y="44"/>
                                </a:lnTo>
                                <a:lnTo>
                                  <a:pt x="557" y="0"/>
                                </a:lnTo>
                              </a:path>
                            </a:pathLst>
                          </a:custGeom>
                          <a:noFill/>
                          <a:ln w="111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35640" bIns="356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</p:grpSp>
                <p:sp>
                  <p:nvSpPr>
                    <p:cNvPr id="317" name=""/>
                    <p:cNvSpPr/>
                    <p:nvPr/>
                  </p:nvSpPr>
                  <p:spPr>
                    <a:xfrm>
                      <a:off x="7950240" y="4633920"/>
                      <a:ext cx="731880" cy="150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23" h="95">
                          <a:moveTo>
                            <a:pt x="0" y="36"/>
                          </a:moveTo>
                          <a:lnTo>
                            <a:pt x="10" y="59"/>
                          </a:lnTo>
                          <a:lnTo>
                            <a:pt x="25" y="72"/>
                          </a:lnTo>
                          <a:lnTo>
                            <a:pt x="50" y="84"/>
                          </a:lnTo>
                          <a:lnTo>
                            <a:pt x="76" y="90"/>
                          </a:lnTo>
                          <a:lnTo>
                            <a:pt x="109" y="92"/>
                          </a:lnTo>
                          <a:lnTo>
                            <a:pt x="135" y="86"/>
                          </a:lnTo>
                          <a:lnTo>
                            <a:pt x="173" y="78"/>
                          </a:lnTo>
                          <a:lnTo>
                            <a:pt x="219" y="71"/>
                          </a:lnTo>
                          <a:lnTo>
                            <a:pt x="272" y="68"/>
                          </a:lnTo>
                          <a:lnTo>
                            <a:pt x="338" y="72"/>
                          </a:lnTo>
                          <a:lnTo>
                            <a:pt x="396" y="80"/>
                          </a:lnTo>
                          <a:lnTo>
                            <a:pt x="455" y="90"/>
                          </a:lnTo>
                          <a:lnTo>
                            <a:pt x="511" y="95"/>
                          </a:lnTo>
                          <a:lnTo>
                            <a:pt x="550" y="92"/>
                          </a:lnTo>
                          <a:lnTo>
                            <a:pt x="615" y="86"/>
                          </a:lnTo>
                          <a:lnTo>
                            <a:pt x="686" y="80"/>
                          </a:lnTo>
                          <a:lnTo>
                            <a:pt x="755" y="72"/>
                          </a:lnTo>
                          <a:lnTo>
                            <a:pt x="829" y="63"/>
                          </a:lnTo>
                          <a:lnTo>
                            <a:pt x="873" y="56"/>
                          </a:lnTo>
                          <a:lnTo>
                            <a:pt x="895" y="51"/>
                          </a:lnTo>
                          <a:lnTo>
                            <a:pt x="913" y="44"/>
                          </a:lnTo>
                          <a:lnTo>
                            <a:pt x="923" y="33"/>
                          </a:lnTo>
                          <a:lnTo>
                            <a:pt x="915" y="17"/>
                          </a:lnTo>
                          <a:lnTo>
                            <a:pt x="900" y="8"/>
                          </a:lnTo>
                          <a:lnTo>
                            <a:pt x="873" y="0"/>
                          </a:lnTo>
                        </a:path>
                      </a:pathLst>
                    </a:custGeom>
                    <a:noFill/>
                    <a:ln w="111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18" name=""/>
                  <p:cNvGrpSpPr/>
                  <p:nvPr/>
                </p:nvGrpSpPr>
                <p:grpSpPr>
                  <a:xfrm>
                    <a:off x="7999560" y="3965400"/>
                    <a:ext cx="633240" cy="738360"/>
                    <a:chOff x="7999560" y="3965400"/>
                    <a:chExt cx="633240" cy="738360"/>
                  </a:xfrm>
                </p:grpSpPr>
                <p:grpSp>
                  <p:nvGrpSpPr>
                    <p:cNvPr id="319" name=""/>
                    <p:cNvGrpSpPr/>
                    <p:nvPr/>
                  </p:nvGrpSpPr>
                  <p:grpSpPr>
                    <a:xfrm>
                      <a:off x="8020080" y="4367160"/>
                      <a:ext cx="612720" cy="336600"/>
                      <a:chOff x="8020080" y="4367160"/>
                      <a:chExt cx="612720" cy="336600"/>
                    </a:xfrm>
                  </p:grpSpPr>
                  <p:grpSp>
                    <p:nvGrpSpPr>
                      <p:cNvPr id="320" name=""/>
                      <p:cNvGrpSpPr/>
                      <p:nvPr/>
                    </p:nvGrpSpPr>
                    <p:grpSpPr>
                      <a:xfrm>
                        <a:off x="8020080" y="4394160"/>
                        <a:ext cx="612720" cy="309600"/>
                        <a:chOff x="8020080" y="4394160"/>
                        <a:chExt cx="612720" cy="309600"/>
                      </a:xfrm>
                    </p:grpSpPr>
                    <p:sp>
                      <p:nvSpPr>
                        <p:cNvPr id="321" name=""/>
                        <p:cNvSpPr/>
                        <p:nvPr/>
                      </p:nvSpPr>
                      <p:spPr>
                        <a:xfrm>
                          <a:off x="8020080" y="4394160"/>
                          <a:ext cx="612720" cy="29196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111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322" name=""/>
                        <p:cNvGrpSpPr/>
                        <p:nvPr/>
                      </p:nvGrpSpPr>
                      <p:grpSpPr>
                        <a:xfrm>
                          <a:off x="8050320" y="4422600"/>
                          <a:ext cx="566640" cy="281160"/>
                          <a:chOff x="8050320" y="4422600"/>
                          <a:chExt cx="566640" cy="281160"/>
                        </a:xfrm>
                      </p:grpSpPr>
                      <p:grpSp>
                        <p:nvGrpSpPr>
                          <p:cNvPr id="323" name=""/>
                          <p:cNvGrpSpPr/>
                          <p:nvPr/>
                        </p:nvGrpSpPr>
                        <p:grpSpPr>
                          <a:xfrm>
                            <a:off x="8050320" y="4422600"/>
                            <a:ext cx="566640" cy="158760"/>
                            <a:chOff x="8050320" y="4422600"/>
                            <a:chExt cx="566640" cy="158760"/>
                          </a:xfrm>
                        </p:grpSpPr>
                        <p:grpSp>
                          <p:nvGrpSpPr>
                            <p:cNvPr id="324" name=""/>
                            <p:cNvGrpSpPr/>
                            <p:nvPr/>
                          </p:nvGrpSpPr>
                          <p:grpSpPr>
                            <a:xfrm>
                              <a:off x="8050320" y="4422600"/>
                              <a:ext cx="565200" cy="58680"/>
                              <a:chOff x="8050320" y="4422600"/>
                              <a:chExt cx="565200" cy="58680"/>
                            </a:xfrm>
                          </p:grpSpPr>
                          <p:sp>
                            <p:nvSpPr>
                              <p:cNvPr id="325" name=""/>
                              <p:cNvSpPr/>
                              <p:nvPr/>
                            </p:nvSpPr>
                            <p:spPr>
                              <a:xfrm>
                                <a:off x="8050320" y="4422600"/>
                                <a:ext cx="565200" cy="1800"/>
                              </a:xfrm>
                              <a:prstGeom prst="line">
                                <a:avLst/>
                              </a:prstGeom>
                              <a:ln w="111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5000" bIns="-450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26" name=""/>
                              <p:cNvSpPr/>
                              <p:nvPr/>
                            </p:nvSpPr>
                            <p:spPr>
                              <a:xfrm>
                                <a:off x="8050320" y="4451400"/>
                                <a:ext cx="565200" cy="1440"/>
                              </a:xfrm>
                              <a:prstGeom prst="line">
                                <a:avLst/>
                              </a:prstGeom>
                              <a:ln w="111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5360" bIns="-453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27" name=""/>
                              <p:cNvSpPr/>
                              <p:nvPr/>
                            </p:nvSpPr>
                            <p:spPr>
                              <a:xfrm>
                                <a:off x="8050320" y="4479840"/>
                                <a:ext cx="565200" cy="1440"/>
                              </a:xfrm>
                              <a:prstGeom prst="line">
                                <a:avLst/>
                              </a:prstGeom>
                              <a:ln w="111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5360" bIns="-453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328" name=""/>
                            <p:cNvGrpSpPr/>
                            <p:nvPr/>
                          </p:nvGrpSpPr>
                          <p:grpSpPr>
                            <a:xfrm>
                              <a:off x="8050320" y="4522680"/>
                              <a:ext cx="566640" cy="58680"/>
                              <a:chOff x="8050320" y="4522680"/>
                              <a:chExt cx="566640" cy="58680"/>
                            </a:xfrm>
                          </p:grpSpPr>
                          <p:sp>
                            <p:nvSpPr>
                              <p:cNvPr id="329" name=""/>
                              <p:cNvSpPr/>
                              <p:nvPr/>
                            </p:nvSpPr>
                            <p:spPr>
                              <a:xfrm>
                                <a:off x="8051760" y="4522680"/>
                                <a:ext cx="565200" cy="1440"/>
                              </a:xfrm>
                              <a:prstGeom prst="line">
                                <a:avLst/>
                              </a:prstGeom>
                              <a:ln w="111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5360" bIns="-453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30" name=""/>
                              <p:cNvSpPr/>
                              <p:nvPr/>
                            </p:nvSpPr>
                            <p:spPr>
                              <a:xfrm>
                                <a:off x="8050320" y="4551120"/>
                                <a:ext cx="566640" cy="1800"/>
                              </a:xfrm>
                              <a:prstGeom prst="line">
                                <a:avLst/>
                              </a:prstGeom>
                              <a:ln w="111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5000" bIns="-450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31" name=""/>
                              <p:cNvSpPr/>
                              <p:nvPr/>
                            </p:nvSpPr>
                            <p:spPr>
                              <a:xfrm>
                                <a:off x="8051760" y="4579920"/>
                                <a:ext cx="565200" cy="1440"/>
                              </a:xfrm>
                              <a:prstGeom prst="line">
                                <a:avLst/>
                              </a:prstGeom>
                              <a:ln w="111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5360" bIns="-453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332" name=""/>
                          <p:cNvGrpSpPr/>
                          <p:nvPr/>
                        </p:nvGrpSpPr>
                        <p:grpSpPr>
                          <a:xfrm>
                            <a:off x="8050320" y="4624200"/>
                            <a:ext cx="539640" cy="79560"/>
                            <a:chOff x="8050320" y="4624200"/>
                            <a:chExt cx="539640" cy="79560"/>
                          </a:xfrm>
                        </p:grpSpPr>
                        <p:grpSp>
                          <p:nvGrpSpPr>
                            <p:cNvPr id="333" name=""/>
                            <p:cNvGrpSpPr/>
                            <p:nvPr/>
                          </p:nvGrpSpPr>
                          <p:grpSpPr>
                            <a:xfrm>
                              <a:off x="8050320" y="4624200"/>
                              <a:ext cx="201600" cy="77760"/>
                              <a:chOff x="8050320" y="4624200"/>
                              <a:chExt cx="201600" cy="77760"/>
                            </a:xfrm>
                          </p:grpSpPr>
                          <p:grpSp>
                            <p:nvGrpSpPr>
                              <p:cNvPr id="334" name=""/>
                              <p:cNvGrpSpPr/>
                              <p:nvPr/>
                            </p:nvGrpSpPr>
                            <p:grpSpPr>
                              <a:xfrm>
                                <a:off x="8050320" y="4626000"/>
                                <a:ext cx="85680" cy="75960"/>
                                <a:chOff x="8050320" y="4626000"/>
                                <a:chExt cx="85680" cy="75960"/>
                              </a:xfrm>
                            </p:grpSpPr>
                            <p:grpSp>
                              <p:nvGrpSpPr>
                                <p:cNvPr id="335" name=""/>
                                <p:cNvGrpSpPr/>
                                <p:nvPr/>
                              </p:nvGrpSpPr>
                              <p:grpSpPr>
                                <a:xfrm>
                                  <a:off x="8050320" y="4626000"/>
                                  <a:ext cx="28440" cy="75960"/>
                                  <a:chOff x="8050320" y="4626000"/>
                                  <a:chExt cx="28440" cy="75960"/>
                                </a:xfrm>
                              </p:grpSpPr>
                              <p:sp>
                                <p:nvSpPr>
                                  <p:cNvPr id="336" name=""/>
                                  <p:cNvSpPr/>
                                  <p:nvPr/>
                                </p:nvSpPr>
                                <p:spPr>
                                  <a:xfrm>
                                    <a:off x="8050320" y="4626000"/>
                                    <a:ext cx="1440" cy="74520"/>
                                  </a:xfrm>
                                  <a:prstGeom prst="line">
                                    <a:avLst/>
                                  </a:prstGeom>
                                  <a:ln w="111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27720" bIns="2772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337" name=""/>
                                  <p:cNvSpPr/>
                                  <p:nvPr/>
                                </p:nvSpPr>
                                <p:spPr>
                                  <a:xfrm>
                                    <a:off x="8077320" y="4627440"/>
                                    <a:ext cx="1440" cy="74520"/>
                                  </a:xfrm>
                                  <a:prstGeom prst="line">
                                    <a:avLst/>
                                  </a:prstGeom>
                                  <a:ln w="111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27720" bIns="2772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</p:grpSp>
                            <p:sp>
                              <p:nvSpPr>
                                <p:cNvPr id="338" name=""/>
                                <p:cNvSpPr/>
                                <p:nvPr/>
                              </p:nvSpPr>
                              <p:spPr>
                                <a:xfrm>
                                  <a:off x="8109000" y="4626000"/>
                                  <a:ext cx="1440" cy="74520"/>
                                </a:xfrm>
                                <a:prstGeom prst="line">
                                  <a:avLst/>
                                </a:prstGeom>
                                <a:ln w="111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27720" bIns="2772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39" name=""/>
                                <p:cNvSpPr/>
                                <p:nvPr/>
                              </p:nvSpPr>
                              <p:spPr>
                                <a:xfrm>
                                  <a:off x="8134200" y="4626000"/>
                                  <a:ext cx="1800" cy="74520"/>
                                </a:xfrm>
                                <a:prstGeom prst="line">
                                  <a:avLst/>
                                </a:prstGeom>
                                <a:ln w="111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27720" bIns="2772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340" name=""/>
                              <p:cNvGrpSpPr/>
                              <p:nvPr/>
                            </p:nvGrpSpPr>
                            <p:grpSpPr>
                              <a:xfrm>
                                <a:off x="8166240" y="4624200"/>
                                <a:ext cx="85680" cy="76320"/>
                                <a:chOff x="8166240" y="4624200"/>
                                <a:chExt cx="85680" cy="76320"/>
                              </a:xfrm>
                            </p:grpSpPr>
                            <p:grpSp>
                              <p:nvGrpSpPr>
                                <p:cNvPr id="341" name=""/>
                                <p:cNvGrpSpPr/>
                                <p:nvPr/>
                              </p:nvGrpSpPr>
                              <p:grpSpPr>
                                <a:xfrm>
                                  <a:off x="8166240" y="4624200"/>
                                  <a:ext cx="27000" cy="76320"/>
                                  <a:chOff x="8166240" y="4624200"/>
                                  <a:chExt cx="27000" cy="76320"/>
                                </a:xfrm>
                              </p:grpSpPr>
                              <p:sp>
                                <p:nvSpPr>
                                  <p:cNvPr id="342" name=""/>
                                  <p:cNvSpPr/>
                                  <p:nvPr/>
                                </p:nvSpPr>
                                <p:spPr>
                                  <a:xfrm>
                                    <a:off x="8166240" y="4624200"/>
                                    <a:ext cx="1440" cy="74520"/>
                                  </a:xfrm>
                                  <a:prstGeom prst="line">
                                    <a:avLst/>
                                  </a:prstGeom>
                                  <a:ln w="111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27720" bIns="2772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343" name=""/>
                                  <p:cNvSpPr/>
                                  <p:nvPr/>
                                </p:nvSpPr>
                                <p:spPr>
                                  <a:xfrm>
                                    <a:off x="8191440" y="4626000"/>
                                    <a:ext cx="1800" cy="74520"/>
                                  </a:xfrm>
                                  <a:prstGeom prst="line">
                                    <a:avLst/>
                                  </a:prstGeom>
                                  <a:ln w="111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27720" bIns="2772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</p:grpSp>
                            <p:sp>
                              <p:nvSpPr>
                                <p:cNvPr id="344" name=""/>
                                <p:cNvSpPr/>
                                <p:nvPr/>
                              </p:nvSpPr>
                              <p:spPr>
                                <a:xfrm>
                                  <a:off x="8223120" y="4624200"/>
                                  <a:ext cx="1800" cy="74520"/>
                                </a:xfrm>
                                <a:prstGeom prst="line">
                                  <a:avLst/>
                                </a:prstGeom>
                                <a:ln w="111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27720" bIns="2772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45" name=""/>
                                <p:cNvSpPr/>
                                <p:nvPr/>
                              </p:nvSpPr>
                              <p:spPr>
                                <a:xfrm>
                                  <a:off x="8250120" y="4624200"/>
                                  <a:ext cx="1800" cy="74520"/>
                                </a:xfrm>
                                <a:prstGeom prst="line">
                                  <a:avLst/>
                                </a:prstGeom>
                                <a:ln w="111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27720" bIns="2772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  <p:grpSp>
                          <p:nvGrpSpPr>
                            <p:cNvPr id="346" name=""/>
                            <p:cNvGrpSpPr/>
                            <p:nvPr/>
                          </p:nvGrpSpPr>
                          <p:grpSpPr>
                            <a:xfrm>
                              <a:off x="8278920" y="4626000"/>
                              <a:ext cx="199800" cy="77760"/>
                              <a:chOff x="8278920" y="4626000"/>
                              <a:chExt cx="199800" cy="77760"/>
                            </a:xfrm>
                          </p:grpSpPr>
                          <p:grpSp>
                            <p:nvGrpSpPr>
                              <p:cNvPr id="347" name=""/>
                              <p:cNvGrpSpPr/>
                              <p:nvPr/>
                            </p:nvGrpSpPr>
                            <p:grpSpPr>
                              <a:xfrm>
                                <a:off x="8278920" y="4627440"/>
                                <a:ext cx="85680" cy="76320"/>
                                <a:chOff x="8278920" y="4627440"/>
                                <a:chExt cx="85680" cy="76320"/>
                              </a:xfrm>
                            </p:grpSpPr>
                            <p:grpSp>
                              <p:nvGrpSpPr>
                                <p:cNvPr id="348" name=""/>
                                <p:cNvGrpSpPr/>
                                <p:nvPr/>
                              </p:nvGrpSpPr>
                              <p:grpSpPr>
                                <a:xfrm>
                                  <a:off x="8278920" y="4627440"/>
                                  <a:ext cx="27000" cy="76320"/>
                                  <a:chOff x="8278920" y="4627440"/>
                                  <a:chExt cx="27000" cy="76320"/>
                                </a:xfrm>
                              </p:grpSpPr>
                              <p:sp>
                                <p:nvSpPr>
                                  <p:cNvPr id="349" name=""/>
                                  <p:cNvSpPr/>
                                  <p:nvPr/>
                                </p:nvSpPr>
                                <p:spPr>
                                  <a:xfrm>
                                    <a:off x="8278920" y="4627440"/>
                                    <a:ext cx="1440" cy="74520"/>
                                  </a:xfrm>
                                  <a:prstGeom prst="line">
                                    <a:avLst/>
                                  </a:prstGeom>
                                  <a:ln w="111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27720" bIns="2772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350" name=""/>
                                  <p:cNvSpPr/>
                                  <p:nvPr/>
                                </p:nvSpPr>
                                <p:spPr>
                                  <a:xfrm>
                                    <a:off x="8304120" y="4628880"/>
                                    <a:ext cx="1800" cy="74880"/>
                                  </a:xfrm>
                                  <a:prstGeom prst="line">
                                    <a:avLst/>
                                  </a:prstGeom>
                                  <a:ln w="111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28080" bIns="2808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</p:grpSp>
                            <p:sp>
                              <p:nvSpPr>
                                <p:cNvPr id="351" name=""/>
                                <p:cNvSpPr/>
                                <p:nvPr/>
                              </p:nvSpPr>
                              <p:spPr>
                                <a:xfrm>
                                  <a:off x="8335800" y="4627440"/>
                                  <a:ext cx="1800" cy="74520"/>
                                </a:xfrm>
                                <a:prstGeom prst="line">
                                  <a:avLst/>
                                </a:prstGeom>
                                <a:ln w="111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27720" bIns="2772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52" name=""/>
                                <p:cNvSpPr/>
                                <p:nvPr/>
                              </p:nvSpPr>
                              <p:spPr>
                                <a:xfrm>
                                  <a:off x="8362800" y="4627440"/>
                                  <a:ext cx="1800" cy="74520"/>
                                </a:xfrm>
                                <a:prstGeom prst="line">
                                  <a:avLst/>
                                </a:prstGeom>
                                <a:ln w="111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27720" bIns="2772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353" name=""/>
                              <p:cNvGrpSpPr/>
                              <p:nvPr/>
                            </p:nvGrpSpPr>
                            <p:grpSpPr>
                              <a:xfrm>
                                <a:off x="8393040" y="4626000"/>
                                <a:ext cx="85680" cy="75960"/>
                                <a:chOff x="8393040" y="4626000"/>
                                <a:chExt cx="85680" cy="75960"/>
                              </a:xfrm>
                            </p:grpSpPr>
                            <p:grpSp>
                              <p:nvGrpSpPr>
                                <p:cNvPr id="354" name=""/>
                                <p:cNvGrpSpPr/>
                                <p:nvPr/>
                              </p:nvGrpSpPr>
                              <p:grpSpPr>
                                <a:xfrm>
                                  <a:off x="8393040" y="4626000"/>
                                  <a:ext cx="28800" cy="75960"/>
                                  <a:chOff x="8393040" y="4626000"/>
                                  <a:chExt cx="28800" cy="75960"/>
                                </a:xfrm>
                              </p:grpSpPr>
                              <p:sp>
                                <p:nvSpPr>
                                  <p:cNvPr id="355" name=""/>
                                  <p:cNvSpPr/>
                                  <p:nvPr/>
                                </p:nvSpPr>
                                <p:spPr>
                                  <a:xfrm>
                                    <a:off x="8393040" y="4626000"/>
                                    <a:ext cx="1800" cy="74520"/>
                                  </a:xfrm>
                                  <a:prstGeom prst="line">
                                    <a:avLst/>
                                  </a:prstGeom>
                                  <a:ln w="111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27720" bIns="2772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356" name=""/>
                                  <p:cNvSpPr/>
                                  <p:nvPr/>
                                </p:nvSpPr>
                                <p:spPr>
                                  <a:xfrm>
                                    <a:off x="8420040" y="4627440"/>
                                    <a:ext cx="1800" cy="74520"/>
                                  </a:xfrm>
                                  <a:prstGeom prst="line">
                                    <a:avLst/>
                                  </a:prstGeom>
                                  <a:ln w="111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27720" bIns="2772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</p:grpSp>
                            <p:sp>
                              <p:nvSpPr>
                                <p:cNvPr id="357" name=""/>
                                <p:cNvSpPr/>
                                <p:nvPr/>
                              </p:nvSpPr>
                              <p:spPr>
                                <a:xfrm>
                                  <a:off x="8451720" y="4626000"/>
                                  <a:ext cx="1800" cy="74520"/>
                                </a:xfrm>
                                <a:prstGeom prst="line">
                                  <a:avLst/>
                                </a:prstGeom>
                                <a:ln w="111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27720" bIns="2772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58" name=""/>
                                <p:cNvSpPr/>
                                <p:nvPr/>
                              </p:nvSpPr>
                              <p:spPr>
                                <a:xfrm>
                                  <a:off x="8477280" y="4626000"/>
                                  <a:ext cx="1440" cy="74520"/>
                                </a:xfrm>
                                <a:prstGeom prst="line">
                                  <a:avLst/>
                                </a:prstGeom>
                                <a:ln w="111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27720" bIns="2772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  <p:grpSp>
                          <p:nvGrpSpPr>
                            <p:cNvPr id="359" name=""/>
                            <p:cNvGrpSpPr/>
                            <p:nvPr/>
                          </p:nvGrpSpPr>
                          <p:grpSpPr>
                            <a:xfrm>
                              <a:off x="8504280" y="4626000"/>
                              <a:ext cx="85680" cy="75960"/>
                              <a:chOff x="8504280" y="4626000"/>
                              <a:chExt cx="85680" cy="75960"/>
                            </a:xfrm>
                          </p:grpSpPr>
                          <p:grpSp>
                            <p:nvGrpSpPr>
                              <p:cNvPr id="360" name=""/>
                              <p:cNvGrpSpPr/>
                              <p:nvPr/>
                            </p:nvGrpSpPr>
                            <p:grpSpPr>
                              <a:xfrm>
                                <a:off x="8504280" y="4626000"/>
                                <a:ext cx="28440" cy="75960"/>
                                <a:chOff x="8504280" y="4626000"/>
                                <a:chExt cx="28440" cy="75960"/>
                              </a:xfrm>
                            </p:grpSpPr>
                            <p:sp>
                              <p:nvSpPr>
                                <p:cNvPr id="361" name=""/>
                                <p:cNvSpPr/>
                                <p:nvPr/>
                              </p:nvSpPr>
                              <p:spPr>
                                <a:xfrm>
                                  <a:off x="8504280" y="4626000"/>
                                  <a:ext cx="1440" cy="74520"/>
                                </a:xfrm>
                                <a:prstGeom prst="line">
                                  <a:avLst/>
                                </a:prstGeom>
                                <a:ln w="111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27720" bIns="2772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62" name=""/>
                                <p:cNvSpPr/>
                                <p:nvPr/>
                              </p:nvSpPr>
                              <p:spPr>
                                <a:xfrm>
                                  <a:off x="8531280" y="4627440"/>
                                  <a:ext cx="1440" cy="74520"/>
                                </a:xfrm>
                                <a:prstGeom prst="line">
                                  <a:avLst/>
                                </a:prstGeom>
                                <a:ln w="111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27720" bIns="2772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sp>
                            <p:nvSpPr>
                              <p:cNvPr id="363" name=""/>
                              <p:cNvSpPr/>
                              <p:nvPr/>
                            </p:nvSpPr>
                            <p:spPr>
                              <a:xfrm>
                                <a:off x="8562960" y="4626000"/>
                                <a:ext cx="1440" cy="74520"/>
                              </a:xfrm>
                              <a:prstGeom prst="line">
                                <a:avLst/>
                              </a:prstGeom>
                              <a:ln w="111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27720" bIns="2772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64" name=""/>
                              <p:cNvSpPr/>
                              <p:nvPr/>
                            </p:nvSpPr>
                            <p:spPr>
                              <a:xfrm>
                                <a:off x="8588520" y="4626000"/>
                                <a:ext cx="1440" cy="74520"/>
                              </a:xfrm>
                              <a:prstGeom prst="line">
                                <a:avLst/>
                              </a:prstGeom>
                              <a:ln w="111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27720" bIns="2772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</p:grpSp>
                  <p:sp>
                    <p:nvSpPr>
                      <p:cNvPr id="365" name=""/>
                      <p:cNvSpPr/>
                      <p:nvPr/>
                    </p:nvSpPr>
                    <p:spPr>
                      <a:xfrm>
                        <a:off x="8042400" y="4367160"/>
                        <a:ext cx="487080" cy="19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5" h="12">
                            <a:moveTo>
                              <a:pt x="615" y="12"/>
                            </a:moveTo>
                            <a:lnTo>
                              <a:pt x="0" y="12"/>
                            </a:lnTo>
                            <a:lnTo>
                              <a:pt x="0" y="0"/>
                            </a:lnTo>
                            <a:lnTo>
                              <a:pt x="613" y="0"/>
                            </a:lnTo>
                            <a:lnTo>
                              <a:pt x="615" y="12"/>
                            </a:lnTo>
                            <a:close/>
                          </a:path>
                        </a:pathLst>
                      </a:custGeom>
                      <a:solidFill>
                        <a:srgbClr val="3f3f3f"/>
                      </a:solidFill>
                      <a:ln w="111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720" bIns="-27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66" name=""/>
                    <p:cNvGrpSpPr/>
                    <p:nvPr/>
                  </p:nvGrpSpPr>
                  <p:grpSpPr>
                    <a:xfrm>
                      <a:off x="7999560" y="3965400"/>
                      <a:ext cx="560160" cy="412920"/>
                      <a:chOff x="7999560" y="3965400"/>
                      <a:chExt cx="560160" cy="412920"/>
                    </a:xfrm>
                  </p:grpSpPr>
                  <p:grpSp>
                    <p:nvGrpSpPr>
                      <p:cNvPr id="367" name=""/>
                      <p:cNvGrpSpPr/>
                      <p:nvPr/>
                    </p:nvGrpSpPr>
                    <p:grpSpPr>
                      <a:xfrm>
                        <a:off x="8178840" y="4005000"/>
                        <a:ext cx="380880" cy="358920"/>
                        <a:chOff x="8178840" y="4005000"/>
                        <a:chExt cx="380880" cy="358920"/>
                      </a:xfrm>
                    </p:grpSpPr>
                    <p:sp>
                      <p:nvSpPr>
                        <p:cNvPr id="368" name=""/>
                        <p:cNvSpPr/>
                        <p:nvPr/>
                      </p:nvSpPr>
                      <p:spPr>
                        <a:xfrm>
                          <a:off x="8178840" y="4005000"/>
                          <a:ext cx="380880" cy="358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80" h="226">
                              <a:moveTo>
                                <a:pt x="0" y="226"/>
                              </a:moveTo>
                              <a:lnTo>
                                <a:pt x="460" y="226"/>
                              </a:lnTo>
                              <a:lnTo>
                                <a:pt x="473" y="220"/>
                              </a:lnTo>
                              <a:lnTo>
                                <a:pt x="480" y="206"/>
                              </a:lnTo>
                              <a:lnTo>
                                <a:pt x="480" y="21"/>
                              </a:lnTo>
                              <a:lnTo>
                                <a:pt x="477" y="6"/>
                              </a:lnTo>
                              <a:lnTo>
                                <a:pt x="463" y="0"/>
                              </a:lnTo>
                              <a:lnTo>
                                <a:pt x="0" y="0"/>
                              </a:lnTo>
                              <a:lnTo>
                                <a:pt x="0" y="226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0c0c0"/>
                        </a:solidFill>
                        <a:ln w="111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369" name=""/>
                        <p:cNvGrpSpPr/>
                        <p:nvPr/>
                      </p:nvGrpSpPr>
                      <p:grpSpPr>
                        <a:xfrm>
                          <a:off x="8199360" y="4035240"/>
                          <a:ext cx="349200" cy="261720"/>
                          <a:chOff x="8199360" y="4035240"/>
                          <a:chExt cx="349200" cy="261720"/>
                        </a:xfrm>
                      </p:grpSpPr>
                      <p:grpSp>
                        <p:nvGrpSpPr>
                          <p:cNvPr id="370" name=""/>
                          <p:cNvGrpSpPr/>
                          <p:nvPr/>
                        </p:nvGrpSpPr>
                        <p:grpSpPr>
                          <a:xfrm>
                            <a:off x="8199360" y="4035240"/>
                            <a:ext cx="349200" cy="69840"/>
                            <a:chOff x="8199360" y="4035240"/>
                            <a:chExt cx="349200" cy="69840"/>
                          </a:xfrm>
                        </p:grpSpPr>
                        <p:grpSp>
                          <p:nvGrpSpPr>
                            <p:cNvPr id="371" name=""/>
                            <p:cNvGrpSpPr/>
                            <p:nvPr/>
                          </p:nvGrpSpPr>
                          <p:grpSpPr>
                            <a:xfrm>
                              <a:off x="8199360" y="4035240"/>
                              <a:ext cx="349200" cy="23760"/>
                              <a:chOff x="8199360" y="4035240"/>
                              <a:chExt cx="349200" cy="23760"/>
                            </a:xfrm>
                          </p:grpSpPr>
                          <p:sp>
                            <p:nvSpPr>
                              <p:cNvPr id="372" name=""/>
                              <p:cNvSpPr/>
                              <p:nvPr/>
                            </p:nvSpPr>
                            <p:spPr>
                              <a:xfrm>
                                <a:off x="8199360" y="4035240"/>
                                <a:ext cx="347760" cy="1800"/>
                              </a:xfrm>
                              <a:prstGeom prst="line">
                                <a:avLst/>
                              </a:prstGeom>
                              <a:ln w="111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5000" bIns="-450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73" name=""/>
                              <p:cNvSpPr/>
                              <p:nvPr/>
                            </p:nvSpPr>
                            <p:spPr>
                              <a:xfrm flipV="1">
                                <a:off x="8199360" y="4056120"/>
                                <a:ext cx="349200" cy="2880"/>
                              </a:xfrm>
                              <a:prstGeom prst="line">
                                <a:avLst/>
                              </a:prstGeom>
                              <a:ln w="111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3920" bIns="-4392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374" name=""/>
                            <p:cNvGrpSpPr/>
                            <p:nvPr/>
                          </p:nvGrpSpPr>
                          <p:grpSpPr>
                            <a:xfrm>
                              <a:off x="8199360" y="4082760"/>
                              <a:ext cx="349200" cy="22320"/>
                              <a:chOff x="8199360" y="4082760"/>
                              <a:chExt cx="349200" cy="22320"/>
                            </a:xfrm>
                          </p:grpSpPr>
                          <p:sp>
                            <p:nvSpPr>
                              <p:cNvPr id="375" name=""/>
                              <p:cNvSpPr/>
                              <p:nvPr/>
                            </p:nvSpPr>
                            <p:spPr>
                              <a:xfrm>
                                <a:off x="8199360" y="4082760"/>
                                <a:ext cx="347760" cy="1800"/>
                              </a:xfrm>
                              <a:prstGeom prst="line">
                                <a:avLst/>
                              </a:prstGeom>
                              <a:ln w="111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5000" bIns="-450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76" name=""/>
                              <p:cNvSpPr/>
                              <p:nvPr/>
                            </p:nvSpPr>
                            <p:spPr>
                              <a:xfrm flipV="1">
                                <a:off x="8199360" y="4103640"/>
                                <a:ext cx="349200" cy="1440"/>
                              </a:xfrm>
                              <a:prstGeom prst="line">
                                <a:avLst/>
                              </a:prstGeom>
                              <a:ln w="111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5360" bIns="-453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377" name=""/>
                          <p:cNvGrpSpPr/>
                          <p:nvPr/>
                        </p:nvGrpSpPr>
                        <p:grpSpPr>
                          <a:xfrm>
                            <a:off x="8199360" y="4130640"/>
                            <a:ext cx="349200" cy="72720"/>
                            <a:chOff x="8199360" y="4130640"/>
                            <a:chExt cx="349200" cy="72720"/>
                          </a:xfrm>
                        </p:grpSpPr>
                        <p:grpSp>
                          <p:nvGrpSpPr>
                            <p:cNvPr id="378" name=""/>
                            <p:cNvGrpSpPr/>
                            <p:nvPr/>
                          </p:nvGrpSpPr>
                          <p:grpSpPr>
                            <a:xfrm>
                              <a:off x="8199360" y="4130640"/>
                              <a:ext cx="349200" cy="23760"/>
                              <a:chOff x="8199360" y="4130640"/>
                              <a:chExt cx="349200" cy="23760"/>
                            </a:xfrm>
                          </p:grpSpPr>
                          <p:sp>
                            <p:nvSpPr>
                              <p:cNvPr id="379" name=""/>
                              <p:cNvSpPr/>
                              <p:nvPr/>
                            </p:nvSpPr>
                            <p:spPr>
                              <a:xfrm>
                                <a:off x="8199360" y="4130640"/>
                                <a:ext cx="349200" cy="1440"/>
                              </a:xfrm>
                              <a:prstGeom prst="line">
                                <a:avLst/>
                              </a:prstGeom>
                              <a:ln w="111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5360" bIns="-453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80" name=""/>
                              <p:cNvSpPr/>
                              <p:nvPr/>
                            </p:nvSpPr>
                            <p:spPr>
                              <a:xfrm flipV="1">
                                <a:off x="8199360" y="4152960"/>
                                <a:ext cx="349200" cy="1440"/>
                              </a:xfrm>
                              <a:prstGeom prst="line">
                                <a:avLst/>
                              </a:prstGeom>
                              <a:ln w="111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5360" bIns="-453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381" name=""/>
                            <p:cNvGrpSpPr/>
                            <p:nvPr/>
                          </p:nvGrpSpPr>
                          <p:grpSpPr>
                            <a:xfrm>
                              <a:off x="8199360" y="4178160"/>
                              <a:ext cx="349200" cy="25200"/>
                              <a:chOff x="8199360" y="4178160"/>
                              <a:chExt cx="349200" cy="25200"/>
                            </a:xfrm>
                          </p:grpSpPr>
                          <p:sp>
                            <p:nvSpPr>
                              <p:cNvPr id="382" name=""/>
                              <p:cNvSpPr/>
                              <p:nvPr/>
                            </p:nvSpPr>
                            <p:spPr>
                              <a:xfrm>
                                <a:off x="8199360" y="4178160"/>
                                <a:ext cx="349200" cy="1440"/>
                              </a:xfrm>
                              <a:prstGeom prst="line">
                                <a:avLst/>
                              </a:prstGeom>
                              <a:ln w="111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5360" bIns="-453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83" name=""/>
                              <p:cNvSpPr/>
                              <p:nvPr/>
                            </p:nvSpPr>
                            <p:spPr>
                              <a:xfrm flipV="1">
                                <a:off x="8199360" y="4200120"/>
                                <a:ext cx="349200" cy="3240"/>
                              </a:xfrm>
                              <a:prstGeom prst="line">
                                <a:avLst/>
                              </a:prstGeom>
                              <a:ln w="111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3560" bIns="-435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384" name=""/>
                          <p:cNvGrpSpPr/>
                          <p:nvPr/>
                        </p:nvGrpSpPr>
                        <p:grpSpPr>
                          <a:xfrm>
                            <a:off x="8199360" y="4225680"/>
                            <a:ext cx="349200" cy="71280"/>
                            <a:chOff x="8199360" y="4225680"/>
                            <a:chExt cx="349200" cy="71280"/>
                          </a:xfrm>
                        </p:grpSpPr>
                        <p:grpSp>
                          <p:nvGrpSpPr>
                            <p:cNvPr id="385" name=""/>
                            <p:cNvGrpSpPr/>
                            <p:nvPr/>
                          </p:nvGrpSpPr>
                          <p:grpSpPr>
                            <a:xfrm>
                              <a:off x="8199360" y="4225680"/>
                              <a:ext cx="349200" cy="23760"/>
                              <a:chOff x="8199360" y="4225680"/>
                              <a:chExt cx="349200" cy="23760"/>
                            </a:xfrm>
                          </p:grpSpPr>
                          <p:sp>
                            <p:nvSpPr>
                              <p:cNvPr id="386" name=""/>
                              <p:cNvSpPr/>
                              <p:nvPr/>
                            </p:nvSpPr>
                            <p:spPr>
                              <a:xfrm>
                                <a:off x="8199360" y="4225680"/>
                                <a:ext cx="347760" cy="1800"/>
                              </a:xfrm>
                              <a:prstGeom prst="line">
                                <a:avLst/>
                              </a:prstGeom>
                              <a:ln w="111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5000" bIns="-450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87" name=""/>
                              <p:cNvSpPr/>
                              <p:nvPr/>
                            </p:nvSpPr>
                            <p:spPr>
                              <a:xfrm flipV="1">
                                <a:off x="8199360" y="4246560"/>
                                <a:ext cx="349200" cy="2880"/>
                              </a:xfrm>
                              <a:prstGeom prst="line">
                                <a:avLst/>
                              </a:prstGeom>
                              <a:ln w="111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3920" bIns="-4392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388" name=""/>
                            <p:cNvGrpSpPr/>
                            <p:nvPr/>
                          </p:nvGrpSpPr>
                          <p:grpSpPr>
                            <a:xfrm>
                              <a:off x="8199360" y="4275000"/>
                              <a:ext cx="349200" cy="21960"/>
                              <a:chOff x="8199360" y="4275000"/>
                              <a:chExt cx="349200" cy="21960"/>
                            </a:xfrm>
                          </p:grpSpPr>
                          <p:sp>
                            <p:nvSpPr>
                              <p:cNvPr id="389" name=""/>
                              <p:cNvSpPr/>
                              <p:nvPr/>
                            </p:nvSpPr>
                            <p:spPr>
                              <a:xfrm>
                                <a:off x="8199360" y="4275000"/>
                                <a:ext cx="347760" cy="1440"/>
                              </a:xfrm>
                              <a:prstGeom prst="line">
                                <a:avLst/>
                              </a:prstGeom>
                              <a:ln w="111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5360" bIns="-453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90" name=""/>
                              <p:cNvSpPr/>
                              <p:nvPr/>
                            </p:nvSpPr>
                            <p:spPr>
                              <a:xfrm flipV="1">
                                <a:off x="8199360" y="4295160"/>
                                <a:ext cx="349200" cy="1800"/>
                              </a:xfrm>
                              <a:prstGeom prst="line">
                                <a:avLst/>
                              </a:prstGeom>
                              <a:ln w="111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5000" bIns="-450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</p:grpSp>
                  <p:grpSp>
                    <p:nvGrpSpPr>
                      <p:cNvPr id="391" name=""/>
                      <p:cNvGrpSpPr/>
                      <p:nvPr/>
                    </p:nvGrpSpPr>
                    <p:grpSpPr>
                      <a:xfrm>
                        <a:off x="7999560" y="3965400"/>
                        <a:ext cx="177480" cy="412920"/>
                        <a:chOff x="7999560" y="3965400"/>
                        <a:chExt cx="177480" cy="412920"/>
                      </a:xfrm>
                    </p:grpSpPr>
                    <p:sp>
                      <p:nvSpPr>
                        <p:cNvPr id="392" name=""/>
                        <p:cNvSpPr/>
                        <p:nvPr/>
                      </p:nvSpPr>
                      <p:spPr>
                        <a:xfrm>
                          <a:off x="7999560" y="3965400"/>
                          <a:ext cx="177480" cy="397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22" h="250">
                              <a:moveTo>
                                <a:pt x="222" y="0"/>
                              </a:moveTo>
                              <a:lnTo>
                                <a:pt x="222" y="250"/>
                              </a:lnTo>
                              <a:lnTo>
                                <a:pt x="15" y="250"/>
                              </a:lnTo>
                              <a:lnTo>
                                <a:pt x="6" y="248"/>
                              </a:lnTo>
                              <a:lnTo>
                                <a:pt x="1" y="241"/>
                              </a:lnTo>
                              <a:lnTo>
                                <a:pt x="0" y="234"/>
                              </a:lnTo>
                              <a:lnTo>
                                <a:pt x="0" y="14"/>
                              </a:lnTo>
                              <a:lnTo>
                                <a:pt x="3" y="7"/>
                              </a:lnTo>
                              <a:lnTo>
                                <a:pt x="10" y="1"/>
                              </a:lnTo>
                              <a:lnTo>
                                <a:pt x="19" y="0"/>
                              </a:lnTo>
                              <a:lnTo>
                                <a:pt x="222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0c0c0"/>
                        </a:solidFill>
                        <a:ln w="111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93" name=""/>
                        <p:cNvSpPr/>
                        <p:nvPr/>
                      </p:nvSpPr>
                      <p:spPr>
                        <a:xfrm>
                          <a:off x="8150400" y="3968640"/>
                          <a:ext cx="1440" cy="409680"/>
                        </a:xfrm>
                        <a:prstGeom prst="line">
                          <a:avLst/>
                        </a:prstGeom>
                        <a:ln w="111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</p:grpSp>
          </p:grpSp>
        </p:grpSp>
      </p:grpSp>
    </p:spTree>
  </p:cSld>
  <p:transition>
    <p:pull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0000"/>
                </a:solidFill>
                <a:latin typeface="Times New Roman"/>
              </a:rPr>
              <a:t>LSCPA</a:t>
            </a:r>
            <a:r>
              <a:rPr b="1" lang="zh-TW" sz="4400" spc="-1" strike="noStrike">
                <a:solidFill>
                  <a:srgbClr val="ff0000"/>
                </a:solidFill>
                <a:latin typeface="Times New Roman"/>
              </a:rPr>
              <a:t>運用例子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5" name=""/>
          <p:cNvGraphicFramePr/>
          <p:nvPr/>
        </p:nvGraphicFramePr>
        <p:xfrm>
          <a:off x="685800" y="1219320"/>
          <a:ext cx="7772400" cy="5083200"/>
        </p:xfrm>
        <a:graphic>
          <a:graphicData uri="http://schemas.openxmlformats.org/drawingml/2006/table">
            <a:tbl>
              <a:tblPr/>
              <a:tblGrid>
                <a:gridCol w="609480"/>
                <a:gridCol w="7162920"/>
              </a:tblGrid>
              <a:tr h="5875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SimSun"/>
                          <a:ea typeface="SimSun"/>
                        </a:rPr>
                        <a:t>客户：我很忙，没有时间去听课。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SimSun"/>
                          <a:ea typeface="SimSun"/>
                        </a:rPr>
                        <a:t>不要插嘴，要等客户说完，并不要反问客户</a:t>
                      </a:r>
                      <a:r>
                        <a:rPr b="1" lang="zh-TW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SimSun"/>
                          <a:ea typeface="SimSun"/>
                        </a:rPr>
                        <a:t>当然了，以张总的位置，每天都要处理那么多事情，忙是很自然的！</a:t>
                      </a:r>
                      <a:r>
                        <a:rPr b="1" lang="zh-TW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SimSun"/>
                          <a:ea typeface="SimSun"/>
                        </a:rPr>
                        <a:t>除了时间外，还有没有其它原因是张总未能来的？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161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SimSun"/>
                          <a:ea typeface="SimSun"/>
                        </a:rPr>
                        <a:t>其实张总，以前我有很多客户都是因为太忙而未来用点时间去了解电子商务；但当他们听了我们公司的电子商务培训后，都觉得很有兴趣，而且对他们了解市场发展有很大的帮助，反正都不是用他们太多的时间。现在他们很多都经常打电话给我，要我早点通知他们最新的培训时间表。</a:t>
                      </a:r>
                      <a:r>
                        <a:rPr b="1" lang="zh-TW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SimSun"/>
                          <a:ea typeface="SimSun"/>
                        </a:rPr>
                        <a:t>这样吧张总，我们下个月还有二期电子商务培训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SimSun"/>
                          <a:ea typeface="Times New Roman"/>
                        </a:rPr>
                        <a:t>有位置</a:t>
                      </a:r>
                      <a:r>
                        <a:rPr b="1" lang="zh-TW" sz="2000" spc="-1" strike="noStrike">
                          <a:solidFill>
                            <a:srgbClr val="000000"/>
                          </a:solidFill>
                          <a:latin typeface="SimSun"/>
                        </a:rPr>
                        <a:t> 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SimSun"/>
                          <a:ea typeface="SimSun"/>
                        </a:rPr>
                        <a:t>，时间分别是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……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SimSun"/>
                          <a:ea typeface="SimSun"/>
                        </a:rPr>
                        <a:t>您现在留下一些资料给我，等我先帮您预订位置，到时才打电话联系您，那么您的手机号是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…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SimSun"/>
                <a:ea typeface="SimSun"/>
              </a:rPr>
              <a:t>完成课程后，你应该能学习怎样</a:t>
            </a:r>
            <a:r>
              <a:rPr b="1" lang="zh-TW" sz="4000" spc="-1" strike="noStrike">
                <a:solidFill>
                  <a:srgbClr val="ff0000"/>
                </a:solidFill>
                <a:latin typeface="Times New Roman"/>
                <a:ea typeface="標楷體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SimSu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SimSun"/>
                <a:ea typeface="SimSun"/>
              </a:rPr>
              <a:t>掌握有效的电话沟通技巧</a:t>
            </a:r>
            <a:r>
              <a:rPr b="1" lang="zh-TW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SimSu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SimSun"/>
                <a:ea typeface="SimSun"/>
              </a:rPr>
              <a:t>有效处理电话异议</a:t>
            </a:r>
            <a:r>
              <a:rPr b="1" lang="zh-TW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SimSu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SimSun"/>
                <a:ea typeface="SimSun"/>
              </a:rPr>
              <a:t>有系统的跟进客户</a:t>
            </a:r>
            <a:r>
              <a:rPr b="1" lang="zh-TW" sz="3600" spc="-1" strike="noStrike">
                <a:solidFill>
                  <a:srgbClr val="6600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410160" y="1771560"/>
            <a:ext cx="2733840" cy="50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380880" y="228600"/>
            <a:ext cx="6858000" cy="299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00ccff"/>
                  </a:solidFill>
                  <a:miter/>
                </a:ln>
                <a:gradFill rotWithShape="0">
                  <a:gsLst>
                    <a:gs pos="0">
                      <a:srgbClr val="ffebfa"/>
                    </a:gs>
                    <a:gs pos="100000">
                      <a:srgbClr val="5e9eff"/>
                    </a:gs>
                  </a:gsLst>
                  <a:lin ang="135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完结一个电话对话 </a:t>
            </a:r>
            <a:endParaRPr b="1" lang="en-US" sz="2400" spc="1" strike="noStrike">
              <a:ln w="12600">
                <a:solidFill>
                  <a:srgbClr val="00ccff"/>
                </a:solidFill>
                <a:miter/>
              </a:ln>
              <a:gradFill rotWithShape="0">
                <a:gsLst>
                  <a:gs pos="0">
                    <a:srgbClr val="ffebfa"/>
                  </a:gs>
                  <a:gs pos="100000">
                    <a:srgbClr val="5e9eff"/>
                  </a:gs>
                </a:gsLst>
                <a:lin ang="135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397" name="ISN250" descr=""/>
          <p:cNvPicPr/>
          <p:nvPr/>
        </p:nvPicPr>
        <p:blipFill>
          <a:blip r:embed="rId2"/>
          <a:stretch/>
        </p:blipFill>
        <p:spPr>
          <a:xfrm>
            <a:off x="6172200" y="3962520"/>
            <a:ext cx="2611440" cy="261432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/>
          <p:nvPr/>
        </p:nvSpPr>
        <p:spPr>
          <a:xfrm>
            <a:off x="6095880" y="2362320"/>
            <a:ext cx="1981440" cy="1143000"/>
          </a:xfrm>
          <a:prstGeom prst="cloudCallout">
            <a:avLst>
              <a:gd name="adj1" fmla="val 6731"/>
              <a:gd name="adj2" fmla="val 6069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934320" y="3200400"/>
            <a:ext cx="914400" cy="60948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477120" y="3505320"/>
            <a:ext cx="914400" cy="60948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7086600" y="2743200"/>
            <a:ext cx="914400" cy="609480"/>
          </a:xfrm>
          <a:prstGeom prst="cloudCallout">
            <a:avLst>
              <a:gd name="adj1" fmla="val -43750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029200" y="3429000"/>
            <a:ext cx="1523880" cy="762120"/>
          </a:xfrm>
          <a:prstGeom prst="cloudCallout">
            <a:avLst>
              <a:gd name="adj1" fmla="val 82708"/>
              <a:gd name="adj2" fmla="val 50833"/>
            </a:avLst>
          </a:prstGeom>
          <a:solidFill>
            <a:srgbClr val="33ccff"/>
          </a:solidFill>
          <a:ln w="93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SimSun"/>
                <a:ea typeface="SimSun"/>
              </a:rPr>
              <a:t>约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76176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SimSun"/>
                <a:ea typeface="SimSun"/>
              </a:rPr>
              <a:t>电话注意事项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Monotype Sort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ff"/>
                </a:solidFill>
                <a:latin typeface="SimSun"/>
                <a:ea typeface="SimSun"/>
              </a:rPr>
              <a:t>建立客户对你的信心</a:t>
            </a:r>
            <a:r>
              <a:rPr b="1" lang="zh-TW" sz="3200" spc="-1" strike="noStrike">
                <a:solidFill>
                  <a:srgbClr val="9933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Monotype Sort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ff"/>
                </a:solidFill>
                <a:latin typeface="SimSun"/>
                <a:ea typeface="SimSun"/>
              </a:rPr>
              <a:t>帮助客户了解他们的需求</a:t>
            </a:r>
            <a:r>
              <a:rPr b="1" lang="zh-TW" sz="3200" spc="-1" strike="noStrike">
                <a:solidFill>
                  <a:srgbClr val="9933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Monotype Sort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ff"/>
                </a:solidFill>
                <a:latin typeface="SimSun"/>
                <a:ea typeface="SimSun"/>
              </a:rPr>
              <a:t>简化你的对话内容</a:t>
            </a:r>
            <a:r>
              <a:rPr b="1" lang="zh-TW" sz="3200" spc="-1" strike="noStrike">
                <a:solidFill>
                  <a:srgbClr val="9933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Monotype Sort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ff"/>
                </a:solidFill>
                <a:latin typeface="SimSun"/>
                <a:ea typeface="SimSun"/>
              </a:rPr>
              <a:t>强调客户的利益</a:t>
            </a:r>
            <a:r>
              <a:rPr b="1" lang="zh-TW" sz="3200" spc="-1" strike="noStrike">
                <a:solidFill>
                  <a:srgbClr val="9933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Monotype Sort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ff"/>
                </a:solidFill>
                <a:latin typeface="SimSun"/>
                <a:ea typeface="SimSun"/>
              </a:rPr>
              <a:t>保持礼貌</a:t>
            </a:r>
            <a:r>
              <a:rPr b="1" lang="zh-TW" sz="3200" spc="-1" strike="noStrike">
                <a:solidFill>
                  <a:srgbClr val="9933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5" name="" descr=""/>
          <p:cNvPicPr/>
          <p:nvPr/>
        </p:nvPicPr>
        <p:blipFill>
          <a:blip r:embed="rId2"/>
          <a:stretch/>
        </p:blipFill>
        <p:spPr>
          <a:xfrm>
            <a:off x="5638680" y="5076720"/>
            <a:ext cx="2919600" cy="1781280"/>
          </a:xfrm>
          <a:prstGeom prst="rect">
            <a:avLst/>
          </a:prstGeom>
          <a:ln w="0">
            <a:noFill/>
          </a:ln>
        </p:spPr>
      </p:pic>
    </p:spTree>
  </p:cSld>
  <p:transition>
    <p:pull dir="l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838080" y="2057400"/>
            <a:ext cx="6782040" cy="27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角色扮演</a:t>
            </a:r>
            <a:endParaRPr b="1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blinds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SimSun"/>
                <a:ea typeface="SimSun"/>
              </a:rPr>
              <a:t>给予反馈响应</a:t>
            </a:r>
            <a:r>
              <a:rPr b="1" lang="zh-TW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43040" indent="-743040">
              <a:lnSpc>
                <a:spcPct val="100000"/>
              </a:lnSpc>
              <a:spcBef>
                <a:spcPts val="901"/>
              </a:spcBef>
              <a:buClr>
                <a:srgbClr val="996633"/>
              </a:buClr>
              <a:buSzPct val="85000"/>
              <a:buFont typeface="Webdings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3300"/>
                </a:solidFill>
                <a:latin typeface="SimSun"/>
                <a:ea typeface="SimSun"/>
              </a:rPr>
              <a:t>客观及正面字眼</a:t>
            </a:r>
            <a:r>
              <a:rPr b="1" lang="zh-TW" sz="3600" spc="-1" strike="noStrike">
                <a:solidFill>
                  <a:srgbClr val="6633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lnSpc>
                <a:spcPct val="100000"/>
              </a:lnSpc>
              <a:spcBef>
                <a:spcPts val="901"/>
              </a:spcBef>
              <a:buClr>
                <a:srgbClr val="996633"/>
              </a:buClr>
              <a:buSzPct val="85000"/>
              <a:buFont typeface="Webdings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3300"/>
                </a:solidFill>
                <a:latin typeface="SimSun"/>
                <a:ea typeface="SimSun"/>
              </a:rPr>
              <a:t>详细</a:t>
            </a:r>
            <a:r>
              <a:rPr b="1" lang="zh-TW" sz="3600" spc="-1" strike="noStrike">
                <a:solidFill>
                  <a:srgbClr val="6633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lnSpc>
                <a:spcPct val="100000"/>
              </a:lnSpc>
              <a:spcBef>
                <a:spcPts val="901"/>
              </a:spcBef>
              <a:buClr>
                <a:srgbClr val="996633"/>
              </a:buClr>
              <a:buSzPct val="85000"/>
              <a:buFont typeface="Webdings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3300"/>
                </a:solidFill>
                <a:latin typeface="SimSun"/>
                <a:ea typeface="SimSun"/>
              </a:rPr>
              <a:t>先说出优点</a:t>
            </a:r>
            <a:r>
              <a:rPr b="1" lang="zh-TW" sz="3600" spc="-1" strike="noStrike">
                <a:solidFill>
                  <a:srgbClr val="6633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lnSpc>
                <a:spcPct val="100000"/>
              </a:lnSpc>
              <a:spcBef>
                <a:spcPts val="799"/>
              </a:spcBef>
              <a:buClr>
                <a:srgbClr val="996633"/>
              </a:buClr>
              <a:buSzPct val="85000"/>
              <a:buFont typeface="Webdings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3300"/>
                </a:solidFill>
                <a:latin typeface="SimSun"/>
                <a:ea typeface="SimSun"/>
              </a:rPr>
              <a:t>给予改善建议</a:t>
            </a:r>
            <a:r>
              <a:rPr b="1" lang="zh-TW" sz="3200" spc="-1" strike="noStrike">
                <a:solidFill>
                  <a:srgbClr val="6633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5105520" y="2286000"/>
            <a:ext cx="3767040" cy="3625560"/>
            <a:chOff x="5105520" y="2286000"/>
            <a:chExt cx="3767040" cy="3625560"/>
          </a:xfrm>
        </p:grpSpPr>
        <p:grpSp>
          <p:nvGrpSpPr>
            <p:cNvPr id="410" name=""/>
            <p:cNvGrpSpPr/>
            <p:nvPr/>
          </p:nvGrpSpPr>
          <p:grpSpPr>
            <a:xfrm>
              <a:off x="6137280" y="2286000"/>
              <a:ext cx="1916640" cy="2311920"/>
              <a:chOff x="6137280" y="2286000"/>
              <a:chExt cx="1916640" cy="2311920"/>
            </a:xfrm>
          </p:grpSpPr>
          <p:grpSp>
            <p:nvGrpSpPr>
              <p:cNvPr id="411" name=""/>
              <p:cNvGrpSpPr/>
              <p:nvPr/>
            </p:nvGrpSpPr>
            <p:grpSpPr>
              <a:xfrm>
                <a:off x="6137280" y="4323960"/>
                <a:ext cx="1523520" cy="273960"/>
                <a:chOff x="6137280" y="4323960"/>
                <a:chExt cx="1523520" cy="273960"/>
              </a:xfrm>
            </p:grpSpPr>
            <p:grpSp>
              <p:nvGrpSpPr>
                <p:cNvPr id="412" name=""/>
                <p:cNvGrpSpPr/>
                <p:nvPr/>
              </p:nvGrpSpPr>
              <p:grpSpPr>
                <a:xfrm>
                  <a:off x="7529760" y="4323960"/>
                  <a:ext cx="131040" cy="244080"/>
                  <a:chOff x="7529760" y="4323960"/>
                  <a:chExt cx="131040" cy="244080"/>
                </a:xfrm>
              </p:grpSpPr>
              <p:sp>
                <p:nvSpPr>
                  <p:cNvPr id="413" name=""/>
                  <p:cNvSpPr/>
                  <p:nvPr/>
                </p:nvSpPr>
                <p:spPr>
                  <a:xfrm>
                    <a:off x="7529760" y="4324680"/>
                    <a:ext cx="84960" cy="2433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3699" y="396"/>
                        </a:moveTo>
                        <a:arcTo wR="10800" hR="10800" stAng="-4465850" swAng="879228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3699" y="396"/>
                        </a:moveTo>
                        <a:arcTo wR="10800" hR="10800" stAng="-4465850" swAng="8792286"/>
                      </a:path>
                    </a:pathLst>
                  </a:custGeom>
                  <a:noFill/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4" name=""/>
                  <p:cNvSpPr/>
                  <p:nvPr/>
                </p:nvSpPr>
                <p:spPr>
                  <a:xfrm>
                    <a:off x="7575840" y="4323960"/>
                    <a:ext cx="84960" cy="2430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658" y="1727"/>
                        </a:moveTo>
                        <a:arcTo wR="10800" hR="10800" stAng="-3428975" swAng="678076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658" y="1727"/>
                        </a:moveTo>
                        <a:arcTo wR="10800" hR="10800" stAng="-3428975" swAng="6780768"/>
                      </a:path>
                    </a:pathLst>
                  </a:custGeom>
                  <a:noFill/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15" name=""/>
                <p:cNvGrpSpPr/>
                <p:nvPr/>
              </p:nvGrpSpPr>
              <p:grpSpPr>
                <a:xfrm>
                  <a:off x="6137280" y="4353120"/>
                  <a:ext cx="131040" cy="244800"/>
                  <a:chOff x="6137280" y="4353120"/>
                  <a:chExt cx="131040" cy="244800"/>
                </a:xfrm>
              </p:grpSpPr>
              <p:sp>
                <p:nvSpPr>
                  <p:cNvPr id="416" name=""/>
                  <p:cNvSpPr/>
                  <p:nvPr/>
                </p:nvSpPr>
                <p:spPr>
                  <a:xfrm>
                    <a:off x="6183360" y="4353840"/>
                    <a:ext cx="8496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7578" y="21108"/>
                        </a:moveTo>
                        <a:arcTo wR="10800" hR="10800" stAng="6441341" swAng="8852823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7578" y="21108"/>
                        </a:moveTo>
                        <a:arcTo wR="10800" hR="10800" stAng="6441341" swAng="8852823"/>
                      </a:path>
                    </a:pathLst>
                  </a:custGeom>
                  <a:noFill/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7" name=""/>
                  <p:cNvSpPr/>
                  <p:nvPr/>
                </p:nvSpPr>
                <p:spPr>
                  <a:xfrm>
                    <a:off x="6137280" y="4353120"/>
                    <a:ext cx="84960" cy="2433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262" y="19397"/>
                        </a:moveTo>
                        <a:arcTo wR="10800" hR="10800" stAng="7635166" swAng="6462373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262" y="19397"/>
                        </a:moveTo>
                        <a:arcTo wR="10800" hR="10800" stAng="7635166" swAng="6462373"/>
                      </a:path>
                    </a:pathLst>
                  </a:custGeom>
                  <a:noFill/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18" name=""/>
              <p:cNvGrpSpPr/>
              <p:nvPr/>
            </p:nvGrpSpPr>
            <p:grpSpPr>
              <a:xfrm>
                <a:off x="6187680" y="2835360"/>
                <a:ext cx="1708560" cy="1008000"/>
                <a:chOff x="6187680" y="2835360"/>
                <a:chExt cx="1708560" cy="1008000"/>
              </a:xfrm>
            </p:grpSpPr>
            <p:grpSp>
              <p:nvGrpSpPr>
                <p:cNvPr id="419" name=""/>
                <p:cNvGrpSpPr/>
                <p:nvPr/>
              </p:nvGrpSpPr>
              <p:grpSpPr>
                <a:xfrm>
                  <a:off x="7383240" y="3390480"/>
                  <a:ext cx="513000" cy="452880"/>
                  <a:chOff x="7383240" y="3390480"/>
                  <a:chExt cx="513000" cy="452880"/>
                </a:xfrm>
              </p:grpSpPr>
              <p:sp>
                <p:nvSpPr>
                  <p:cNvPr id="420" name=""/>
                  <p:cNvSpPr/>
                  <p:nvPr/>
                </p:nvSpPr>
                <p:spPr>
                  <a:xfrm>
                    <a:off x="7383240" y="3390480"/>
                    <a:ext cx="469800" cy="3970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1600" y="10800"/>
                        </a:moveTo>
                        <a:arcTo wR="10800" hR="10800" stAng="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1600" y="10800"/>
                        </a:moveTo>
                        <a:arcTo wR="10800" hR="10800" stAng="0" swAng="5400000"/>
                      </a:path>
                    </a:pathLst>
                  </a:custGeom>
                  <a:noFill/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1" name=""/>
                  <p:cNvSpPr/>
                  <p:nvPr/>
                </p:nvSpPr>
                <p:spPr>
                  <a:xfrm>
                    <a:off x="7425720" y="3449520"/>
                    <a:ext cx="470520" cy="3938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1578" y="11493"/>
                        </a:moveTo>
                        <a:arcTo wR="10800" hR="10800" stAng="220596" swAng="4404123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1578" y="11493"/>
                        </a:moveTo>
                        <a:arcTo wR="10800" hR="10800" stAng="220596" swAng="4404123"/>
                      </a:path>
                    </a:pathLst>
                  </a:custGeom>
                  <a:noFill/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22" name=""/>
                <p:cNvGrpSpPr/>
                <p:nvPr/>
              </p:nvGrpSpPr>
              <p:grpSpPr>
                <a:xfrm>
                  <a:off x="6187680" y="2835360"/>
                  <a:ext cx="514440" cy="453240"/>
                  <a:chOff x="6187680" y="2835360"/>
                  <a:chExt cx="514440" cy="453240"/>
                </a:xfrm>
              </p:grpSpPr>
              <p:sp>
                <p:nvSpPr>
                  <p:cNvPr id="423" name=""/>
                  <p:cNvSpPr/>
                  <p:nvPr/>
                </p:nvSpPr>
                <p:spPr>
                  <a:xfrm>
                    <a:off x="6229440" y="2892600"/>
                    <a:ext cx="472680" cy="3960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0" y="10800"/>
                        </a:moveTo>
                        <a:arcTo wR="10800" hR="10800" stAng="108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0" y="10800"/>
                        </a:moveTo>
                        <a:arcTo wR="10800" hR="10800" stAng="10800000" swAng="5400000"/>
                      </a:path>
                    </a:pathLst>
                  </a:custGeom>
                  <a:noFill/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4" name=""/>
                  <p:cNvSpPr/>
                  <p:nvPr/>
                </p:nvSpPr>
                <p:spPr>
                  <a:xfrm>
                    <a:off x="6187680" y="2835360"/>
                    <a:ext cx="470520" cy="3963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2" y="10108"/>
                        </a:moveTo>
                        <a:arcTo wR="10800" hR="10800" stAng="-10579544" swAng="432234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2" y="10108"/>
                        </a:moveTo>
                        <a:arcTo wR="10800" hR="10800" stAng="-10579544" swAng="4322349"/>
                      </a:path>
                    </a:pathLst>
                  </a:custGeom>
                  <a:noFill/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25" name=""/>
              <p:cNvGrpSpPr/>
              <p:nvPr/>
            </p:nvGrpSpPr>
            <p:grpSpPr>
              <a:xfrm>
                <a:off x="6860520" y="2286000"/>
                <a:ext cx="1193400" cy="664200"/>
                <a:chOff x="6860520" y="2286000"/>
                <a:chExt cx="1193400" cy="664200"/>
              </a:xfrm>
            </p:grpSpPr>
            <p:grpSp>
              <p:nvGrpSpPr>
                <p:cNvPr id="426" name=""/>
                <p:cNvGrpSpPr/>
                <p:nvPr/>
              </p:nvGrpSpPr>
              <p:grpSpPr>
                <a:xfrm>
                  <a:off x="7775280" y="2559600"/>
                  <a:ext cx="278640" cy="390600"/>
                  <a:chOff x="7775280" y="2559600"/>
                  <a:chExt cx="278640" cy="390600"/>
                </a:xfrm>
              </p:grpSpPr>
              <p:sp>
                <p:nvSpPr>
                  <p:cNvPr id="427" name=""/>
                  <p:cNvSpPr/>
                  <p:nvPr/>
                </p:nvSpPr>
                <p:spPr>
                  <a:xfrm>
                    <a:off x="7775280" y="2559600"/>
                    <a:ext cx="228600" cy="3765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1600" y="10800"/>
                        </a:moveTo>
                        <a:arcTo wR="10800" hR="10800" stAng="0" swAng="4666853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1600" y="10800"/>
                        </a:moveTo>
                        <a:arcTo wR="10800" hR="10800" stAng="0" swAng="4666853"/>
                      </a:path>
                    </a:pathLst>
                  </a:custGeom>
                  <a:noFill/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8" name=""/>
                  <p:cNvSpPr/>
                  <p:nvPr/>
                </p:nvSpPr>
                <p:spPr>
                  <a:xfrm>
                    <a:off x="7823880" y="2574360"/>
                    <a:ext cx="230040" cy="3758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1532" y="12011"/>
                        </a:moveTo>
                        <a:arcTo wR="10800" hR="10800" stAng="386278" swAng="3627253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1532" y="12011"/>
                        </a:moveTo>
                        <a:arcTo wR="10800" hR="10800" stAng="386278" swAng="3627253"/>
                      </a:path>
                    </a:pathLst>
                  </a:custGeom>
                  <a:noFill/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29" name=""/>
                <p:cNvGrpSpPr/>
                <p:nvPr/>
              </p:nvGrpSpPr>
              <p:grpSpPr>
                <a:xfrm>
                  <a:off x="6860520" y="2286000"/>
                  <a:ext cx="276840" cy="386280"/>
                  <a:chOff x="6860520" y="2286000"/>
                  <a:chExt cx="276840" cy="386280"/>
                </a:xfrm>
              </p:grpSpPr>
              <p:sp>
                <p:nvSpPr>
                  <p:cNvPr id="430" name=""/>
                  <p:cNvSpPr/>
                  <p:nvPr/>
                </p:nvSpPr>
                <p:spPr>
                  <a:xfrm>
                    <a:off x="6908760" y="2296440"/>
                    <a:ext cx="228600" cy="3758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0" y="10800"/>
                        </a:moveTo>
                        <a:arcTo wR="10800" hR="10800" stAng="10800000" swAng="467303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0" y="10800"/>
                        </a:moveTo>
                        <a:arcTo wR="10800" hR="10800" stAng="10800000" swAng="4673038"/>
                      </a:path>
                    </a:pathLst>
                  </a:custGeom>
                  <a:noFill/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1" name=""/>
                  <p:cNvSpPr/>
                  <p:nvPr/>
                </p:nvSpPr>
                <p:spPr>
                  <a:xfrm>
                    <a:off x="6860520" y="2286000"/>
                    <a:ext cx="226800" cy="37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93" y="9388"/>
                        </a:moveTo>
                        <a:arcTo wR="10800" hR="10800" stAng="-10349271" swAng="3667334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93" y="9388"/>
                        </a:moveTo>
                        <a:arcTo wR="10800" hR="10800" stAng="-10349271" swAng="3667334"/>
                      </a:path>
                    </a:pathLst>
                  </a:custGeom>
                  <a:noFill/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432" name=""/>
            <p:cNvGrpSpPr/>
            <p:nvPr/>
          </p:nvGrpSpPr>
          <p:grpSpPr>
            <a:xfrm>
              <a:off x="5105520" y="2305080"/>
              <a:ext cx="3767040" cy="3606480"/>
              <a:chOff x="5105520" y="2305080"/>
              <a:chExt cx="3767040" cy="3606480"/>
            </a:xfrm>
          </p:grpSpPr>
          <p:grpSp>
            <p:nvGrpSpPr>
              <p:cNvPr id="433" name=""/>
              <p:cNvGrpSpPr/>
              <p:nvPr/>
            </p:nvGrpSpPr>
            <p:grpSpPr>
              <a:xfrm>
                <a:off x="5105520" y="4948200"/>
                <a:ext cx="3767040" cy="963360"/>
                <a:chOff x="5105520" y="4948200"/>
                <a:chExt cx="3767040" cy="963360"/>
              </a:xfrm>
            </p:grpSpPr>
            <p:grpSp>
              <p:nvGrpSpPr>
                <p:cNvPr id="434" name=""/>
                <p:cNvGrpSpPr/>
                <p:nvPr/>
              </p:nvGrpSpPr>
              <p:grpSpPr>
                <a:xfrm>
                  <a:off x="8178840" y="5372280"/>
                  <a:ext cx="693720" cy="539280"/>
                  <a:chOff x="8178840" y="5372280"/>
                  <a:chExt cx="693720" cy="539280"/>
                </a:xfrm>
              </p:grpSpPr>
              <p:sp>
                <p:nvSpPr>
                  <p:cNvPr id="435" name=""/>
                  <p:cNvSpPr/>
                  <p:nvPr/>
                </p:nvSpPr>
                <p:spPr>
                  <a:xfrm>
                    <a:off x="8180280" y="5499000"/>
                    <a:ext cx="692280" cy="176400"/>
                  </a:xfrm>
                  <a:custGeom>
                    <a:avLst/>
                    <a:gdLst/>
                    <a:ahLst/>
                    <a:rect l="l" t="t" r="r" b="b"/>
                    <a:pathLst>
                      <a:path w="436" h="111">
                        <a:moveTo>
                          <a:pt x="0" y="19"/>
                        </a:moveTo>
                        <a:lnTo>
                          <a:pt x="13" y="11"/>
                        </a:lnTo>
                        <a:lnTo>
                          <a:pt x="30" y="6"/>
                        </a:lnTo>
                        <a:lnTo>
                          <a:pt x="54" y="3"/>
                        </a:lnTo>
                        <a:lnTo>
                          <a:pt x="85" y="0"/>
                        </a:lnTo>
                        <a:lnTo>
                          <a:pt x="380" y="12"/>
                        </a:lnTo>
                        <a:lnTo>
                          <a:pt x="403" y="18"/>
                        </a:lnTo>
                        <a:lnTo>
                          <a:pt x="418" y="25"/>
                        </a:lnTo>
                        <a:lnTo>
                          <a:pt x="436" y="36"/>
                        </a:lnTo>
                        <a:lnTo>
                          <a:pt x="408" y="68"/>
                        </a:lnTo>
                        <a:lnTo>
                          <a:pt x="218" y="111"/>
                        </a:lnTo>
                        <a:lnTo>
                          <a:pt x="15" y="49"/>
                        </a:lnTo>
                        <a:lnTo>
                          <a:pt x="0" y="19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6" name=""/>
                  <p:cNvSpPr/>
                  <p:nvPr/>
                </p:nvSpPr>
                <p:spPr>
                  <a:xfrm>
                    <a:off x="8267760" y="5372280"/>
                    <a:ext cx="536400" cy="380880"/>
                  </a:xfrm>
                  <a:prstGeom prst="ellipse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7" name=""/>
                  <p:cNvSpPr/>
                  <p:nvPr/>
                </p:nvSpPr>
                <p:spPr>
                  <a:xfrm>
                    <a:off x="8492040" y="5400720"/>
                    <a:ext cx="116280" cy="5108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87" y="7594"/>
                        </a:moveTo>
                        <a:arcTo wR="10800" hR="10800" stAng="-9763728" swAng="42695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87" y="7594"/>
                        </a:moveTo>
                        <a:arcTo wR="10800" hR="10800" stAng="-9763728" swAng="4269567"/>
                      </a:path>
                    </a:pathLst>
                  </a:custGeom>
                  <a:noFill/>
                  <a:ln w="1116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8" name=""/>
                  <p:cNvSpPr/>
                  <p:nvPr/>
                </p:nvSpPr>
                <p:spPr>
                  <a:xfrm>
                    <a:off x="8296200" y="5591160"/>
                    <a:ext cx="43812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6" h="14">
                        <a:moveTo>
                          <a:pt x="0" y="0"/>
                        </a:moveTo>
                        <a:lnTo>
                          <a:pt x="27" y="7"/>
                        </a:lnTo>
                        <a:lnTo>
                          <a:pt x="60" y="12"/>
                        </a:lnTo>
                        <a:lnTo>
                          <a:pt x="107" y="14"/>
                        </a:lnTo>
                        <a:lnTo>
                          <a:pt x="169" y="10"/>
                        </a:lnTo>
                        <a:lnTo>
                          <a:pt x="218" y="9"/>
                        </a:lnTo>
                        <a:lnTo>
                          <a:pt x="242" y="8"/>
                        </a:lnTo>
                        <a:lnTo>
                          <a:pt x="276" y="4"/>
                        </a:lnTo>
                      </a:path>
                    </a:pathLst>
                  </a:custGeom>
                  <a:noFill/>
                  <a:ln w="1116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9" name=""/>
                  <p:cNvSpPr/>
                  <p:nvPr/>
                </p:nvSpPr>
                <p:spPr>
                  <a:xfrm>
                    <a:off x="8178840" y="5529240"/>
                    <a:ext cx="693720" cy="227160"/>
                  </a:xfrm>
                  <a:custGeom>
                    <a:avLst/>
                    <a:gdLst/>
                    <a:ahLst/>
                    <a:rect l="l" t="t" r="r" b="b"/>
                    <a:pathLst>
                      <a:path w="437" h="143">
                        <a:moveTo>
                          <a:pt x="0" y="0"/>
                        </a:moveTo>
                        <a:lnTo>
                          <a:pt x="15" y="10"/>
                        </a:lnTo>
                        <a:lnTo>
                          <a:pt x="32" y="19"/>
                        </a:lnTo>
                        <a:lnTo>
                          <a:pt x="59" y="30"/>
                        </a:lnTo>
                        <a:lnTo>
                          <a:pt x="76" y="41"/>
                        </a:lnTo>
                        <a:lnTo>
                          <a:pt x="101" y="48"/>
                        </a:lnTo>
                        <a:lnTo>
                          <a:pt x="134" y="53"/>
                        </a:lnTo>
                        <a:lnTo>
                          <a:pt x="175" y="55"/>
                        </a:lnTo>
                        <a:lnTo>
                          <a:pt x="247" y="52"/>
                        </a:lnTo>
                        <a:lnTo>
                          <a:pt x="315" y="49"/>
                        </a:lnTo>
                        <a:lnTo>
                          <a:pt x="368" y="43"/>
                        </a:lnTo>
                        <a:lnTo>
                          <a:pt x="404" y="31"/>
                        </a:lnTo>
                        <a:lnTo>
                          <a:pt x="437" y="16"/>
                        </a:lnTo>
                        <a:lnTo>
                          <a:pt x="431" y="30"/>
                        </a:lnTo>
                        <a:lnTo>
                          <a:pt x="427" y="46"/>
                        </a:lnTo>
                        <a:lnTo>
                          <a:pt x="423" y="81"/>
                        </a:lnTo>
                        <a:lnTo>
                          <a:pt x="420" y="110"/>
                        </a:lnTo>
                        <a:lnTo>
                          <a:pt x="404" y="125"/>
                        </a:lnTo>
                        <a:lnTo>
                          <a:pt x="385" y="135"/>
                        </a:lnTo>
                        <a:lnTo>
                          <a:pt x="352" y="139"/>
                        </a:lnTo>
                        <a:lnTo>
                          <a:pt x="262" y="139"/>
                        </a:lnTo>
                        <a:lnTo>
                          <a:pt x="225" y="141"/>
                        </a:lnTo>
                        <a:lnTo>
                          <a:pt x="182" y="143"/>
                        </a:lnTo>
                        <a:lnTo>
                          <a:pt x="142" y="141"/>
                        </a:lnTo>
                        <a:lnTo>
                          <a:pt x="105" y="139"/>
                        </a:lnTo>
                        <a:lnTo>
                          <a:pt x="69" y="130"/>
                        </a:lnTo>
                        <a:lnTo>
                          <a:pt x="42" y="120"/>
                        </a:lnTo>
                        <a:lnTo>
                          <a:pt x="26" y="110"/>
                        </a:lnTo>
                        <a:lnTo>
                          <a:pt x="16" y="5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40" name=""/>
                <p:cNvGrpSpPr/>
                <p:nvPr/>
              </p:nvGrpSpPr>
              <p:grpSpPr>
                <a:xfrm>
                  <a:off x="7370640" y="4948200"/>
                  <a:ext cx="717840" cy="732960"/>
                  <a:chOff x="7370640" y="4948200"/>
                  <a:chExt cx="717840" cy="732960"/>
                </a:xfrm>
              </p:grpSpPr>
              <p:sp>
                <p:nvSpPr>
                  <p:cNvPr id="441" name=""/>
                  <p:cNvSpPr/>
                  <p:nvPr/>
                </p:nvSpPr>
                <p:spPr>
                  <a:xfrm>
                    <a:off x="7396200" y="5281560"/>
                    <a:ext cx="692280" cy="182520"/>
                  </a:xfrm>
                  <a:custGeom>
                    <a:avLst/>
                    <a:gdLst/>
                    <a:ahLst/>
                    <a:rect l="l" t="t" r="r" b="b"/>
                    <a:pathLst>
                      <a:path w="436" h="115">
                        <a:moveTo>
                          <a:pt x="0" y="26"/>
                        </a:moveTo>
                        <a:lnTo>
                          <a:pt x="345" y="0"/>
                        </a:lnTo>
                        <a:lnTo>
                          <a:pt x="429" y="55"/>
                        </a:lnTo>
                        <a:lnTo>
                          <a:pt x="436" y="69"/>
                        </a:lnTo>
                        <a:lnTo>
                          <a:pt x="424" y="78"/>
                        </a:lnTo>
                        <a:lnTo>
                          <a:pt x="187" y="113"/>
                        </a:lnTo>
                        <a:lnTo>
                          <a:pt x="153" y="115"/>
                        </a:lnTo>
                        <a:lnTo>
                          <a:pt x="122" y="113"/>
                        </a:lnTo>
                        <a:lnTo>
                          <a:pt x="90" y="102"/>
                        </a:lnTo>
                        <a:lnTo>
                          <a:pt x="0" y="26"/>
                        </a:lnTo>
                        <a:close/>
                      </a:path>
                    </a:pathLst>
                  </a:custGeom>
                  <a:solidFill>
                    <a:srgbClr val="c0c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2" name=""/>
                  <p:cNvSpPr/>
                  <p:nvPr/>
                </p:nvSpPr>
                <p:spPr>
                  <a:xfrm>
                    <a:off x="7370640" y="4948200"/>
                    <a:ext cx="579600" cy="415800"/>
                  </a:xfrm>
                  <a:custGeom>
                    <a:avLst/>
                    <a:gdLst/>
                    <a:ahLst/>
                    <a:rect l="l" t="t" r="r" b="b"/>
                    <a:pathLst>
                      <a:path w="365" h="262">
                        <a:moveTo>
                          <a:pt x="178" y="0"/>
                        </a:moveTo>
                        <a:lnTo>
                          <a:pt x="136" y="2"/>
                        </a:lnTo>
                        <a:lnTo>
                          <a:pt x="105" y="9"/>
                        </a:lnTo>
                        <a:lnTo>
                          <a:pt x="80" y="19"/>
                        </a:lnTo>
                        <a:lnTo>
                          <a:pt x="59" y="34"/>
                        </a:lnTo>
                        <a:lnTo>
                          <a:pt x="44" y="49"/>
                        </a:lnTo>
                        <a:lnTo>
                          <a:pt x="32" y="69"/>
                        </a:lnTo>
                        <a:lnTo>
                          <a:pt x="23" y="90"/>
                        </a:lnTo>
                        <a:lnTo>
                          <a:pt x="16" y="112"/>
                        </a:lnTo>
                        <a:lnTo>
                          <a:pt x="11" y="146"/>
                        </a:lnTo>
                        <a:lnTo>
                          <a:pt x="8" y="178"/>
                        </a:lnTo>
                        <a:lnTo>
                          <a:pt x="4" y="213"/>
                        </a:lnTo>
                        <a:lnTo>
                          <a:pt x="0" y="236"/>
                        </a:lnTo>
                        <a:lnTo>
                          <a:pt x="17" y="244"/>
                        </a:lnTo>
                        <a:lnTo>
                          <a:pt x="41" y="252"/>
                        </a:lnTo>
                        <a:lnTo>
                          <a:pt x="73" y="257"/>
                        </a:lnTo>
                        <a:lnTo>
                          <a:pt x="132" y="260"/>
                        </a:lnTo>
                        <a:lnTo>
                          <a:pt x="175" y="262"/>
                        </a:lnTo>
                        <a:lnTo>
                          <a:pt x="214" y="260"/>
                        </a:lnTo>
                        <a:lnTo>
                          <a:pt x="263" y="256"/>
                        </a:lnTo>
                        <a:lnTo>
                          <a:pt x="293" y="252"/>
                        </a:lnTo>
                        <a:lnTo>
                          <a:pt x="322" y="246"/>
                        </a:lnTo>
                        <a:lnTo>
                          <a:pt x="348" y="235"/>
                        </a:lnTo>
                        <a:lnTo>
                          <a:pt x="365" y="223"/>
                        </a:lnTo>
                        <a:lnTo>
                          <a:pt x="361" y="204"/>
                        </a:lnTo>
                        <a:lnTo>
                          <a:pt x="355" y="173"/>
                        </a:lnTo>
                        <a:lnTo>
                          <a:pt x="350" y="145"/>
                        </a:lnTo>
                        <a:lnTo>
                          <a:pt x="345" y="116"/>
                        </a:lnTo>
                        <a:lnTo>
                          <a:pt x="337" y="80"/>
                        </a:lnTo>
                        <a:lnTo>
                          <a:pt x="330" y="68"/>
                        </a:lnTo>
                        <a:lnTo>
                          <a:pt x="319" y="50"/>
                        </a:lnTo>
                        <a:lnTo>
                          <a:pt x="305" y="33"/>
                        </a:lnTo>
                        <a:lnTo>
                          <a:pt x="290" y="19"/>
                        </a:lnTo>
                        <a:lnTo>
                          <a:pt x="276" y="12"/>
                        </a:lnTo>
                        <a:lnTo>
                          <a:pt x="254" y="4"/>
                        </a:lnTo>
                        <a:lnTo>
                          <a:pt x="227" y="1"/>
                        </a:lnTo>
                        <a:lnTo>
                          <a:pt x="178" y="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3" name=""/>
                  <p:cNvSpPr/>
                  <p:nvPr/>
                </p:nvSpPr>
                <p:spPr>
                  <a:xfrm>
                    <a:off x="7560000" y="4989600"/>
                    <a:ext cx="266040" cy="6915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384004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384004"/>
                      </a:path>
                    </a:pathLst>
                  </a:custGeom>
                  <a:noFill/>
                  <a:ln w="11160">
                    <a:solidFill>
                      <a:srgbClr val="8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44" name=""/>
                <p:cNvGrpSpPr/>
                <p:nvPr/>
              </p:nvGrpSpPr>
              <p:grpSpPr>
                <a:xfrm>
                  <a:off x="5105520" y="5264280"/>
                  <a:ext cx="876240" cy="458640"/>
                  <a:chOff x="5105520" y="5264280"/>
                  <a:chExt cx="876240" cy="458640"/>
                </a:xfrm>
              </p:grpSpPr>
              <p:sp>
                <p:nvSpPr>
                  <p:cNvPr id="445" name=""/>
                  <p:cNvSpPr/>
                  <p:nvPr/>
                </p:nvSpPr>
                <p:spPr>
                  <a:xfrm>
                    <a:off x="5276880" y="5589720"/>
                    <a:ext cx="617400" cy="128520"/>
                  </a:xfrm>
                  <a:custGeom>
                    <a:avLst/>
                    <a:gdLst/>
                    <a:ahLst/>
                    <a:rect l="l" t="t" r="r" b="b"/>
                    <a:pathLst>
                      <a:path w="389" h="81">
                        <a:moveTo>
                          <a:pt x="0" y="81"/>
                        </a:moveTo>
                        <a:lnTo>
                          <a:pt x="171" y="75"/>
                        </a:lnTo>
                        <a:lnTo>
                          <a:pt x="244" y="70"/>
                        </a:lnTo>
                        <a:lnTo>
                          <a:pt x="320" y="72"/>
                        </a:lnTo>
                        <a:lnTo>
                          <a:pt x="389" y="77"/>
                        </a:lnTo>
                        <a:lnTo>
                          <a:pt x="334" y="32"/>
                        </a:lnTo>
                        <a:lnTo>
                          <a:pt x="139" y="0"/>
                        </a:lnTo>
                        <a:lnTo>
                          <a:pt x="32" y="54"/>
                        </a:lnTo>
                        <a:lnTo>
                          <a:pt x="0" y="81"/>
                        </a:lnTo>
                        <a:close/>
                      </a:path>
                    </a:pathLst>
                  </a:cu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6" name=""/>
                  <p:cNvSpPr/>
                  <p:nvPr/>
                </p:nvSpPr>
                <p:spPr>
                  <a:xfrm>
                    <a:off x="5105520" y="5524560"/>
                    <a:ext cx="8762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552" h="125">
                        <a:moveTo>
                          <a:pt x="117" y="0"/>
                        </a:moveTo>
                        <a:lnTo>
                          <a:pt x="94" y="3"/>
                        </a:lnTo>
                        <a:lnTo>
                          <a:pt x="69" y="7"/>
                        </a:lnTo>
                        <a:lnTo>
                          <a:pt x="48" y="14"/>
                        </a:lnTo>
                        <a:lnTo>
                          <a:pt x="31" y="22"/>
                        </a:lnTo>
                        <a:lnTo>
                          <a:pt x="16" y="33"/>
                        </a:lnTo>
                        <a:lnTo>
                          <a:pt x="5" y="44"/>
                        </a:lnTo>
                        <a:lnTo>
                          <a:pt x="0" y="55"/>
                        </a:lnTo>
                        <a:lnTo>
                          <a:pt x="0" y="69"/>
                        </a:lnTo>
                        <a:lnTo>
                          <a:pt x="1" y="82"/>
                        </a:lnTo>
                        <a:lnTo>
                          <a:pt x="8" y="96"/>
                        </a:lnTo>
                        <a:lnTo>
                          <a:pt x="18" y="107"/>
                        </a:lnTo>
                        <a:lnTo>
                          <a:pt x="32" y="116"/>
                        </a:lnTo>
                        <a:lnTo>
                          <a:pt x="53" y="122"/>
                        </a:lnTo>
                        <a:lnTo>
                          <a:pt x="81" y="125"/>
                        </a:lnTo>
                        <a:lnTo>
                          <a:pt x="112" y="121"/>
                        </a:lnTo>
                        <a:lnTo>
                          <a:pt x="142" y="118"/>
                        </a:lnTo>
                        <a:lnTo>
                          <a:pt x="172" y="112"/>
                        </a:lnTo>
                        <a:lnTo>
                          <a:pt x="211" y="103"/>
                        </a:lnTo>
                        <a:lnTo>
                          <a:pt x="244" y="99"/>
                        </a:lnTo>
                        <a:lnTo>
                          <a:pt x="287" y="96"/>
                        </a:lnTo>
                        <a:lnTo>
                          <a:pt x="332" y="92"/>
                        </a:lnTo>
                        <a:lnTo>
                          <a:pt x="371" y="90"/>
                        </a:lnTo>
                        <a:lnTo>
                          <a:pt x="401" y="93"/>
                        </a:lnTo>
                        <a:lnTo>
                          <a:pt x="434" y="102"/>
                        </a:lnTo>
                        <a:lnTo>
                          <a:pt x="453" y="110"/>
                        </a:lnTo>
                        <a:lnTo>
                          <a:pt x="474" y="115"/>
                        </a:lnTo>
                        <a:lnTo>
                          <a:pt x="494" y="119"/>
                        </a:lnTo>
                        <a:lnTo>
                          <a:pt x="515" y="117"/>
                        </a:lnTo>
                        <a:lnTo>
                          <a:pt x="530" y="111"/>
                        </a:lnTo>
                        <a:lnTo>
                          <a:pt x="542" y="103"/>
                        </a:lnTo>
                        <a:lnTo>
                          <a:pt x="550" y="90"/>
                        </a:lnTo>
                        <a:lnTo>
                          <a:pt x="552" y="76"/>
                        </a:lnTo>
                        <a:lnTo>
                          <a:pt x="548" y="64"/>
                        </a:lnTo>
                        <a:lnTo>
                          <a:pt x="539" y="52"/>
                        </a:lnTo>
                        <a:lnTo>
                          <a:pt x="526" y="41"/>
                        </a:lnTo>
                        <a:lnTo>
                          <a:pt x="510" y="32"/>
                        </a:lnTo>
                        <a:lnTo>
                          <a:pt x="485" y="21"/>
                        </a:lnTo>
                        <a:lnTo>
                          <a:pt x="464" y="14"/>
                        </a:lnTo>
                        <a:lnTo>
                          <a:pt x="438" y="8"/>
                        </a:lnTo>
                        <a:lnTo>
                          <a:pt x="117" y="0"/>
                        </a:lnTo>
                        <a:close/>
                      </a:path>
                    </a:pathLst>
                  </a:custGeom>
                  <a:solidFill>
                    <a:srgbClr val="6060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7" name=""/>
                  <p:cNvSpPr/>
                  <p:nvPr/>
                </p:nvSpPr>
                <p:spPr>
                  <a:xfrm>
                    <a:off x="5268960" y="5264280"/>
                    <a:ext cx="536400" cy="398160"/>
                  </a:xfrm>
                  <a:custGeom>
                    <a:avLst/>
                    <a:gdLst/>
                    <a:ahLst/>
                    <a:rect l="l" t="t" r="r" b="b"/>
                    <a:pathLst>
                      <a:path w="338" h="251">
                        <a:moveTo>
                          <a:pt x="0" y="213"/>
                        </a:moveTo>
                        <a:lnTo>
                          <a:pt x="0" y="166"/>
                        </a:lnTo>
                        <a:lnTo>
                          <a:pt x="2" y="136"/>
                        </a:lnTo>
                        <a:lnTo>
                          <a:pt x="5" y="114"/>
                        </a:lnTo>
                        <a:lnTo>
                          <a:pt x="12" y="93"/>
                        </a:lnTo>
                        <a:lnTo>
                          <a:pt x="22" y="73"/>
                        </a:lnTo>
                        <a:lnTo>
                          <a:pt x="34" y="54"/>
                        </a:lnTo>
                        <a:lnTo>
                          <a:pt x="49" y="37"/>
                        </a:lnTo>
                        <a:lnTo>
                          <a:pt x="65" y="25"/>
                        </a:lnTo>
                        <a:lnTo>
                          <a:pt x="88" y="15"/>
                        </a:lnTo>
                        <a:lnTo>
                          <a:pt x="116" y="6"/>
                        </a:lnTo>
                        <a:lnTo>
                          <a:pt x="143" y="2"/>
                        </a:lnTo>
                        <a:lnTo>
                          <a:pt x="174" y="0"/>
                        </a:lnTo>
                        <a:lnTo>
                          <a:pt x="201" y="0"/>
                        </a:lnTo>
                        <a:lnTo>
                          <a:pt x="230" y="5"/>
                        </a:lnTo>
                        <a:lnTo>
                          <a:pt x="260" y="13"/>
                        </a:lnTo>
                        <a:lnTo>
                          <a:pt x="278" y="23"/>
                        </a:lnTo>
                        <a:lnTo>
                          <a:pt x="293" y="36"/>
                        </a:lnTo>
                        <a:lnTo>
                          <a:pt x="308" y="54"/>
                        </a:lnTo>
                        <a:lnTo>
                          <a:pt x="320" y="77"/>
                        </a:lnTo>
                        <a:lnTo>
                          <a:pt x="330" y="107"/>
                        </a:lnTo>
                        <a:lnTo>
                          <a:pt x="335" y="140"/>
                        </a:lnTo>
                        <a:lnTo>
                          <a:pt x="338" y="172"/>
                        </a:lnTo>
                        <a:lnTo>
                          <a:pt x="338" y="215"/>
                        </a:lnTo>
                        <a:lnTo>
                          <a:pt x="285" y="237"/>
                        </a:lnTo>
                        <a:lnTo>
                          <a:pt x="183" y="251"/>
                        </a:lnTo>
                        <a:lnTo>
                          <a:pt x="69" y="245"/>
                        </a:lnTo>
                        <a:lnTo>
                          <a:pt x="0" y="213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8" name=""/>
                  <p:cNvSpPr/>
                  <p:nvPr/>
                </p:nvSpPr>
                <p:spPr>
                  <a:xfrm>
                    <a:off x="5268960" y="5581800"/>
                    <a:ext cx="5364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338" h="61">
                        <a:moveTo>
                          <a:pt x="0" y="7"/>
                        </a:moveTo>
                        <a:lnTo>
                          <a:pt x="15" y="18"/>
                        </a:lnTo>
                        <a:lnTo>
                          <a:pt x="29" y="24"/>
                        </a:lnTo>
                        <a:lnTo>
                          <a:pt x="52" y="30"/>
                        </a:lnTo>
                        <a:lnTo>
                          <a:pt x="79" y="33"/>
                        </a:lnTo>
                        <a:lnTo>
                          <a:pt x="116" y="36"/>
                        </a:lnTo>
                        <a:lnTo>
                          <a:pt x="146" y="38"/>
                        </a:lnTo>
                        <a:lnTo>
                          <a:pt x="176" y="40"/>
                        </a:lnTo>
                        <a:lnTo>
                          <a:pt x="215" y="36"/>
                        </a:lnTo>
                        <a:lnTo>
                          <a:pt x="257" y="31"/>
                        </a:lnTo>
                        <a:lnTo>
                          <a:pt x="288" y="25"/>
                        </a:lnTo>
                        <a:lnTo>
                          <a:pt x="314" y="16"/>
                        </a:lnTo>
                        <a:lnTo>
                          <a:pt x="331" y="4"/>
                        </a:lnTo>
                        <a:lnTo>
                          <a:pt x="338" y="0"/>
                        </a:lnTo>
                        <a:lnTo>
                          <a:pt x="338" y="26"/>
                        </a:lnTo>
                        <a:lnTo>
                          <a:pt x="324" y="34"/>
                        </a:lnTo>
                        <a:lnTo>
                          <a:pt x="313" y="40"/>
                        </a:lnTo>
                        <a:lnTo>
                          <a:pt x="299" y="45"/>
                        </a:lnTo>
                        <a:lnTo>
                          <a:pt x="280" y="51"/>
                        </a:lnTo>
                        <a:lnTo>
                          <a:pt x="251" y="56"/>
                        </a:lnTo>
                        <a:lnTo>
                          <a:pt x="209" y="59"/>
                        </a:lnTo>
                        <a:lnTo>
                          <a:pt x="178" y="61"/>
                        </a:lnTo>
                        <a:lnTo>
                          <a:pt x="137" y="60"/>
                        </a:lnTo>
                        <a:lnTo>
                          <a:pt x="100" y="57"/>
                        </a:lnTo>
                        <a:lnTo>
                          <a:pt x="64" y="56"/>
                        </a:lnTo>
                        <a:lnTo>
                          <a:pt x="40" y="51"/>
                        </a:lnTo>
                        <a:lnTo>
                          <a:pt x="14" y="42"/>
                        </a:lnTo>
                        <a:lnTo>
                          <a:pt x="0" y="34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49" name=""/>
              <p:cNvGrpSpPr/>
              <p:nvPr/>
            </p:nvGrpSpPr>
            <p:grpSpPr>
              <a:xfrm>
                <a:off x="6334200" y="2305080"/>
                <a:ext cx="1606320" cy="1463760"/>
                <a:chOff x="6334200" y="2305080"/>
                <a:chExt cx="1606320" cy="1463760"/>
              </a:xfrm>
            </p:grpSpPr>
            <p:grpSp>
              <p:nvGrpSpPr>
                <p:cNvPr id="450" name=""/>
                <p:cNvGrpSpPr/>
                <p:nvPr/>
              </p:nvGrpSpPr>
              <p:grpSpPr>
                <a:xfrm>
                  <a:off x="6334200" y="2960640"/>
                  <a:ext cx="1396800" cy="808200"/>
                  <a:chOff x="6334200" y="2960640"/>
                  <a:chExt cx="1396800" cy="808200"/>
                </a:xfrm>
              </p:grpSpPr>
              <p:grpSp>
                <p:nvGrpSpPr>
                  <p:cNvPr id="451" name=""/>
                  <p:cNvGrpSpPr/>
                  <p:nvPr/>
                </p:nvGrpSpPr>
                <p:grpSpPr>
                  <a:xfrm>
                    <a:off x="6334200" y="2960640"/>
                    <a:ext cx="1396800" cy="731880"/>
                    <a:chOff x="6334200" y="2960640"/>
                    <a:chExt cx="1396800" cy="731880"/>
                  </a:xfrm>
                </p:grpSpPr>
                <p:grpSp>
                  <p:nvGrpSpPr>
                    <p:cNvPr id="452" name=""/>
                    <p:cNvGrpSpPr/>
                    <p:nvPr/>
                  </p:nvGrpSpPr>
                  <p:grpSpPr>
                    <a:xfrm>
                      <a:off x="6873840" y="2960640"/>
                      <a:ext cx="469800" cy="517680"/>
                      <a:chOff x="6873840" y="2960640"/>
                      <a:chExt cx="469800" cy="517680"/>
                    </a:xfrm>
                  </p:grpSpPr>
                  <p:sp>
                    <p:nvSpPr>
                      <p:cNvPr id="453" name=""/>
                      <p:cNvSpPr/>
                      <p:nvPr/>
                    </p:nvSpPr>
                    <p:spPr>
                      <a:xfrm>
                        <a:off x="6873840" y="2960640"/>
                        <a:ext cx="469800" cy="517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96" h="326">
                            <a:moveTo>
                              <a:pt x="0" y="128"/>
                            </a:moveTo>
                            <a:lnTo>
                              <a:pt x="21" y="105"/>
                            </a:lnTo>
                            <a:lnTo>
                              <a:pt x="51" y="69"/>
                            </a:lnTo>
                            <a:lnTo>
                              <a:pt x="74" y="47"/>
                            </a:lnTo>
                            <a:lnTo>
                              <a:pt x="99" y="27"/>
                            </a:lnTo>
                            <a:lnTo>
                              <a:pt x="125" y="12"/>
                            </a:lnTo>
                            <a:lnTo>
                              <a:pt x="150" y="3"/>
                            </a:lnTo>
                            <a:lnTo>
                              <a:pt x="175" y="0"/>
                            </a:lnTo>
                            <a:lnTo>
                              <a:pt x="191" y="4"/>
                            </a:lnTo>
                            <a:lnTo>
                              <a:pt x="217" y="24"/>
                            </a:lnTo>
                            <a:lnTo>
                              <a:pt x="246" y="48"/>
                            </a:lnTo>
                            <a:lnTo>
                              <a:pt x="273" y="77"/>
                            </a:lnTo>
                            <a:lnTo>
                              <a:pt x="291" y="102"/>
                            </a:lnTo>
                            <a:lnTo>
                              <a:pt x="295" y="137"/>
                            </a:lnTo>
                            <a:lnTo>
                              <a:pt x="296" y="167"/>
                            </a:lnTo>
                            <a:lnTo>
                              <a:pt x="295" y="203"/>
                            </a:lnTo>
                            <a:lnTo>
                              <a:pt x="292" y="236"/>
                            </a:lnTo>
                            <a:lnTo>
                              <a:pt x="286" y="268"/>
                            </a:lnTo>
                            <a:lnTo>
                              <a:pt x="278" y="296"/>
                            </a:lnTo>
                            <a:lnTo>
                              <a:pt x="269" y="326"/>
                            </a:lnTo>
                            <a:lnTo>
                              <a:pt x="83" y="193"/>
                            </a:lnTo>
                            <a:lnTo>
                              <a:pt x="0" y="128"/>
                            </a:lnTo>
                            <a:close/>
                          </a:path>
                        </a:pathLst>
                      </a:custGeom>
                      <a:solidFill>
                        <a:srgbClr val="ffc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54" name=""/>
                      <p:cNvSpPr/>
                      <p:nvPr/>
                    </p:nvSpPr>
                    <p:spPr>
                      <a:xfrm>
                        <a:off x="6889680" y="3051000"/>
                        <a:ext cx="451080" cy="411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84" h="259">
                            <a:moveTo>
                              <a:pt x="53" y="0"/>
                            </a:moveTo>
                            <a:lnTo>
                              <a:pt x="73" y="73"/>
                            </a:lnTo>
                            <a:lnTo>
                              <a:pt x="154" y="50"/>
                            </a:lnTo>
                            <a:lnTo>
                              <a:pt x="154" y="134"/>
                            </a:lnTo>
                            <a:lnTo>
                              <a:pt x="233" y="109"/>
                            </a:lnTo>
                            <a:lnTo>
                              <a:pt x="240" y="188"/>
                            </a:lnTo>
                            <a:lnTo>
                              <a:pt x="284" y="163"/>
                            </a:lnTo>
                            <a:lnTo>
                              <a:pt x="280" y="192"/>
                            </a:lnTo>
                            <a:lnTo>
                              <a:pt x="275" y="218"/>
                            </a:lnTo>
                            <a:lnTo>
                              <a:pt x="262" y="259"/>
                            </a:lnTo>
                            <a:lnTo>
                              <a:pt x="109" y="170"/>
                            </a:lnTo>
                            <a:lnTo>
                              <a:pt x="0" y="60"/>
                            </a:lnTo>
                            <a:lnTo>
                              <a:pt x="32" y="21"/>
                            </a:lnTo>
                            <a:lnTo>
                              <a:pt x="53" y="0"/>
                            </a:lnTo>
                            <a:close/>
                          </a:path>
                        </a:pathLst>
                      </a:custGeom>
                      <a:solidFill>
                        <a:srgbClr val="ff6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55" name=""/>
                      <p:cNvSpPr/>
                      <p:nvPr/>
                    </p:nvSpPr>
                    <p:spPr>
                      <a:xfrm>
                        <a:off x="6996240" y="3038400"/>
                        <a:ext cx="334800" cy="276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1" h="174">
                            <a:moveTo>
                              <a:pt x="0" y="0"/>
                            </a:moveTo>
                            <a:lnTo>
                              <a:pt x="16" y="66"/>
                            </a:lnTo>
                            <a:lnTo>
                              <a:pt x="102" y="42"/>
                            </a:lnTo>
                            <a:lnTo>
                              <a:pt x="102" y="125"/>
                            </a:lnTo>
                            <a:lnTo>
                              <a:pt x="175" y="101"/>
                            </a:lnTo>
                            <a:lnTo>
                              <a:pt x="182" y="174"/>
                            </a:lnTo>
                            <a:lnTo>
                              <a:pt x="211" y="159"/>
                            </a:lnTo>
                          </a:path>
                        </a:pathLst>
                      </a:custGeom>
                      <a:noFill/>
                      <a:ln w="11160">
                        <a:solidFill>
                          <a:srgbClr val="ff002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456" name=""/>
                    <p:cNvSpPr/>
                    <p:nvPr/>
                  </p:nvSpPr>
                  <p:spPr>
                    <a:xfrm>
                      <a:off x="6334200" y="2997360"/>
                      <a:ext cx="1396800" cy="69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0" h="438">
                          <a:moveTo>
                            <a:pt x="365" y="86"/>
                          </a:moveTo>
                          <a:lnTo>
                            <a:pt x="338" y="65"/>
                          </a:lnTo>
                          <a:lnTo>
                            <a:pt x="305" y="46"/>
                          </a:lnTo>
                          <a:lnTo>
                            <a:pt x="274" y="32"/>
                          </a:lnTo>
                          <a:lnTo>
                            <a:pt x="241" y="19"/>
                          </a:lnTo>
                          <a:lnTo>
                            <a:pt x="204" y="10"/>
                          </a:lnTo>
                          <a:lnTo>
                            <a:pt x="165" y="4"/>
                          </a:lnTo>
                          <a:lnTo>
                            <a:pt x="131" y="1"/>
                          </a:lnTo>
                          <a:lnTo>
                            <a:pt x="106" y="0"/>
                          </a:lnTo>
                          <a:lnTo>
                            <a:pt x="77" y="3"/>
                          </a:lnTo>
                          <a:lnTo>
                            <a:pt x="52" y="10"/>
                          </a:lnTo>
                          <a:lnTo>
                            <a:pt x="32" y="22"/>
                          </a:lnTo>
                          <a:lnTo>
                            <a:pt x="21" y="33"/>
                          </a:lnTo>
                          <a:lnTo>
                            <a:pt x="11" y="46"/>
                          </a:lnTo>
                          <a:lnTo>
                            <a:pt x="5" y="61"/>
                          </a:lnTo>
                          <a:lnTo>
                            <a:pt x="0" y="84"/>
                          </a:lnTo>
                          <a:lnTo>
                            <a:pt x="1" y="111"/>
                          </a:lnTo>
                          <a:lnTo>
                            <a:pt x="7" y="134"/>
                          </a:lnTo>
                          <a:lnTo>
                            <a:pt x="18" y="159"/>
                          </a:lnTo>
                          <a:lnTo>
                            <a:pt x="31" y="180"/>
                          </a:lnTo>
                          <a:lnTo>
                            <a:pt x="50" y="204"/>
                          </a:lnTo>
                          <a:lnTo>
                            <a:pt x="72" y="223"/>
                          </a:lnTo>
                          <a:lnTo>
                            <a:pt x="96" y="240"/>
                          </a:lnTo>
                          <a:lnTo>
                            <a:pt x="123" y="254"/>
                          </a:lnTo>
                          <a:lnTo>
                            <a:pt x="151" y="266"/>
                          </a:lnTo>
                          <a:lnTo>
                            <a:pt x="183" y="275"/>
                          </a:lnTo>
                          <a:lnTo>
                            <a:pt x="216" y="286"/>
                          </a:lnTo>
                          <a:lnTo>
                            <a:pt x="257" y="298"/>
                          </a:lnTo>
                          <a:lnTo>
                            <a:pt x="297" y="319"/>
                          </a:lnTo>
                          <a:lnTo>
                            <a:pt x="331" y="337"/>
                          </a:lnTo>
                          <a:lnTo>
                            <a:pt x="368" y="355"/>
                          </a:lnTo>
                          <a:lnTo>
                            <a:pt x="399" y="370"/>
                          </a:lnTo>
                          <a:lnTo>
                            <a:pt x="431" y="386"/>
                          </a:lnTo>
                          <a:lnTo>
                            <a:pt x="461" y="401"/>
                          </a:lnTo>
                          <a:lnTo>
                            <a:pt x="498" y="413"/>
                          </a:lnTo>
                          <a:lnTo>
                            <a:pt x="535" y="423"/>
                          </a:lnTo>
                          <a:lnTo>
                            <a:pt x="572" y="429"/>
                          </a:lnTo>
                          <a:lnTo>
                            <a:pt x="614" y="434"/>
                          </a:lnTo>
                          <a:lnTo>
                            <a:pt x="653" y="436"/>
                          </a:lnTo>
                          <a:lnTo>
                            <a:pt x="696" y="438"/>
                          </a:lnTo>
                          <a:lnTo>
                            <a:pt x="744" y="436"/>
                          </a:lnTo>
                          <a:lnTo>
                            <a:pt x="780" y="429"/>
                          </a:lnTo>
                          <a:lnTo>
                            <a:pt x="818" y="418"/>
                          </a:lnTo>
                          <a:lnTo>
                            <a:pt x="845" y="402"/>
                          </a:lnTo>
                          <a:lnTo>
                            <a:pt x="863" y="386"/>
                          </a:lnTo>
                          <a:lnTo>
                            <a:pt x="873" y="374"/>
                          </a:lnTo>
                          <a:lnTo>
                            <a:pt x="879" y="362"/>
                          </a:lnTo>
                          <a:lnTo>
                            <a:pt x="880" y="346"/>
                          </a:lnTo>
                          <a:lnTo>
                            <a:pt x="879" y="333"/>
                          </a:lnTo>
                          <a:lnTo>
                            <a:pt x="875" y="320"/>
                          </a:lnTo>
                          <a:lnTo>
                            <a:pt x="868" y="309"/>
                          </a:lnTo>
                          <a:lnTo>
                            <a:pt x="859" y="303"/>
                          </a:lnTo>
                          <a:lnTo>
                            <a:pt x="832" y="300"/>
                          </a:lnTo>
                          <a:lnTo>
                            <a:pt x="805" y="303"/>
                          </a:lnTo>
                          <a:lnTo>
                            <a:pt x="773" y="305"/>
                          </a:lnTo>
                          <a:lnTo>
                            <a:pt x="742" y="303"/>
                          </a:lnTo>
                          <a:lnTo>
                            <a:pt x="710" y="299"/>
                          </a:lnTo>
                          <a:lnTo>
                            <a:pt x="684" y="295"/>
                          </a:lnTo>
                          <a:lnTo>
                            <a:pt x="658" y="291"/>
                          </a:lnTo>
                          <a:lnTo>
                            <a:pt x="626" y="283"/>
                          </a:lnTo>
                          <a:lnTo>
                            <a:pt x="594" y="270"/>
                          </a:lnTo>
                          <a:lnTo>
                            <a:pt x="565" y="256"/>
                          </a:lnTo>
                          <a:lnTo>
                            <a:pt x="541" y="239"/>
                          </a:lnTo>
                          <a:lnTo>
                            <a:pt x="505" y="212"/>
                          </a:lnTo>
                          <a:lnTo>
                            <a:pt x="481" y="191"/>
                          </a:lnTo>
                          <a:lnTo>
                            <a:pt x="455" y="168"/>
                          </a:lnTo>
                          <a:lnTo>
                            <a:pt x="427" y="141"/>
                          </a:lnTo>
                          <a:lnTo>
                            <a:pt x="397" y="114"/>
                          </a:lnTo>
                          <a:lnTo>
                            <a:pt x="365" y="86"/>
                          </a:lnTo>
                          <a:close/>
                        </a:path>
                      </a:pathLst>
                    </a:custGeom>
                    <a:solidFill>
                      <a:srgbClr val="ffa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57" name=""/>
                  <p:cNvGrpSpPr/>
                  <p:nvPr/>
                </p:nvGrpSpPr>
                <p:grpSpPr>
                  <a:xfrm>
                    <a:off x="6337440" y="3021120"/>
                    <a:ext cx="1385640" cy="747720"/>
                    <a:chOff x="6337440" y="3021120"/>
                    <a:chExt cx="1385640" cy="747720"/>
                  </a:xfrm>
                </p:grpSpPr>
                <p:grpSp>
                  <p:nvGrpSpPr>
                    <p:cNvPr id="458" name=""/>
                    <p:cNvGrpSpPr/>
                    <p:nvPr/>
                  </p:nvGrpSpPr>
                  <p:grpSpPr>
                    <a:xfrm>
                      <a:off x="6351480" y="3067200"/>
                      <a:ext cx="47880" cy="93600"/>
                      <a:chOff x="6351480" y="3067200"/>
                      <a:chExt cx="47880" cy="93600"/>
                    </a:xfrm>
                  </p:grpSpPr>
                  <p:sp>
                    <p:nvSpPr>
                      <p:cNvPr id="459" name=""/>
                      <p:cNvSpPr/>
                      <p:nvPr/>
                    </p:nvSpPr>
                    <p:spPr>
                      <a:xfrm>
                        <a:off x="6372360" y="3067200"/>
                        <a:ext cx="1440" cy="72720"/>
                      </a:xfrm>
                      <a:prstGeom prst="line">
                        <a:avLst/>
                      </a:prstGeom>
                      <a:ln w="11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5920" bIns="25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60" name=""/>
                      <p:cNvSpPr/>
                      <p:nvPr/>
                    </p:nvSpPr>
                    <p:spPr>
                      <a:xfrm>
                        <a:off x="6351480" y="3111480"/>
                        <a:ext cx="47880" cy="49320"/>
                      </a:xfrm>
                      <a:prstGeom prst="ellipse">
                        <a:avLst/>
                      </a:prstGeom>
                      <a:solidFill>
                        <a:srgbClr val="ff0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1880" bIns="-11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61" name=""/>
                    <p:cNvGrpSpPr/>
                    <p:nvPr/>
                  </p:nvGrpSpPr>
                  <p:grpSpPr>
                    <a:xfrm>
                      <a:off x="6337440" y="3181320"/>
                      <a:ext cx="47520" cy="93600"/>
                      <a:chOff x="6337440" y="3181320"/>
                      <a:chExt cx="47520" cy="93600"/>
                    </a:xfrm>
                  </p:grpSpPr>
                  <p:sp>
                    <p:nvSpPr>
                      <p:cNvPr id="462" name=""/>
                      <p:cNvSpPr/>
                      <p:nvPr/>
                    </p:nvSpPr>
                    <p:spPr>
                      <a:xfrm>
                        <a:off x="6357960" y="3181320"/>
                        <a:ext cx="1440" cy="73080"/>
                      </a:xfrm>
                      <a:prstGeom prst="line">
                        <a:avLst/>
                      </a:prstGeom>
                      <a:ln w="11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6280" bIns="26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63" name=""/>
                      <p:cNvSpPr/>
                      <p:nvPr/>
                    </p:nvSpPr>
                    <p:spPr>
                      <a:xfrm>
                        <a:off x="6337440" y="3225960"/>
                        <a:ext cx="47520" cy="48960"/>
                      </a:xfrm>
                      <a:prstGeom prst="ellipse">
                        <a:avLst/>
                      </a:prstGeom>
                      <a:solidFill>
                        <a:srgbClr val="ff0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2240" bIns="-122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64" name=""/>
                    <p:cNvGrpSpPr/>
                    <p:nvPr/>
                  </p:nvGrpSpPr>
                  <p:grpSpPr>
                    <a:xfrm>
                      <a:off x="6423120" y="3038400"/>
                      <a:ext cx="48960" cy="93600"/>
                      <a:chOff x="6423120" y="3038400"/>
                      <a:chExt cx="48960" cy="93600"/>
                    </a:xfrm>
                  </p:grpSpPr>
                  <p:sp>
                    <p:nvSpPr>
                      <p:cNvPr id="465" name=""/>
                      <p:cNvSpPr/>
                      <p:nvPr/>
                    </p:nvSpPr>
                    <p:spPr>
                      <a:xfrm>
                        <a:off x="6445080" y="3038400"/>
                        <a:ext cx="1800" cy="73080"/>
                      </a:xfrm>
                      <a:prstGeom prst="line">
                        <a:avLst/>
                      </a:prstGeom>
                      <a:ln w="11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6280" bIns="26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66" name=""/>
                      <p:cNvSpPr/>
                      <p:nvPr/>
                    </p:nvSpPr>
                    <p:spPr>
                      <a:xfrm>
                        <a:off x="6423120" y="3083040"/>
                        <a:ext cx="48960" cy="48960"/>
                      </a:xfrm>
                      <a:prstGeom prst="ellipse">
                        <a:avLst/>
                      </a:prstGeom>
                      <a:solidFill>
                        <a:srgbClr val="ff0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2240" bIns="-122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67" name=""/>
                    <p:cNvGrpSpPr/>
                    <p:nvPr/>
                  </p:nvGrpSpPr>
                  <p:grpSpPr>
                    <a:xfrm>
                      <a:off x="6510240" y="3021120"/>
                      <a:ext cx="49320" cy="93600"/>
                      <a:chOff x="6510240" y="3021120"/>
                      <a:chExt cx="49320" cy="93600"/>
                    </a:xfrm>
                  </p:grpSpPr>
                  <p:sp>
                    <p:nvSpPr>
                      <p:cNvPr id="468" name=""/>
                      <p:cNvSpPr/>
                      <p:nvPr/>
                    </p:nvSpPr>
                    <p:spPr>
                      <a:xfrm>
                        <a:off x="6532560" y="3021120"/>
                        <a:ext cx="1440" cy="73080"/>
                      </a:xfrm>
                      <a:prstGeom prst="line">
                        <a:avLst/>
                      </a:prstGeom>
                      <a:ln w="11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6280" bIns="26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69" name=""/>
                      <p:cNvSpPr/>
                      <p:nvPr/>
                    </p:nvSpPr>
                    <p:spPr>
                      <a:xfrm>
                        <a:off x="6510240" y="3065400"/>
                        <a:ext cx="49320" cy="49320"/>
                      </a:xfrm>
                      <a:prstGeom prst="ellipse">
                        <a:avLst/>
                      </a:prstGeom>
                      <a:solidFill>
                        <a:srgbClr val="ff0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1880" bIns="-11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70" name=""/>
                    <p:cNvGrpSpPr/>
                    <p:nvPr/>
                  </p:nvGrpSpPr>
                  <p:grpSpPr>
                    <a:xfrm>
                      <a:off x="6611760" y="3032280"/>
                      <a:ext cx="49320" cy="93600"/>
                      <a:chOff x="6611760" y="3032280"/>
                      <a:chExt cx="49320" cy="93600"/>
                    </a:xfrm>
                  </p:grpSpPr>
                  <p:sp>
                    <p:nvSpPr>
                      <p:cNvPr id="471" name=""/>
                      <p:cNvSpPr/>
                      <p:nvPr/>
                    </p:nvSpPr>
                    <p:spPr>
                      <a:xfrm>
                        <a:off x="6634080" y="3032280"/>
                        <a:ext cx="1800" cy="72720"/>
                      </a:xfrm>
                      <a:prstGeom prst="line">
                        <a:avLst/>
                      </a:prstGeom>
                      <a:ln w="11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5920" bIns="25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72" name=""/>
                      <p:cNvSpPr/>
                      <p:nvPr/>
                    </p:nvSpPr>
                    <p:spPr>
                      <a:xfrm>
                        <a:off x="6611760" y="3076560"/>
                        <a:ext cx="49320" cy="49320"/>
                      </a:xfrm>
                      <a:prstGeom prst="ellipse">
                        <a:avLst/>
                      </a:prstGeom>
                      <a:solidFill>
                        <a:srgbClr val="ff0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1880" bIns="-11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73" name=""/>
                    <p:cNvGrpSpPr/>
                    <p:nvPr/>
                  </p:nvGrpSpPr>
                  <p:grpSpPr>
                    <a:xfrm>
                      <a:off x="6719760" y="3065400"/>
                      <a:ext cx="49320" cy="93600"/>
                      <a:chOff x="6719760" y="3065400"/>
                      <a:chExt cx="49320" cy="93600"/>
                    </a:xfrm>
                  </p:grpSpPr>
                  <p:sp>
                    <p:nvSpPr>
                      <p:cNvPr id="474" name=""/>
                      <p:cNvSpPr/>
                      <p:nvPr/>
                    </p:nvSpPr>
                    <p:spPr>
                      <a:xfrm>
                        <a:off x="6742080" y="3065400"/>
                        <a:ext cx="1800" cy="73080"/>
                      </a:xfrm>
                      <a:prstGeom prst="line">
                        <a:avLst/>
                      </a:prstGeom>
                      <a:ln w="11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6280" bIns="26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75" name=""/>
                      <p:cNvSpPr/>
                      <p:nvPr/>
                    </p:nvSpPr>
                    <p:spPr>
                      <a:xfrm>
                        <a:off x="6719760" y="3110040"/>
                        <a:ext cx="49320" cy="48960"/>
                      </a:xfrm>
                      <a:prstGeom prst="ellipse">
                        <a:avLst/>
                      </a:prstGeom>
                      <a:solidFill>
                        <a:srgbClr val="ff0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2240" bIns="-122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76" name=""/>
                    <p:cNvGrpSpPr/>
                    <p:nvPr/>
                  </p:nvGrpSpPr>
                  <p:grpSpPr>
                    <a:xfrm>
                      <a:off x="6375240" y="3274920"/>
                      <a:ext cx="49320" cy="93600"/>
                      <a:chOff x="6375240" y="3274920"/>
                      <a:chExt cx="49320" cy="93600"/>
                    </a:xfrm>
                  </p:grpSpPr>
                  <p:sp>
                    <p:nvSpPr>
                      <p:cNvPr id="477" name=""/>
                      <p:cNvSpPr/>
                      <p:nvPr/>
                    </p:nvSpPr>
                    <p:spPr>
                      <a:xfrm>
                        <a:off x="6397560" y="3274920"/>
                        <a:ext cx="1800" cy="73080"/>
                      </a:xfrm>
                      <a:prstGeom prst="line">
                        <a:avLst/>
                      </a:prstGeom>
                      <a:ln w="11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6280" bIns="26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78" name=""/>
                      <p:cNvSpPr/>
                      <p:nvPr/>
                    </p:nvSpPr>
                    <p:spPr>
                      <a:xfrm>
                        <a:off x="6375240" y="3319560"/>
                        <a:ext cx="49320" cy="48960"/>
                      </a:xfrm>
                      <a:prstGeom prst="ellipse">
                        <a:avLst/>
                      </a:prstGeom>
                      <a:solidFill>
                        <a:srgbClr val="ff0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2240" bIns="-122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79" name=""/>
                    <p:cNvGrpSpPr/>
                    <p:nvPr/>
                  </p:nvGrpSpPr>
                  <p:grpSpPr>
                    <a:xfrm>
                      <a:off x="6462720" y="3344760"/>
                      <a:ext cx="49320" cy="93600"/>
                      <a:chOff x="6462720" y="3344760"/>
                      <a:chExt cx="49320" cy="93600"/>
                    </a:xfrm>
                  </p:grpSpPr>
                  <p:sp>
                    <p:nvSpPr>
                      <p:cNvPr id="480" name=""/>
                      <p:cNvSpPr/>
                      <p:nvPr/>
                    </p:nvSpPr>
                    <p:spPr>
                      <a:xfrm>
                        <a:off x="6485040" y="3344760"/>
                        <a:ext cx="1440" cy="73080"/>
                      </a:xfrm>
                      <a:prstGeom prst="line">
                        <a:avLst/>
                      </a:prstGeom>
                      <a:ln w="11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6280" bIns="26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81" name=""/>
                      <p:cNvSpPr/>
                      <p:nvPr/>
                    </p:nvSpPr>
                    <p:spPr>
                      <a:xfrm>
                        <a:off x="6462720" y="3389400"/>
                        <a:ext cx="49320" cy="48960"/>
                      </a:xfrm>
                      <a:prstGeom prst="ellipse">
                        <a:avLst/>
                      </a:prstGeom>
                      <a:solidFill>
                        <a:srgbClr val="ff0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2240" bIns="-122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82" name=""/>
                    <p:cNvGrpSpPr/>
                    <p:nvPr/>
                  </p:nvGrpSpPr>
                  <p:grpSpPr>
                    <a:xfrm>
                      <a:off x="6546960" y="3390840"/>
                      <a:ext cx="48960" cy="93600"/>
                      <a:chOff x="6546960" y="3390840"/>
                      <a:chExt cx="48960" cy="93600"/>
                    </a:xfrm>
                  </p:grpSpPr>
                  <p:sp>
                    <p:nvSpPr>
                      <p:cNvPr id="483" name=""/>
                      <p:cNvSpPr/>
                      <p:nvPr/>
                    </p:nvSpPr>
                    <p:spPr>
                      <a:xfrm>
                        <a:off x="6568920" y="3390840"/>
                        <a:ext cx="1800" cy="73080"/>
                      </a:xfrm>
                      <a:prstGeom prst="line">
                        <a:avLst/>
                      </a:prstGeom>
                      <a:ln w="11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6280" bIns="26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84" name=""/>
                      <p:cNvSpPr/>
                      <p:nvPr/>
                    </p:nvSpPr>
                    <p:spPr>
                      <a:xfrm>
                        <a:off x="6546960" y="3435480"/>
                        <a:ext cx="48960" cy="48960"/>
                      </a:xfrm>
                      <a:prstGeom prst="ellipse">
                        <a:avLst/>
                      </a:prstGeom>
                      <a:solidFill>
                        <a:srgbClr val="ff0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2240" bIns="-122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85" name=""/>
                    <p:cNvGrpSpPr/>
                    <p:nvPr/>
                  </p:nvGrpSpPr>
                  <p:grpSpPr>
                    <a:xfrm>
                      <a:off x="6630840" y="3429000"/>
                      <a:ext cx="49320" cy="93600"/>
                      <a:chOff x="6630840" y="3429000"/>
                      <a:chExt cx="49320" cy="93600"/>
                    </a:xfrm>
                  </p:grpSpPr>
                  <p:sp>
                    <p:nvSpPr>
                      <p:cNvPr id="486" name=""/>
                      <p:cNvSpPr/>
                      <p:nvPr/>
                    </p:nvSpPr>
                    <p:spPr>
                      <a:xfrm>
                        <a:off x="6653160" y="3429000"/>
                        <a:ext cx="1800" cy="73080"/>
                      </a:xfrm>
                      <a:prstGeom prst="line">
                        <a:avLst/>
                      </a:prstGeom>
                      <a:ln w="11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6280" bIns="26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87" name=""/>
                      <p:cNvSpPr/>
                      <p:nvPr/>
                    </p:nvSpPr>
                    <p:spPr>
                      <a:xfrm>
                        <a:off x="6630840" y="3473280"/>
                        <a:ext cx="49320" cy="49320"/>
                      </a:xfrm>
                      <a:prstGeom prst="ellipse">
                        <a:avLst/>
                      </a:prstGeom>
                      <a:solidFill>
                        <a:srgbClr val="ff0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1880" bIns="-11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88" name=""/>
                    <p:cNvGrpSpPr/>
                    <p:nvPr/>
                  </p:nvGrpSpPr>
                  <p:grpSpPr>
                    <a:xfrm>
                      <a:off x="6924600" y="3197160"/>
                      <a:ext cx="49320" cy="93600"/>
                      <a:chOff x="6924600" y="3197160"/>
                      <a:chExt cx="49320" cy="93600"/>
                    </a:xfrm>
                  </p:grpSpPr>
                  <p:sp>
                    <p:nvSpPr>
                      <p:cNvPr id="489" name=""/>
                      <p:cNvSpPr/>
                      <p:nvPr/>
                    </p:nvSpPr>
                    <p:spPr>
                      <a:xfrm>
                        <a:off x="6946920" y="3197160"/>
                        <a:ext cx="1440" cy="73080"/>
                      </a:xfrm>
                      <a:prstGeom prst="line">
                        <a:avLst/>
                      </a:prstGeom>
                      <a:ln w="11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6280" bIns="26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90" name=""/>
                      <p:cNvSpPr/>
                      <p:nvPr/>
                    </p:nvSpPr>
                    <p:spPr>
                      <a:xfrm>
                        <a:off x="6924600" y="3241800"/>
                        <a:ext cx="49320" cy="48960"/>
                      </a:xfrm>
                      <a:prstGeom prst="ellipse">
                        <a:avLst/>
                      </a:prstGeom>
                      <a:solidFill>
                        <a:srgbClr val="ff0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2240" bIns="-122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91" name=""/>
                    <p:cNvGrpSpPr/>
                    <p:nvPr/>
                  </p:nvGrpSpPr>
                  <p:grpSpPr>
                    <a:xfrm>
                      <a:off x="7018200" y="3282840"/>
                      <a:ext cx="49320" cy="93600"/>
                      <a:chOff x="7018200" y="3282840"/>
                      <a:chExt cx="49320" cy="93600"/>
                    </a:xfrm>
                  </p:grpSpPr>
                  <p:sp>
                    <p:nvSpPr>
                      <p:cNvPr id="492" name=""/>
                      <p:cNvSpPr/>
                      <p:nvPr/>
                    </p:nvSpPr>
                    <p:spPr>
                      <a:xfrm>
                        <a:off x="7040520" y="3282840"/>
                        <a:ext cx="1800" cy="73080"/>
                      </a:xfrm>
                      <a:prstGeom prst="line">
                        <a:avLst/>
                      </a:prstGeom>
                      <a:ln w="11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6280" bIns="26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93" name=""/>
                      <p:cNvSpPr/>
                      <p:nvPr/>
                    </p:nvSpPr>
                    <p:spPr>
                      <a:xfrm>
                        <a:off x="7018200" y="3327480"/>
                        <a:ext cx="49320" cy="48960"/>
                      </a:xfrm>
                      <a:prstGeom prst="ellipse">
                        <a:avLst/>
                      </a:prstGeom>
                      <a:solidFill>
                        <a:srgbClr val="ff0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2240" bIns="-122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94" name=""/>
                    <p:cNvGrpSpPr/>
                    <p:nvPr/>
                  </p:nvGrpSpPr>
                  <p:grpSpPr>
                    <a:xfrm>
                      <a:off x="7095960" y="3352680"/>
                      <a:ext cx="49320" cy="93960"/>
                      <a:chOff x="7095960" y="3352680"/>
                      <a:chExt cx="49320" cy="93960"/>
                    </a:xfrm>
                  </p:grpSpPr>
                  <p:sp>
                    <p:nvSpPr>
                      <p:cNvPr id="495" name=""/>
                      <p:cNvSpPr/>
                      <p:nvPr/>
                    </p:nvSpPr>
                    <p:spPr>
                      <a:xfrm>
                        <a:off x="7118280" y="3352680"/>
                        <a:ext cx="1800" cy="73080"/>
                      </a:xfrm>
                      <a:prstGeom prst="line">
                        <a:avLst/>
                      </a:prstGeom>
                      <a:ln w="11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6280" bIns="26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96" name=""/>
                      <p:cNvSpPr/>
                      <p:nvPr/>
                    </p:nvSpPr>
                    <p:spPr>
                      <a:xfrm>
                        <a:off x="7095960" y="3397320"/>
                        <a:ext cx="49320" cy="49320"/>
                      </a:xfrm>
                      <a:prstGeom prst="ellipse">
                        <a:avLst/>
                      </a:prstGeom>
                      <a:solidFill>
                        <a:srgbClr val="ff0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1880" bIns="-11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97" name=""/>
                    <p:cNvGrpSpPr/>
                    <p:nvPr/>
                  </p:nvGrpSpPr>
                  <p:grpSpPr>
                    <a:xfrm>
                      <a:off x="7176960" y="3409920"/>
                      <a:ext cx="49320" cy="93600"/>
                      <a:chOff x="7176960" y="3409920"/>
                      <a:chExt cx="49320" cy="93600"/>
                    </a:xfrm>
                  </p:grpSpPr>
                  <p:sp>
                    <p:nvSpPr>
                      <p:cNvPr id="498" name=""/>
                      <p:cNvSpPr/>
                      <p:nvPr/>
                    </p:nvSpPr>
                    <p:spPr>
                      <a:xfrm>
                        <a:off x="7199280" y="3409920"/>
                        <a:ext cx="1800" cy="73080"/>
                      </a:xfrm>
                      <a:prstGeom prst="line">
                        <a:avLst/>
                      </a:prstGeom>
                      <a:ln w="11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6280" bIns="26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99" name=""/>
                      <p:cNvSpPr/>
                      <p:nvPr/>
                    </p:nvSpPr>
                    <p:spPr>
                      <a:xfrm>
                        <a:off x="7176960" y="3454560"/>
                        <a:ext cx="49320" cy="48960"/>
                      </a:xfrm>
                      <a:prstGeom prst="ellipse">
                        <a:avLst/>
                      </a:prstGeom>
                      <a:solidFill>
                        <a:srgbClr val="ff0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2240" bIns="-122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500" name=""/>
                    <p:cNvGrpSpPr/>
                    <p:nvPr/>
                  </p:nvGrpSpPr>
                  <p:grpSpPr>
                    <a:xfrm>
                      <a:off x="6824520" y="3119400"/>
                      <a:ext cx="49320" cy="95400"/>
                      <a:chOff x="6824520" y="3119400"/>
                      <a:chExt cx="49320" cy="95400"/>
                    </a:xfrm>
                  </p:grpSpPr>
                  <p:sp>
                    <p:nvSpPr>
                      <p:cNvPr id="501" name=""/>
                      <p:cNvSpPr/>
                      <p:nvPr/>
                    </p:nvSpPr>
                    <p:spPr>
                      <a:xfrm>
                        <a:off x="6846840" y="3119400"/>
                        <a:ext cx="1800" cy="74520"/>
                      </a:xfrm>
                      <a:prstGeom prst="line">
                        <a:avLst/>
                      </a:prstGeom>
                      <a:ln w="11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7720" bIns="27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02" name=""/>
                      <p:cNvSpPr/>
                      <p:nvPr/>
                    </p:nvSpPr>
                    <p:spPr>
                      <a:xfrm>
                        <a:off x="6824520" y="3164040"/>
                        <a:ext cx="49320" cy="50760"/>
                      </a:xfrm>
                      <a:prstGeom prst="ellipse">
                        <a:avLst/>
                      </a:prstGeom>
                      <a:solidFill>
                        <a:srgbClr val="ff0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0440" bIns="-10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503" name=""/>
                    <p:cNvGrpSpPr/>
                    <p:nvPr/>
                  </p:nvGrpSpPr>
                  <p:grpSpPr>
                    <a:xfrm>
                      <a:off x="7275600" y="3454560"/>
                      <a:ext cx="48960" cy="93600"/>
                      <a:chOff x="7275600" y="3454560"/>
                      <a:chExt cx="48960" cy="93600"/>
                    </a:xfrm>
                  </p:grpSpPr>
                  <p:sp>
                    <p:nvSpPr>
                      <p:cNvPr id="504" name=""/>
                      <p:cNvSpPr/>
                      <p:nvPr/>
                    </p:nvSpPr>
                    <p:spPr>
                      <a:xfrm>
                        <a:off x="7297560" y="3454560"/>
                        <a:ext cx="1800" cy="72720"/>
                      </a:xfrm>
                      <a:prstGeom prst="line">
                        <a:avLst/>
                      </a:prstGeom>
                      <a:ln w="11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5920" bIns="25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05" name=""/>
                      <p:cNvSpPr/>
                      <p:nvPr/>
                    </p:nvSpPr>
                    <p:spPr>
                      <a:xfrm>
                        <a:off x="7275600" y="3498840"/>
                        <a:ext cx="48960" cy="49320"/>
                      </a:xfrm>
                      <a:prstGeom prst="ellipse">
                        <a:avLst/>
                      </a:prstGeom>
                      <a:solidFill>
                        <a:srgbClr val="ff0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1880" bIns="-11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506" name=""/>
                    <p:cNvGrpSpPr/>
                    <p:nvPr/>
                  </p:nvGrpSpPr>
                  <p:grpSpPr>
                    <a:xfrm>
                      <a:off x="7385040" y="3481560"/>
                      <a:ext cx="49320" cy="93600"/>
                      <a:chOff x="7385040" y="3481560"/>
                      <a:chExt cx="49320" cy="93600"/>
                    </a:xfrm>
                  </p:grpSpPr>
                  <p:sp>
                    <p:nvSpPr>
                      <p:cNvPr id="507" name=""/>
                      <p:cNvSpPr/>
                      <p:nvPr/>
                    </p:nvSpPr>
                    <p:spPr>
                      <a:xfrm>
                        <a:off x="7407360" y="3481560"/>
                        <a:ext cx="1440" cy="72720"/>
                      </a:xfrm>
                      <a:prstGeom prst="line">
                        <a:avLst/>
                      </a:prstGeom>
                      <a:ln w="11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5920" bIns="25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08" name=""/>
                      <p:cNvSpPr/>
                      <p:nvPr/>
                    </p:nvSpPr>
                    <p:spPr>
                      <a:xfrm>
                        <a:off x="7385040" y="3525840"/>
                        <a:ext cx="49320" cy="49320"/>
                      </a:xfrm>
                      <a:prstGeom prst="ellipse">
                        <a:avLst/>
                      </a:prstGeom>
                      <a:solidFill>
                        <a:srgbClr val="ff0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1880" bIns="-11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509" name=""/>
                    <p:cNvGrpSpPr/>
                    <p:nvPr/>
                  </p:nvGrpSpPr>
                  <p:grpSpPr>
                    <a:xfrm>
                      <a:off x="7493040" y="3497400"/>
                      <a:ext cx="49320" cy="93600"/>
                      <a:chOff x="7493040" y="3497400"/>
                      <a:chExt cx="49320" cy="93600"/>
                    </a:xfrm>
                  </p:grpSpPr>
                  <p:sp>
                    <p:nvSpPr>
                      <p:cNvPr id="510" name=""/>
                      <p:cNvSpPr/>
                      <p:nvPr/>
                    </p:nvSpPr>
                    <p:spPr>
                      <a:xfrm>
                        <a:off x="7515360" y="3497400"/>
                        <a:ext cx="1440" cy="72720"/>
                      </a:xfrm>
                      <a:prstGeom prst="line">
                        <a:avLst/>
                      </a:prstGeom>
                      <a:ln w="11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5920" bIns="25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11" name=""/>
                      <p:cNvSpPr/>
                      <p:nvPr/>
                    </p:nvSpPr>
                    <p:spPr>
                      <a:xfrm>
                        <a:off x="7493040" y="3541680"/>
                        <a:ext cx="49320" cy="49320"/>
                      </a:xfrm>
                      <a:prstGeom prst="ellipse">
                        <a:avLst/>
                      </a:prstGeom>
                      <a:solidFill>
                        <a:srgbClr val="ff0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1880" bIns="-11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512" name=""/>
                    <p:cNvGrpSpPr/>
                    <p:nvPr/>
                  </p:nvGrpSpPr>
                  <p:grpSpPr>
                    <a:xfrm>
                      <a:off x="7589880" y="3495600"/>
                      <a:ext cx="47520" cy="93600"/>
                      <a:chOff x="7589880" y="3495600"/>
                      <a:chExt cx="47520" cy="93600"/>
                    </a:xfrm>
                  </p:grpSpPr>
                  <p:sp>
                    <p:nvSpPr>
                      <p:cNvPr id="513" name=""/>
                      <p:cNvSpPr/>
                      <p:nvPr/>
                    </p:nvSpPr>
                    <p:spPr>
                      <a:xfrm>
                        <a:off x="7612200" y="3495600"/>
                        <a:ext cx="1440" cy="73080"/>
                      </a:xfrm>
                      <a:prstGeom prst="line">
                        <a:avLst/>
                      </a:prstGeom>
                      <a:ln w="11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6280" bIns="26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14" name=""/>
                      <p:cNvSpPr/>
                      <p:nvPr/>
                    </p:nvSpPr>
                    <p:spPr>
                      <a:xfrm>
                        <a:off x="7589880" y="3540240"/>
                        <a:ext cx="47520" cy="48960"/>
                      </a:xfrm>
                      <a:prstGeom prst="ellipse">
                        <a:avLst/>
                      </a:prstGeom>
                      <a:solidFill>
                        <a:srgbClr val="ff0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2240" bIns="-122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515" name=""/>
                    <p:cNvGrpSpPr/>
                    <p:nvPr/>
                  </p:nvGrpSpPr>
                  <p:grpSpPr>
                    <a:xfrm>
                      <a:off x="7226280" y="3662280"/>
                      <a:ext cx="49320" cy="93600"/>
                      <a:chOff x="7226280" y="3662280"/>
                      <a:chExt cx="49320" cy="93600"/>
                    </a:xfrm>
                  </p:grpSpPr>
                  <p:sp>
                    <p:nvSpPr>
                      <p:cNvPr id="516" name=""/>
                      <p:cNvSpPr/>
                      <p:nvPr/>
                    </p:nvSpPr>
                    <p:spPr>
                      <a:xfrm>
                        <a:off x="7248600" y="3662280"/>
                        <a:ext cx="1440" cy="73080"/>
                      </a:xfrm>
                      <a:prstGeom prst="line">
                        <a:avLst/>
                      </a:prstGeom>
                      <a:ln w="11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6280" bIns="26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17" name=""/>
                      <p:cNvSpPr/>
                      <p:nvPr/>
                    </p:nvSpPr>
                    <p:spPr>
                      <a:xfrm>
                        <a:off x="7226280" y="3706920"/>
                        <a:ext cx="49320" cy="48960"/>
                      </a:xfrm>
                      <a:prstGeom prst="ellipse">
                        <a:avLst/>
                      </a:prstGeom>
                      <a:solidFill>
                        <a:srgbClr val="ff0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2240" bIns="-122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518" name=""/>
                    <p:cNvGrpSpPr/>
                    <p:nvPr/>
                  </p:nvGrpSpPr>
                  <p:grpSpPr>
                    <a:xfrm>
                      <a:off x="7327800" y="3672000"/>
                      <a:ext cx="50760" cy="93600"/>
                      <a:chOff x="7327800" y="3672000"/>
                      <a:chExt cx="50760" cy="93600"/>
                    </a:xfrm>
                  </p:grpSpPr>
                  <p:sp>
                    <p:nvSpPr>
                      <p:cNvPr id="519" name=""/>
                      <p:cNvSpPr/>
                      <p:nvPr/>
                    </p:nvSpPr>
                    <p:spPr>
                      <a:xfrm>
                        <a:off x="7350120" y="3672000"/>
                        <a:ext cx="1440" cy="73080"/>
                      </a:xfrm>
                      <a:prstGeom prst="line">
                        <a:avLst/>
                      </a:prstGeom>
                      <a:ln w="11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6280" bIns="26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20" name=""/>
                      <p:cNvSpPr/>
                      <p:nvPr/>
                    </p:nvSpPr>
                    <p:spPr>
                      <a:xfrm>
                        <a:off x="7327800" y="3716280"/>
                        <a:ext cx="50760" cy="49320"/>
                      </a:xfrm>
                      <a:prstGeom prst="ellipse">
                        <a:avLst/>
                      </a:prstGeom>
                      <a:solidFill>
                        <a:srgbClr val="ff0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1880" bIns="-11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521" name=""/>
                    <p:cNvGrpSpPr/>
                    <p:nvPr/>
                  </p:nvGrpSpPr>
                  <p:grpSpPr>
                    <a:xfrm>
                      <a:off x="7424640" y="3675240"/>
                      <a:ext cx="49320" cy="93600"/>
                      <a:chOff x="7424640" y="3675240"/>
                      <a:chExt cx="49320" cy="93600"/>
                    </a:xfrm>
                  </p:grpSpPr>
                  <p:sp>
                    <p:nvSpPr>
                      <p:cNvPr id="522" name=""/>
                      <p:cNvSpPr/>
                      <p:nvPr/>
                    </p:nvSpPr>
                    <p:spPr>
                      <a:xfrm>
                        <a:off x="7446960" y="3675240"/>
                        <a:ext cx="1440" cy="72720"/>
                      </a:xfrm>
                      <a:prstGeom prst="line">
                        <a:avLst/>
                      </a:prstGeom>
                      <a:ln w="11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5920" bIns="25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23" name=""/>
                      <p:cNvSpPr/>
                      <p:nvPr/>
                    </p:nvSpPr>
                    <p:spPr>
                      <a:xfrm>
                        <a:off x="7424640" y="3719520"/>
                        <a:ext cx="49320" cy="49320"/>
                      </a:xfrm>
                      <a:prstGeom prst="ellipse">
                        <a:avLst/>
                      </a:prstGeom>
                      <a:solidFill>
                        <a:srgbClr val="ff0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1880" bIns="-11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524" name=""/>
                    <p:cNvGrpSpPr/>
                    <p:nvPr/>
                  </p:nvGrpSpPr>
                  <p:grpSpPr>
                    <a:xfrm>
                      <a:off x="7518240" y="3666960"/>
                      <a:ext cx="49320" cy="93960"/>
                      <a:chOff x="7518240" y="3666960"/>
                      <a:chExt cx="49320" cy="93960"/>
                    </a:xfrm>
                  </p:grpSpPr>
                  <p:sp>
                    <p:nvSpPr>
                      <p:cNvPr id="525" name=""/>
                      <p:cNvSpPr/>
                      <p:nvPr/>
                    </p:nvSpPr>
                    <p:spPr>
                      <a:xfrm>
                        <a:off x="7540560" y="3666960"/>
                        <a:ext cx="1800" cy="73080"/>
                      </a:xfrm>
                      <a:prstGeom prst="line">
                        <a:avLst/>
                      </a:prstGeom>
                      <a:ln w="11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6280" bIns="26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26" name=""/>
                      <p:cNvSpPr/>
                      <p:nvPr/>
                    </p:nvSpPr>
                    <p:spPr>
                      <a:xfrm>
                        <a:off x="7518240" y="3711600"/>
                        <a:ext cx="49320" cy="49320"/>
                      </a:xfrm>
                      <a:prstGeom prst="ellipse">
                        <a:avLst/>
                      </a:prstGeom>
                      <a:solidFill>
                        <a:srgbClr val="ff0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1880" bIns="-11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527" name=""/>
                    <p:cNvGrpSpPr/>
                    <p:nvPr/>
                  </p:nvGrpSpPr>
                  <p:grpSpPr>
                    <a:xfrm>
                      <a:off x="7602480" y="3643200"/>
                      <a:ext cx="47520" cy="93600"/>
                      <a:chOff x="7602480" y="3643200"/>
                      <a:chExt cx="47520" cy="93600"/>
                    </a:xfrm>
                  </p:grpSpPr>
                  <p:sp>
                    <p:nvSpPr>
                      <p:cNvPr id="528" name=""/>
                      <p:cNvSpPr/>
                      <p:nvPr/>
                    </p:nvSpPr>
                    <p:spPr>
                      <a:xfrm>
                        <a:off x="7623000" y="3643200"/>
                        <a:ext cx="1800" cy="73080"/>
                      </a:xfrm>
                      <a:prstGeom prst="line">
                        <a:avLst/>
                      </a:prstGeom>
                      <a:ln w="11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6280" bIns="26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29" name=""/>
                      <p:cNvSpPr/>
                      <p:nvPr/>
                    </p:nvSpPr>
                    <p:spPr>
                      <a:xfrm>
                        <a:off x="7602480" y="3687840"/>
                        <a:ext cx="47520" cy="48960"/>
                      </a:xfrm>
                      <a:prstGeom prst="ellipse">
                        <a:avLst/>
                      </a:prstGeom>
                      <a:solidFill>
                        <a:srgbClr val="ff0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2240" bIns="-122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530" name=""/>
                    <p:cNvGrpSpPr/>
                    <p:nvPr/>
                  </p:nvGrpSpPr>
                  <p:grpSpPr>
                    <a:xfrm>
                      <a:off x="7674120" y="3594240"/>
                      <a:ext cx="48960" cy="93600"/>
                      <a:chOff x="7674120" y="3594240"/>
                      <a:chExt cx="48960" cy="93600"/>
                    </a:xfrm>
                  </p:grpSpPr>
                  <p:sp>
                    <p:nvSpPr>
                      <p:cNvPr id="531" name=""/>
                      <p:cNvSpPr/>
                      <p:nvPr/>
                    </p:nvSpPr>
                    <p:spPr>
                      <a:xfrm>
                        <a:off x="7696080" y="3594240"/>
                        <a:ext cx="1800" cy="72720"/>
                      </a:xfrm>
                      <a:prstGeom prst="line">
                        <a:avLst/>
                      </a:prstGeom>
                      <a:ln w="11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5920" bIns="25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32" name=""/>
                      <p:cNvSpPr/>
                      <p:nvPr/>
                    </p:nvSpPr>
                    <p:spPr>
                      <a:xfrm>
                        <a:off x="7674120" y="3638520"/>
                        <a:ext cx="48960" cy="49320"/>
                      </a:xfrm>
                      <a:prstGeom prst="ellipse">
                        <a:avLst/>
                      </a:prstGeom>
                      <a:solidFill>
                        <a:srgbClr val="ff0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1880" bIns="-11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533" name=""/>
                    <p:cNvGrpSpPr/>
                    <p:nvPr/>
                  </p:nvGrpSpPr>
                  <p:grpSpPr>
                    <a:xfrm>
                      <a:off x="7667640" y="3495600"/>
                      <a:ext cx="49320" cy="93600"/>
                      <a:chOff x="7667640" y="3495600"/>
                      <a:chExt cx="49320" cy="93600"/>
                    </a:xfrm>
                  </p:grpSpPr>
                  <p:sp>
                    <p:nvSpPr>
                      <p:cNvPr id="534" name=""/>
                      <p:cNvSpPr/>
                      <p:nvPr/>
                    </p:nvSpPr>
                    <p:spPr>
                      <a:xfrm>
                        <a:off x="7689960" y="3495600"/>
                        <a:ext cx="1440" cy="73080"/>
                      </a:xfrm>
                      <a:prstGeom prst="line">
                        <a:avLst/>
                      </a:prstGeom>
                      <a:ln w="11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6280" bIns="26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35" name=""/>
                      <p:cNvSpPr/>
                      <p:nvPr/>
                    </p:nvSpPr>
                    <p:spPr>
                      <a:xfrm>
                        <a:off x="7667640" y="3540240"/>
                        <a:ext cx="49320" cy="48960"/>
                      </a:xfrm>
                      <a:prstGeom prst="ellipse">
                        <a:avLst/>
                      </a:prstGeom>
                      <a:solidFill>
                        <a:srgbClr val="ff0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2240" bIns="-122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536" name=""/>
                <p:cNvGrpSpPr/>
                <p:nvPr/>
              </p:nvGrpSpPr>
              <p:grpSpPr>
                <a:xfrm>
                  <a:off x="6999120" y="2305080"/>
                  <a:ext cx="941400" cy="642960"/>
                  <a:chOff x="6999120" y="2305080"/>
                  <a:chExt cx="941400" cy="642960"/>
                </a:xfrm>
              </p:grpSpPr>
              <p:sp>
                <p:nvSpPr>
                  <p:cNvPr id="537" name=""/>
                  <p:cNvSpPr/>
                  <p:nvPr/>
                </p:nvSpPr>
                <p:spPr>
                  <a:xfrm>
                    <a:off x="7257960" y="2340000"/>
                    <a:ext cx="476280" cy="33804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213">
                        <a:moveTo>
                          <a:pt x="0" y="96"/>
                        </a:moveTo>
                        <a:lnTo>
                          <a:pt x="31" y="69"/>
                        </a:lnTo>
                        <a:lnTo>
                          <a:pt x="59" y="49"/>
                        </a:lnTo>
                        <a:lnTo>
                          <a:pt x="88" y="31"/>
                        </a:lnTo>
                        <a:lnTo>
                          <a:pt x="114" y="20"/>
                        </a:lnTo>
                        <a:lnTo>
                          <a:pt x="141" y="10"/>
                        </a:lnTo>
                        <a:lnTo>
                          <a:pt x="167" y="3"/>
                        </a:lnTo>
                        <a:lnTo>
                          <a:pt x="186" y="0"/>
                        </a:lnTo>
                        <a:lnTo>
                          <a:pt x="193" y="2"/>
                        </a:lnTo>
                        <a:lnTo>
                          <a:pt x="196" y="10"/>
                        </a:lnTo>
                        <a:lnTo>
                          <a:pt x="195" y="33"/>
                        </a:lnTo>
                        <a:lnTo>
                          <a:pt x="193" y="64"/>
                        </a:lnTo>
                        <a:lnTo>
                          <a:pt x="192" y="84"/>
                        </a:lnTo>
                        <a:lnTo>
                          <a:pt x="193" y="91"/>
                        </a:lnTo>
                        <a:lnTo>
                          <a:pt x="197" y="94"/>
                        </a:lnTo>
                        <a:lnTo>
                          <a:pt x="203" y="95"/>
                        </a:lnTo>
                        <a:lnTo>
                          <a:pt x="211" y="93"/>
                        </a:lnTo>
                        <a:lnTo>
                          <a:pt x="231" y="83"/>
                        </a:lnTo>
                        <a:lnTo>
                          <a:pt x="261" y="68"/>
                        </a:lnTo>
                        <a:lnTo>
                          <a:pt x="282" y="59"/>
                        </a:lnTo>
                        <a:lnTo>
                          <a:pt x="288" y="58"/>
                        </a:lnTo>
                        <a:lnTo>
                          <a:pt x="293" y="60"/>
                        </a:lnTo>
                        <a:lnTo>
                          <a:pt x="297" y="67"/>
                        </a:lnTo>
                        <a:lnTo>
                          <a:pt x="299" y="76"/>
                        </a:lnTo>
                        <a:lnTo>
                          <a:pt x="300" y="89"/>
                        </a:lnTo>
                        <a:lnTo>
                          <a:pt x="299" y="112"/>
                        </a:lnTo>
                        <a:lnTo>
                          <a:pt x="292" y="143"/>
                        </a:lnTo>
                        <a:lnTo>
                          <a:pt x="276" y="200"/>
                        </a:lnTo>
                        <a:lnTo>
                          <a:pt x="155" y="213"/>
                        </a:lnTo>
                        <a:lnTo>
                          <a:pt x="37" y="162"/>
                        </a:lnTo>
                        <a:lnTo>
                          <a:pt x="0" y="96"/>
                        </a:lnTo>
                        <a:close/>
                      </a:path>
                    </a:pathLst>
                  </a:custGeom>
                  <a:solidFill>
                    <a:srgbClr val="806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8" name=""/>
                  <p:cNvSpPr/>
                  <p:nvPr/>
                </p:nvSpPr>
                <p:spPr>
                  <a:xfrm>
                    <a:off x="7299360" y="2436840"/>
                    <a:ext cx="330120" cy="22716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143">
                        <a:moveTo>
                          <a:pt x="15" y="0"/>
                        </a:moveTo>
                        <a:lnTo>
                          <a:pt x="26" y="15"/>
                        </a:lnTo>
                        <a:lnTo>
                          <a:pt x="36" y="30"/>
                        </a:lnTo>
                        <a:lnTo>
                          <a:pt x="46" y="44"/>
                        </a:lnTo>
                        <a:lnTo>
                          <a:pt x="58" y="56"/>
                        </a:lnTo>
                        <a:lnTo>
                          <a:pt x="72" y="67"/>
                        </a:lnTo>
                        <a:lnTo>
                          <a:pt x="84" y="75"/>
                        </a:lnTo>
                        <a:lnTo>
                          <a:pt x="100" y="82"/>
                        </a:lnTo>
                        <a:lnTo>
                          <a:pt x="118" y="90"/>
                        </a:lnTo>
                        <a:lnTo>
                          <a:pt x="138" y="96"/>
                        </a:lnTo>
                        <a:lnTo>
                          <a:pt x="155" y="101"/>
                        </a:lnTo>
                        <a:lnTo>
                          <a:pt x="175" y="106"/>
                        </a:lnTo>
                        <a:lnTo>
                          <a:pt x="188" y="111"/>
                        </a:lnTo>
                        <a:lnTo>
                          <a:pt x="208" y="116"/>
                        </a:lnTo>
                        <a:lnTo>
                          <a:pt x="142" y="143"/>
                        </a:lnTo>
                        <a:lnTo>
                          <a:pt x="17" y="103"/>
                        </a:lnTo>
                        <a:lnTo>
                          <a:pt x="0" y="9"/>
                        </a:lnTo>
                        <a:lnTo>
                          <a:pt x="15" y="0"/>
                        </a:lnTo>
                        <a:close/>
                      </a:path>
                    </a:pathLst>
                  </a:custGeom>
                  <a:solidFill>
                    <a:srgbClr val="ff6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9" name=""/>
                  <p:cNvSpPr/>
                  <p:nvPr/>
                </p:nvSpPr>
                <p:spPr>
                  <a:xfrm>
                    <a:off x="6999120" y="2305080"/>
                    <a:ext cx="941400" cy="642960"/>
                  </a:xfrm>
                  <a:custGeom>
                    <a:avLst/>
                    <a:gdLst/>
                    <a:ahLst/>
                    <a:rect l="l" t="t" r="r" b="b"/>
                    <a:pathLst>
                      <a:path w="593" h="405">
                        <a:moveTo>
                          <a:pt x="71" y="0"/>
                        </a:moveTo>
                        <a:lnTo>
                          <a:pt x="52" y="3"/>
                        </a:lnTo>
                        <a:lnTo>
                          <a:pt x="34" y="12"/>
                        </a:lnTo>
                        <a:lnTo>
                          <a:pt x="23" y="24"/>
                        </a:lnTo>
                        <a:lnTo>
                          <a:pt x="14" y="41"/>
                        </a:lnTo>
                        <a:lnTo>
                          <a:pt x="7" y="62"/>
                        </a:lnTo>
                        <a:lnTo>
                          <a:pt x="3" y="84"/>
                        </a:lnTo>
                        <a:lnTo>
                          <a:pt x="0" y="112"/>
                        </a:lnTo>
                        <a:lnTo>
                          <a:pt x="3" y="145"/>
                        </a:lnTo>
                        <a:lnTo>
                          <a:pt x="8" y="174"/>
                        </a:lnTo>
                        <a:lnTo>
                          <a:pt x="18" y="206"/>
                        </a:lnTo>
                        <a:lnTo>
                          <a:pt x="30" y="231"/>
                        </a:lnTo>
                        <a:lnTo>
                          <a:pt x="52" y="261"/>
                        </a:lnTo>
                        <a:lnTo>
                          <a:pt x="365" y="405"/>
                        </a:lnTo>
                        <a:lnTo>
                          <a:pt x="387" y="403"/>
                        </a:lnTo>
                        <a:lnTo>
                          <a:pt x="410" y="399"/>
                        </a:lnTo>
                        <a:lnTo>
                          <a:pt x="435" y="393"/>
                        </a:lnTo>
                        <a:lnTo>
                          <a:pt x="461" y="385"/>
                        </a:lnTo>
                        <a:lnTo>
                          <a:pt x="489" y="374"/>
                        </a:lnTo>
                        <a:lnTo>
                          <a:pt x="515" y="360"/>
                        </a:lnTo>
                        <a:lnTo>
                          <a:pt x="539" y="344"/>
                        </a:lnTo>
                        <a:lnTo>
                          <a:pt x="559" y="326"/>
                        </a:lnTo>
                        <a:lnTo>
                          <a:pt x="575" y="305"/>
                        </a:lnTo>
                        <a:lnTo>
                          <a:pt x="587" y="279"/>
                        </a:lnTo>
                        <a:lnTo>
                          <a:pt x="592" y="253"/>
                        </a:lnTo>
                        <a:lnTo>
                          <a:pt x="593" y="227"/>
                        </a:lnTo>
                        <a:lnTo>
                          <a:pt x="588" y="204"/>
                        </a:lnTo>
                        <a:lnTo>
                          <a:pt x="577" y="191"/>
                        </a:lnTo>
                        <a:lnTo>
                          <a:pt x="563" y="182"/>
                        </a:lnTo>
                        <a:lnTo>
                          <a:pt x="545" y="176"/>
                        </a:lnTo>
                        <a:lnTo>
                          <a:pt x="525" y="175"/>
                        </a:lnTo>
                        <a:lnTo>
                          <a:pt x="508" y="178"/>
                        </a:lnTo>
                        <a:lnTo>
                          <a:pt x="479" y="183"/>
                        </a:lnTo>
                        <a:lnTo>
                          <a:pt x="453" y="187"/>
                        </a:lnTo>
                        <a:lnTo>
                          <a:pt x="418" y="193"/>
                        </a:lnTo>
                        <a:lnTo>
                          <a:pt x="387" y="197"/>
                        </a:lnTo>
                        <a:lnTo>
                          <a:pt x="363" y="200"/>
                        </a:lnTo>
                        <a:lnTo>
                          <a:pt x="339" y="204"/>
                        </a:lnTo>
                        <a:lnTo>
                          <a:pt x="308" y="206"/>
                        </a:lnTo>
                        <a:lnTo>
                          <a:pt x="280" y="204"/>
                        </a:lnTo>
                        <a:lnTo>
                          <a:pt x="258" y="196"/>
                        </a:lnTo>
                        <a:lnTo>
                          <a:pt x="242" y="184"/>
                        </a:lnTo>
                        <a:lnTo>
                          <a:pt x="229" y="166"/>
                        </a:lnTo>
                        <a:lnTo>
                          <a:pt x="219" y="142"/>
                        </a:lnTo>
                        <a:lnTo>
                          <a:pt x="206" y="118"/>
                        </a:lnTo>
                        <a:lnTo>
                          <a:pt x="195" y="96"/>
                        </a:lnTo>
                        <a:lnTo>
                          <a:pt x="182" y="73"/>
                        </a:lnTo>
                        <a:lnTo>
                          <a:pt x="167" y="51"/>
                        </a:lnTo>
                        <a:lnTo>
                          <a:pt x="153" y="35"/>
                        </a:lnTo>
                        <a:lnTo>
                          <a:pt x="134" y="18"/>
                        </a:lnTo>
                        <a:lnTo>
                          <a:pt x="115" y="6"/>
                        </a:lnTo>
                        <a:lnTo>
                          <a:pt x="92" y="1"/>
                        </a:lnTo>
                        <a:lnTo>
                          <a:pt x="71" y="0"/>
                        </a:lnTo>
                        <a:close/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40" name=""/>
                <p:cNvGrpSpPr/>
                <p:nvPr/>
              </p:nvGrpSpPr>
              <p:grpSpPr>
                <a:xfrm>
                  <a:off x="6950160" y="2635200"/>
                  <a:ext cx="641160" cy="666720"/>
                  <a:chOff x="6950160" y="2635200"/>
                  <a:chExt cx="641160" cy="666720"/>
                </a:xfrm>
              </p:grpSpPr>
              <p:grpSp>
                <p:nvGrpSpPr>
                  <p:cNvPr id="541" name=""/>
                  <p:cNvGrpSpPr/>
                  <p:nvPr/>
                </p:nvGrpSpPr>
                <p:grpSpPr>
                  <a:xfrm>
                    <a:off x="7020000" y="2635200"/>
                    <a:ext cx="571320" cy="530280"/>
                    <a:chOff x="7020000" y="2635200"/>
                    <a:chExt cx="571320" cy="530280"/>
                  </a:xfrm>
                </p:grpSpPr>
                <p:grpSp>
                  <p:nvGrpSpPr>
                    <p:cNvPr id="542" name=""/>
                    <p:cNvGrpSpPr/>
                    <p:nvPr/>
                  </p:nvGrpSpPr>
                  <p:grpSpPr>
                    <a:xfrm>
                      <a:off x="7020000" y="2635200"/>
                      <a:ext cx="571320" cy="530280"/>
                      <a:chOff x="7020000" y="2635200"/>
                      <a:chExt cx="571320" cy="530280"/>
                    </a:xfrm>
                  </p:grpSpPr>
                  <p:sp>
                    <p:nvSpPr>
                      <p:cNvPr id="543" name=""/>
                      <p:cNvSpPr/>
                      <p:nvPr/>
                    </p:nvSpPr>
                    <p:spPr>
                      <a:xfrm>
                        <a:off x="7020000" y="2655720"/>
                        <a:ext cx="571320" cy="509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60" h="321">
                            <a:moveTo>
                              <a:pt x="4" y="205"/>
                            </a:moveTo>
                            <a:lnTo>
                              <a:pt x="3" y="175"/>
                            </a:lnTo>
                            <a:lnTo>
                              <a:pt x="0" y="149"/>
                            </a:lnTo>
                            <a:lnTo>
                              <a:pt x="5" y="111"/>
                            </a:lnTo>
                            <a:lnTo>
                              <a:pt x="2" y="89"/>
                            </a:lnTo>
                            <a:lnTo>
                              <a:pt x="0" y="75"/>
                            </a:lnTo>
                            <a:lnTo>
                              <a:pt x="3" y="57"/>
                            </a:lnTo>
                            <a:lnTo>
                              <a:pt x="6" y="47"/>
                            </a:lnTo>
                            <a:lnTo>
                              <a:pt x="39" y="18"/>
                            </a:lnTo>
                            <a:lnTo>
                              <a:pt x="76" y="12"/>
                            </a:lnTo>
                            <a:lnTo>
                              <a:pt x="112" y="6"/>
                            </a:lnTo>
                            <a:lnTo>
                              <a:pt x="143" y="3"/>
                            </a:lnTo>
                            <a:lnTo>
                              <a:pt x="184" y="0"/>
                            </a:lnTo>
                            <a:lnTo>
                              <a:pt x="221" y="2"/>
                            </a:lnTo>
                            <a:lnTo>
                              <a:pt x="237" y="12"/>
                            </a:lnTo>
                            <a:lnTo>
                              <a:pt x="251" y="24"/>
                            </a:lnTo>
                            <a:lnTo>
                              <a:pt x="266" y="38"/>
                            </a:lnTo>
                            <a:lnTo>
                              <a:pt x="285" y="53"/>
                            </a:lnTo>
                            <a:lnTo>
                              <a:pt x="311" y="71"/>
                            </a:lnTo>
                            <a:lnTo>
                              <a:pt x="320" y="79"/>
                            </a:lnTo>
                            <a:lnTo>
                              <a:pt x="333" y="103"/>
                            </a:lnTo>
                            <a:lnTo>
                              <a:pt x="347" y="123"/>
                            </a:lnTo>
                            <a:lnTo>
                              <a:pt x="354" y="138"/>
                            </a:lnTo>
                            <a:lnTo>
                              <a:pt x="360" y="166"/>
                            </a:lnTo>
                            <a:lnTo>
                              <a:pt x="358" y="204"/>
                            </a:lnTo>
                            <a:lnTo>
                              <a:pt x="351" y="228"/>
                            </a:lnTo>
                            <a:lnTo>
                              <a:pt x="336" y="266"/>
                            </a:lnTo>
                            <a:lnTo>
                              <a:pt x="276" y="300"/>
                            </a:lnTo>
                            <a:lnTo>
                              <a:pt x="213" y="321"/>
                            </a:lnTo>
                            <a:lnTo>
                              <a:pt x="4" y="205"/>
                            </a:lnTo>
                            <a:close/>
                          </a:path>
                        </a:pathLst>
                      </a:custGeom>
                      <a:solidFill>
                        <a:srgbClr val="0020a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44" name=""/>
                      <p:cNvSpPr/>
                      <p:nvPr/>
                    </p:nvSpPr>
                    <p:spPr>
                      <a:xfrm>
                        <a:off x="7188120" y="2681280"/>
                        <a:ext cx="149400" cy="237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4" h="150">
                            <a:moveTo>
                              <a:pt x="94" y="0"/>
                            </a:moveTo>
                            <a:lnTo>
                              <a:pt x="63" y="8"/>
                            </a:lnTo>
                            <a:lnTo>
                              <a:pt x="31" y="15"/>
                            </a:lnTo>
                            <a:lnTo>
                              <a:pt x="15" y="18"/>
                            </a:lnTo>
                            <a:lnTo>
                              <a:pt x="3" y="27"/>
                            </a:lnTo>
                            <a:lnTo>
                              <a:pt x="0" y="62"/>
                            </a:lnTo>
                            <a:lnTo>
                              <a:pt x="5" y="150"/>
                            </a:lnTo>
                          </a:path>
                        </a:pathLst>
                      </a:custGeom>
                      <a:noFill/>
                      <a:ln w="11160">
                        <a:solidFill>
                          <a:srgbClr val="00008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45" name=""/>
                      <p:cNvSpPr/>
                      <p:nvPr/>
                    </p:nvSpPr>
                    <p:spPr>
                      <a:xfrm>
                        <a:off x="7353360" y="2689200"/>
                        <a:ext cx="120600" cy="331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6" h="209">
                            <a:moveTo>
                              <a:pt x="20" y="0"/>
                            </a:moveTo>
                            <a:lnTo>
                              <a:pt x="32" y="28"/>
                            </a:lnTo>
                            <a:lnTo>
                              <a:pt x="46" y="54"/>
                            </a:lnTo>
                            <a:lnTo>
                              <a:pt x="61" y="71"/>
                            </a:lnTo>
                            <a:lnTo>
                              <a:pt x="71" y="85"/>
                            </a:lnTo>
                            <a:lnTo>
                              <a:pt x="76" y="100"/>
                            </a:lnTo>
                            <a:lnTo>
                              <a:pt x="74" y="112"/>
                            </a:lnTo>
                            <a:lnTo>
                              <a:pt x="61" y="126"/>
                            </a:lnTo>
                            <a:lnTo>
                              <a:pt x="42" y="142"/>
                            </a:lnTo>
                            <a:lnTo>
                              <a:pt x="0" y="209"/>
                            </a:lnTo>
                          </a:path>
                        </a:pathLst>
                      </a:custGeom>
                      <a:noFill/>
                      <a:ln w="11160">
                        <a:solidFill>
                          <a:srgbClr val="00008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46" name=""/>
                      <p:cNvSpPr/>
                      <p:nvPr/>
                    </p:nvSpPr>
                    <p:spPr>
                      <a:xfrm>
                        <a:off x="7311960" y="2635200"/>
                        <a:ext cx="112680" cy="69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1" h="44">
                            <a:moveTo>
                              <a:pt x="21" y="0"/>
                            </a:moveTo>
                            <a:lnTo>
                              <a:pt x="41" y="2"/>
                            </a:lnTo>
                            <a:lnTo>
                              <a:pt x="56" y="7"/>
                            </a:lnTo>
                            <a:lnTo>
                              <a:pt x="65" y="13"/>
                            </a:lnTo>
                            <a:lnTo>
                              <a:pt x="70" y="18"/>
                            </a:lnTo>
                            <a:lnTo>
                              <a:pt x="71" y="28"/>
                            </a:lnTo>
                            <a:lnTo>
                              <a:pt x="69" y="38"/>
                            </a:lnTo>
                            <a:lnTo>
                              <a:pt x="63" y="43"/>
                            </a:lnTo>
                            <a:lnTo>
                              <a:pt x="46" y="44"/>
                            </a:lnTo>
                            <a:lnTo>
                              <a:pt x="31" y="42"/>
                            </a:lnTo>
                            <a:lnTo>
                              <a:pt x="14" y="37"/>
                            </a:lnTo>
                            <a:lnTo>
                              <a:pt x="4" y="29"/>
                            </a:lnTo>
                            <a:lnTo>
                              <a:pt x="0" y="22"/>
                            </a:lnTo>
                            <a:lnTo>
                              <a:pt x="2" y="13"/>
                            </a:lnTo>
                            <a:lnTo>
                              <a:pt x="9" y="5"/>
                            </a:lnTo>
                            <a:lnTo>
                              <a:pt x="21" y="0"/>
                            </a:lnTo>
                            <a:close/>
                          </a:path>
                        </a:pathLst>
                      </a:custGeom>
                      <a:solidFill>
                        <a:srgbClr val="0000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3040" bIns="23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547" name=""/>
                    <p:cNvSpPr/>
                    <p:nvPr/>
                  </p:nvSpPr>
                  <p:spPr>
                    <a:xfrm>
                      <a:off x="7188120" y="2751120"/>
                      <a:ext cx="271440" cy="249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1" h="157">
                          <a:moveTo>
                            <a:pt x="0" y="90"/>
                          </a:moveTo>
                          <a:lnTo>
                            <a:pt x="34" y="51"/>
                          </a:lnTo>
                          <a:lnTo>
                            <a:pt x="54" y="0"/>
                          </a:lnTo>
                          <a:lnTo>
                            <a:pt x="71" y="8"/>
                          </a:lnTo>
                          <a:lnTo>
                            <a:pt x="90" y="57"/>
                          </a:lnTo>
                          <a:lnTo>
                            <a:pt x="152" y="32"/>
                          </a:lnTo>
                          <a:lnTo>
                            <a:pt x="171" y="43"/>
                          </a:lnTo>
                          <a:lnTo>
                            <a:pt x="143" y="99"/>
                          </a:lnTo>
                          <a:lnTo>
                            <a:pt x="125" y="157"/>
                          </a:lnTo>
                          <a:lnTo>
                            <a:pt x="102" y="150"/>
                          </a:lnTo>
                          <a:lnTo>
                            <a:pt x="127" y="94"/>
                          </a:lnTo>
                          <a:lnTo>
                            <a:pt x="138" y="62"/>
                          </a:lnTo>
                          <a:lnTo>
                            <a:pt x="83" y="81"/>
                          </a:lnTo>
                          <a:lnTo>
                            <a:pt x="73" y="76"/>
                          </a:lnTo>
                          <a:lnTo>
                            <a:pt x="64" y="45"/>
                          </a:lnTo>
                          <a:lnTo>
                            <a:pt x="44" y="76"/>
                          </a:lnTo>
                          <a:lnTo>
                            <a:pt x="13" y="107"/>
                          </a:lnTo>
                          <a:lnTo>
                            <a:pt x="0" y="90"/>
                          </a:lnTo>
                          <a:close/>
                        </a:path>
                      </a:pathLst>
                    </a:custGeom>
                    <a:solidFill>
                      <a:srgbClr val="ff0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48" name=""/>
                  <p:cNvSpPr/>
                  <p:nvPr/>
                </p:nvSpPr>
                <p:spPr>
                  <a:xfrm>
                    <a:off x="6950160" y="2919240"/>
                    <a:ext cx="525240" cy="382680"/>
                  </a:xfrm>
                  <a:custGeom>
                    <a:avLst/>
                    <a:gdLst/>
                    <a:ahLst/>
                    <a:rect l="l" t="t" r="r" b="b"/>
                    <a:pathLst>
                      <a:path w="331" h="241">
                        <a:moveTo>
                          <a:pt x="7" y="15"/>
                        </a:moveTo>
                        <a:lnTo>
                          <a:pt x="26" y="7"/>
                        </a:lnTo>
                        <a:lnTo>
                          <a:pt x="53" y="0"/>
                        </a:lnTo>
                        <a:lnTo>
                          <a:pt x="71" y="5"/>
                        </a:lnTo>
                        <a:lnTo>
                          <a:pt x="89" y="7"/>
                        </a:lnTo>
                        <a:lnTo>
                          <a:pt x="113" y="10"/>
                        </a:lnTo>
                        <a:lnTo>
                          <a:pt x="138" y="9"/>
                        </a:lnTo>
                        <a:lnTo>
                          <a:pt x="185" y="8"/>
                        </a:lnTo>
                        <a:lnTo>
                          <a:pt x="204" y="35"/>
                        </a:lnTo>
                        <a:lnTo>
                          <a:pt x="229" y="79"/>
                        </a:lnTo>
                        <a:lnTo>
                          <a:pt x="259" y="82"/>
                        </a:lnTo>
                        <a:lnTo>
                          <a:pt x="331" y="126"/>
                        </a:lnTo>
                        <a:lnTo>
                          <a:pt x="298" y="192"/>
                        </a:lnTo>
                        <a:lnTo>
                          <a:pt x="281" y="223"/>
                        </a:lnTo>
                        <a:lnTo>
                          <a:pt x="275" y="240"/>
                        </a:lnTo>
                        <a:lnTo>
                          <a:pt x="264" y="241"/>
                        </a:lnTo>
                        <a:lnTo>
                          <a:pt x="253" y="233"/>
                        </a:lnTo>
                        <a:lnTo>
                          <a:pt x="208" y="136"/>
                        </a:lnTo>
                        <a:lnTo>
                          <a:pt x="135" y="104"/>
                        </a:lnTo>
                        <a:lnTo>
                          <a:pt x="53" y="70"/>
                        </a:lnTo>
                        <a:lnTo>
                          <a:pt x="19" y="55"/>
                        </a:lnTo>
                        <a:lnTo>
                          <a:pt x="7" y="46"/>
                        </a:lnTo>
                        <a:lnTo>
                          <a:pt x="1" y="38"/>
                        </a:lnTo>
                        <a:lnTo>
                          <a:pt x="0" y="26"/>
                        </a:lnTo>
                        <a:lnTo>
                          <a:pt x="7" y="15"/>
                        </a:lnTo>
                        <a:close/>
                      </a:path>
                    </a:pathLst>
                  </a:custGeom>
                  <a:solidFill>
                    <a:srgbClr val="0020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549" name=""/>
          <p:cNvGrpSpPr/>
          <p:nvPr/>
        </p:nvGrpSpPr>
        <p:grpSpPr>
          <a:xfrm>
            <a:off x="6278400" y="3290760"/>
            <a:ext cx="1257480" cy="2514600"/>
            <a:chOff x="6278400" y="3290760"/>
            <a:chExt cx="1257480" cy="2514600"/>
          </a:xfrm>
        </p:grpSpPr>
        <p:grpSp>
          <p:nvGrpSpPr>
            <p:cNvPr id="550" name=""/>
            <p:cNvGrpSpPr/>
            <p:nvPr/>
          </p:nvGrpSpPr>
          <p:grpSpPr>
            <a:xfrm>
              <a:off x="6351480" y="4991040"/>
              <a:ext cx="1177920" cy="814320"/>
              <a:chOff x="6351480" y="4991040"/>
              <a:chExt cx="1177920" cy="814320"/>
            </a:xfrm>
          </p:grpSpPr>
          <p:sp>
            <p:nvSpPr>
              <p:cNvPr id="551" name=""/>
              <p:cNvSpPr/>
              <p:nvPr/>
            </p:nvSpPr>
            <p:spPr>
              <a:xfrm>
                <a:off x="6351480" y="4991040"/>
                <a:ext cx="1177920" cy="814320"/>
              </a:xfrm>
              <a:custGeom>
                <a:avLst/>
                <a:gdLst/>
                <a:ahLst/>
                <a:rect l="l" t="t" r="r" b="b"/>
                <a:pathLst>
                  <a:path w="742" h="513">
                    <a:moveTo>
                      <a:pt x="236" y="179"/>
                    </a:moveTo>
                    <a:lnTo>
                      <a:pt x="258" y="110"/>
                    </a:lnTo>
                    <a:lnTo>
                      <a:pt x="269" y="74"/>
                    </a:lnTo>
                    <a:lnTo>
                      <a:pt x="274" y="58"/>
                    </a:lnTo>
                    <a:lnTo>
                      <a:pt x="285" y="0"/>
                    </a:lnTo>
                    <a:lnTo>
                      <a:pt x="496" y="7"/>
                    </a:lnTo>
                    <a:lnTo>
                      <a:pt x="499" y="24"/>
                    </a:lnTo>
                    <a:lnTo>
                      <a:pt x="500" y="43"/>
                    </a:lnTo>
                    <a:lnTo>
                      <a:pt x="497" y="61"/>
                    </a:lnTo>
                    <a:lnTo>
                      <a:pt x="494" y="73"/>
                    </a:lnTo>
                    <a:lnTo>
                      <a:pt x="487" y="84"/>
                    </a:lnTo>
                    <a:lnTo>
                      <a:pt x="478" y="95"/>
                    </a:lnTo>
                    <a:lnTo>
                      <a:pt x="457" y="122"/>
                    </a:lnTo>
                    <a:lnTo>
                      <a:pt x="445" y="138"/>
                    </a:lnTo>
                    <a:lnTo>
                      <a:pt x="392" y="190"/>
                    </a:lnTo>
                    <a:lnTo>
                      <a:pt x="395" y="206"/>
                    </a:lnTo>
                    <a:lnTo>
                      <a:pt x="379" y="213"/>
                    </a:lnTo>
                    <a:lnTo>
                      <a:pt x="405" y="343"/>
                    </a:lnTo>
                    <a:lnTo>
                      <a:pt x="432" y="400"/>
                    </a:lnTo>
                    <a:lnTo>
                      <a:pt x="469" y="445"/>
                    </a:lnTo>
                    <a:lnTo>
                      <a:pt x="527" y="461"/>
                    </a:lnTo>
                    <a:lnTo>
                      <a:pt x="594" y="457"/>
                    </a:lnTo>
                    <a:lnTo>
                      <a:pt x="631" y="469"/>
                    </a:lnTo>
                    <a:lnTo>
                      <a:pt x="717" y="469"/>
                    </a:lnTo>
                    <a:lnTo>
                      <a:pt x="742" y="480"/>
                    </a:lnTo>
                    <a:lnTo>
                      <a:pt x="734" y="496"/>
                    </a:lnTo>
                    <a:lnTo>
                      <a:pt x="680" y="513"/>
                    </a:lnTo>
                    <a:lnTo>
                      <a:pt x="503" y="513"/>
                    </a:lnTo>
                    <a:lnTo>
                      <a:pt x="449" y="501"/>
                    </a:lnTo>
                    <a:lnTo>
                      <a:pt x="404" y="501"/>
                    </a:lnTo>
                    <a:lnTo>
                      <a:pt x="361" y="503"/>
                    </a:lnTo>
                    <a:lnTo>
                      <a:pt x="342" y="483"/>
                    </a:lnTo>
                    <a:lnTo>
                      <a:pt x="320" y="497"/>
                    </a:lnTo>
                    <a:lnTo>
                      <a:pt x="303" y="498"/>
                    </a:lnTo>
                    <a:lnTo>
                      <a:pt x="286" y="500"/>
                    </a:lnTo>
                    <a:lnTo>
                      <a:pt x="228" y="493"/>
                    </a:lnTo>
                    <a:lnTo>
                      <a:pt x="195" y="493"/>
                    </a:lnTo>
                    <a:lnTo>
                      <a:pt x="103" y="500"/>
                    </a:lnTo>
                    <a:lnTo>
                      <a:pt x="4" y="491"/>
                    </a:lnTo>
                    <a:lnTo>
                      <a:pt x="0" y="477"/>
                    </a:lnTo>
                    <a:lnTo>
                      <a:pt x="37" y="473"/>
                    </a:lnTo>
                    <a:lnTo>
                      <a:pt x="66" y="446"/>
                    </a:lnTo>
                    <a:lnTo>
                      <a:pt x="108" y="440"/>
                    </a:lnTo>
                    <a:lnTo>
                      <a:pt x="166" y="454"/>
                    </a:lnTo>
                    <a:lnTo>
                      <a:pt x="227" y="454"/>
                    </a:lnTo>
                    <a:lnTo>
                      <a:pt x="251" y="406"/>
                    </a:lnTo>
                    <a:lnTo>
                      <a:pt x="225" y="236"/>
                    </a:lnTo>
                    <a:lnTo>
                      <a:pt x="224" y="221"/>
                    </a:lnTo>
                    <a:lnTo>
                      <a:pt x="227" y="207"/>
                    </a:lnTo>
                    <a:lnTo>
                      <a:pt x="236" y="179"/>
                    </a:lnTo>
                    <a:close/>
                  </a:path>
                </a:pathLst>
              </a:custGeom>
              <a:solidFill>
                <a:srgbClr val="0020a0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52" name=""/>
              <p:cNvGrpSpPr/>
              <p:nvPr/>
            </p:nvGrpSpPr>
            <p:grpSpPr>
              <a:xfrm>
                <a:off x="6831000" y="5094360"/>
                <a:ext cx="120600" cy="635040"/>
                <a:chOff x="6831000" y="5094360"/>
                <a:chExt cx="120600" cy="635040"/>
              </a:xfrm>
            </p:grpSpPr>
            <p:sp>
              <p:nvSpPr>
                <p:cNvPr id="553" name=""/>
                <p:cNvSpPr/>
                <p:nvPr/>
              </p:nvSpPr>
              <p:spPr>
                <a:xfrm>
                  <a:off x="6831000" y="5099040"/>
                  <a:ext cx="120600" cy="630360"/>
                </a:xfrm>
                <a:custGeom>
                  <a:avLst/>
                  <a:gdLst/>
                  <a:ahLst/>
                  <a:rect l="l" t="t" r="r" b="b"/>
                  <a:pathLst>
                    <a:path w="76" h="397">
                      <a:moveTo>
                        <a:pt x="76" y="0"/>
                      </a:moveTo>
                      <a:lnTo>
                        <a:pt x="51" y="53"/>
                      </a:lnTo>
                      <a:lnTo>
                        <a:pt x="9" y="122"/>
                      </a:lnTo>
                      <a:lnTo>
                        <a:pt x="1" y="137"/>
                      </a:lnTo>
                      <a:lnTo>
                        <a:pt x="0" y="152"/>
                      </a:lnTo>
                      <a:lnTo>
                        <a:pt x="1" y="171"/>
                      </a:lnTo>
                      <a:lnTo>
                        <a:pt x="27" y="294"/>
                      </a:lnTo>
                      <a:lnTo>
                        <a:pt x="34" y="397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6913440" y="5094360"/>
                  <a:ext cx="5040" cy="7452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55" name=""/>
            <p:cNvGrpSpPr/>
            <p:nvPr/>
          </p:nvGrpSpPr>
          <p:grpSpPr>
            <a:xfrm>
              <a:off x="6278400" y="4251240"/>
              <a:ext cx="1257480" cy="792360"/>
              <a:chOff x="6278400" y="4251240"/>
              <a:chExt cx="1257480" cy="792360"/>
            </a:xfrm>
          </p:grpSpPr>
          <p:grpSp>
            <p:nvGrpSpPr>
              <p:cNvPr id="556" name=""/>
              <p:cNvGrpSpPr/>
              <p:nvPr/>
            </p:nvGrpSpPr>
            <p:grpSpPr>
              <a:xfrm>
                <a:off x="6472080" y="4373640"/>
                <a:ext cx="879480" cy="669960"/>
                <a:chOff x="6472080" y="4373640"/>
                <a:chExt cx="879480" cy="669960"/>
              </a:xfrm>
            </p:grpSpPr>
            <p:grpSp>
              <p:nvGrpSpPr>
                <p:cNvPr id="557" name=""/>
                <p:cNvGrpSpPr/>
                <p:nvPr/>
              </p:nvGrpSpPr>
              <p:grpSpPr>
                <a:xfrm>
                  <a:off x="6472080" y="4390920"/>
                  <a:ext cx="879480" cy="652680"/>
                  <a:chOff x="6472080" y="4390920"/>
                  <a:chExt cx="879480" cy="652680"/>
                </a:xfrm>
              </p:grpSpPr>
              <p:grpSp>
                <p:nvGrpSpPr>
                  <p:cNvPr id="558" name=""/>
                  <p:cNvGrpSpPr/>
                  <p:nvPr/>
                </p:nvGrpSpPr>
                <p:grpSpPr>
                  <a:xfrm>
                    <a:off x="6472080" y="4390920"/>
                    <a:ext cx="879480" cy="652680"/>
                    <a:chOff x="6472080" y="4390920"/>
                    <a:chExt cx="879480" cy="652680"/>
                  </a:xfrm>
                </p:grpSpPr>
                <p:grpSp>
                  <p:nvGrpSpPr>
                    <p:cNvPr id="559" name=""/>
                    <p:cNvGrpSpPr/>
                    <p:nvPr/>
                  </p:nvGrpSpPr>
                  <p:grpSpPr>
                    <a:xfrm>
                      <a:off x="6472080" y="4394160"/>
                      <a:ext cx="879480" cy="293760"/>
                      <a:chOff x="6472080" y="4394160"/>
                      <a:chExt cx="879480" cy="293760"/>
                    </a:xfrm>
                  </p:grpSpPr>
                  <p:sp>
                    <p:nvSpPr>
                      <p:cNvPr id="560" name=""/>
                      <p:cNvSpPr/>
                      <p:nvPr/>
                    </p:nvSpPr>
                    <p:spPr>
                      <a:xfrm>
                        <a:off x="7155000" y="4394160"/>
                        <a:ext cx="196560" cy="228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4" h="144">
                            <a:moveTo>
                              <a:pt x="0" y="85"/>
                            </a:moveTo>
                            <a:lnTo>
                              <a:pt x="8" y="52"/>
                            </a:lnTo>
                            <a:lnTo>
                              <a:pt x="17" y="33"/>
                            </a:lnTo>
                            <a:lnTo>
                              <a:pt x="30" y="15"/>
                            </a:lnTo>
                            <a:lnTo>
                              <a:pt x="48" y="0"/>
                            </a:lnTo>
                            <a:lnTo>
                              <a:pt x="52" y="26"/>
                            </a:lnTo>
                            <a:lnTo>
                              <a:pt x="63" y="48"/>
                            </a:lnTo>
                            <a:lnTo>
                              <a:pt x="85" y="76"/>
                            </a:lnTo>
                            <a:lnTo>
                              <a:pt x="111" y="98"/>
                            </a:lnTo>
                            <a:lnTo>
                              <a:pt x="124" y="100"/>
                            </a:lnTo>
                            <a:lnTo>
                              <a:pt x="112" y="125"/>
                            </a:lnTo>
                            <a:lnTo>
                              <a:pt x="98" y="144"/>
                            </a:lnTo>
                            <a:lnTo>
                              <a:pt x="61" y="129"/>
                            </a:lnTo>
                            <a:lnTo>
                              <a:pt x="0" y="85"/>
                            </a:lnTo>
                            <a:close/>
                          </a:path>
                        </a:pathLst>
                      </a:custGeom>
                      <a:solidFill>
                        <a:srgbClr val="6000a0"/>
                      </a:solidFill>
                      <a:ln w="111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61" name=""/>
                      <p:cNvSpPr/>
                      <p:nvPr/>
                    </p:nvSpPr>
                    <p:spPr>
                      <a:xfrm>
                        <a:off x="6472080" y="4505400"/>
                        <a:ext cx="195480" cy="182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3" h="115">
                            <a:moveTo>
                              <a:pt x="0" y="71"/>
                            </a:moveTo>
                            <a:lnTo>
                              <a:pt x="34" y="115"/>
                            </a:lnTo>
                            <a:lnTo>
                              <a:pt x="65" y="109"/>
                            </a:lnTo>
                            <a:lnTo>
                              <a:pt x="92" y="91"/>
                            </a:lnTo>
                            <a:lnTo>
                              <a:pt x="119" y="71"/>
                            </a:lnTo>
                            <a:lnTo>
                              <a:pt x="123" y="46"/>
                            </a:lnTo>
                            <a:lnTo>
                              <a:pt x="70" y="0"/>
                            </a:lnTo>
                            <a:lnTo>
                              <a:pt x="39" y="32"/>
                            </a:lnTo>
                            <a:lnTo>
                              <a:pt x="0" y="71"/>
                            </a:lnTo>
                            <a:close/>
                          </a:path>
                        </a:pathLst>
                      </a:custGeom>
                      <a:solidFill>
                        <a:srgbClr val="6000a0"/>
                      </a:solidFill>
                      <a:ln w="111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562" name=""/>
                    <p:cNvSpPr/>
                    <p:nvPr/>
                  </p:nvSpPr>
                  <p:spPr>
                    <a:xfrm>
                      <a:off x="6510240" y="4390920"/>
                      <a:ext cx="817560" cy="652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15" h="411">
                          <a:moveTo>
                            <a:pt x="227" y="0"/>
                          </a:moveTo>
                          <a:lnTo>
                            <a:pt x="299" y="19"/>
                          </a:lnTo>
                          <a:lnTo>
                            <a:pt x="328" y="25"/>
                          </a:lnTo>
                          <a:lnTo>
                            <a:pt x="347" y="31"/>
                          </a:lnTo>
                          <a:lnTo>
                            <a:pt x="357" y="35"/>
                          </a:lnTo>
                          <a:lnTo>
                            <a:pt x="367" y="41"/>
                          </a:lnTo>
                          <a:lnTo>
                            <a:pt x="375" y="47"/>
                          </a:lnTo>
                          <a:lnTo>
                            <a:pt x="382" y="55"/>
                          </a:lnTo>
                          <a:lnTo>
                            <a:pt x="389" y="68"/>
                          </a:lnTo>
                          <a:lnTo>
                            <a:pt x="409" y="67"/>
                          </a:lnTo>
                          <a:lnTo>
                            <a:pt x="422" y="84"/>
                          </a:lnTo>
                          <a:lnTo>
                            <a:pt x="437" y="100"/>
                          </a:lnTo>
                          <a:lnTo>
                            <a:pt x="451" y="112"/>
                          </a:lnTo>
                          <a:lnTo>
                            <a:pt x="469" y="125"/>
                          </a:lnTo>
                          <a:lnTo>
                            <a:pt x="491" y="133"/>
                          </a:lnTo>
                          <a:lnTo>
                            <a:pt x="515" y="136"/>
                          </a:lnTo>
                          <a:lnTo>
                            <a:pt x="515" y="157"/>
                          </a:lnTo>
                          <a:lnTo>
                            <a:pt x="513" y="189"/>
                          </a:lnTo>
                          <a:lnTo>
                            <a:pt x="505" y="218"/>
                          </a:lnTo>
                          <a:lnTo>
                            <a:pt x="495" y="238"/>
                          </a:lnTo>
                          <a:lnTo>
                            <a:pt x="479" y="250"/>
                          </a:lnTo>
                          <a:lnTo>
                            <a:pt x="456" y="252"/>
                          </a:lnTo>
                          <a:lnTo>
                            <a:pt x="428" y="244"/>
                          </a:lnTo>
                          <a:lnTo>
                            <a:pt x="422" y="264"/>
                          </a:lnTo>
                          <a:lnTo>
                            <a:pt x="423" y="286"/>
                          </a:lnTo>
                          <a:lnTo>
                            <a:pt x="429" y="312"/>
                          </a:lnTo>
                          <a:lnTo>
                            <a:pt x="431" y="346"/>
                          </a:lnTo>
                          <a:lnTo>
                            <a:pt x="430" y="377"/>
                          </a:lnTo>
                          <a:lnTo>
                            <a:pt x="430" y="397"/>
                          </a:lnTo>
                          <a:lnTo>
                            <a:pt x="400" y="394"/>
                          </a:lnTo>
                          <a:lnTo>
                            <a:pt x="378" y="396"/>
                          </a:lnTo>
                          <a:lnTo>
                            <a:pt x="332" y="403"/>
                          </a:lnTo>
                          <a:lnTo>
                            <a:pt x="294" y="404"/>
                          </a:lnTo>
                          <a:lnTo>
                            <a:pt x="270" y="400"/>
                          </a:lnTo>
                          <a:lnTo>
                            <a:pt x="251" y="408"/>
                          </a:lnTo>
                          <a:lnTo>
                            <a:pt x="220" y="411"/>
                          </a:lnTo>
                          <a:lnTo>
                            <a:pt x="180" y="406"/>
                          </a:lnTo>
                          <a:lnTo>
                            <a:pt x="148" y="395"/>
                          </a:lnTo>
                          <a:lnTo>
                            <a:pt x="127" y="386"/>
                          </a:lnTo>
                          <a:lnTo>
                            <a:pt x="108" y="375"/>
                          </a:lnTo>
                          <a:lnTo>
                            <a:pt x="89" y="361"/>
                          </a:lnTo>
                          <a:lnTo>
                            <a:pt x="104" y="323"/>
                          </a:lnTo>
                          <a:lnTo>
                            <a:pt x="112" y="293"/>
                          </a:lnTo>
                          <a:lnTo>
                            <a:pt x="95" y="279"/>
                          </a:lnTo>
                          <a:lnTo>
                            <a:pt x="80" y="266"/>
                          </a:lnTo>
                          <a:lnTo>
                            <a:pt x="71" y="254"/>
                          </a:lnTo>
                          <a:lnTo>
                            <a:pt x="65" y="238"/>
                          </a:lnTo>
                          <a:lnTo>
                            <a:pt x="56" y="215"/>
                          </a:lnTo>
                          <a:lnTo>
                            <a:pt x="41" y="206"/>
                          </a:lnTo>
                          <a:lnTo>
                            <a:pt x="24" y="200"/>
                          </a:lnTo>
                          <a:lnTo>
                            <a:pt x="10" y="191"/>
                          </a:lnTo>
                          <a:lnTo>
                            <a:pt x="0" y="180"/>
                          </a:lnTo>
                          <a:lnTo>
                            <a:pt x="15" y="176"/>
                          </a:lnTo>
                          <a:lnTo>
                            <a:pt x="39" y="165"/>
                          </a:lnTo>
                          <a:lnTo>
                            <a:pt x="59" y="151"/>
                          </a:lnTo>
                          <a:lnTo>
                            <a:pt x="81" y="123"/>
                          </a:lnTo>
                          <a:lnTo>
                            <a:pt x="84" y="102"/>
                          </a:lnTo>
                          <a:lnTo>
                            <a:pt x="95" y="88"/>
                          </a:lnTo>
                          <a:lnTo>
                            <a:pt x="105" y="75"/>
                          </a:lnTo>
                          <a:lnTo>
                            <a:pt x="112" y="56"/>
                          </a:lnTo>
                          <a:lnTo>
                            <a:pt x="121" y="43"/>
                          </a:lnTo>
                          <a:lnTo>
                            <a:pt x="138" y="35"/>
                          </a:lnTo>
                          <a:lnTo>
                            <a:pt x="155" y="35"/>
                          </a:lnTo>
                          <a:lnTo>
                            <a:pt x="177" y="13"/>
                          </a:lnTo>
                          <a:lnTo>
                            <a:pt x="227" y="0"/>
                          </a:lnTo>
                          <a:close/>
                        </a:path>
                      </a:pathLst>
                    </a:custGeom>
                    <a:solidFill>
                      <a:srgbClr val="c060ff"/>
                    </a:solidFill>
                    <a:ln w="111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63" name=""/>
                  <p:cNvGrpSpPr/>
                  <p:nvPr/>
                </p:nvGrpSpPr>
                <p:grpSpPr>
                  <a:xfrm>
                    <a:off x="6640560" y="4473720"/>
                    <a:ext cx="542880" cy="441360"/>
                    <a:chOff x="6640560" y="4473720"/>
                    <a:chExt cx="542880" cy="441360"/>
                  </a:xfrm>
                </p:grpSpPr>
                <p:grpSp>
                  <p:nvGrpSpPr>
                    <p:cNvPr id="564" name=""/>
                    <p:cNvGrpSpPr/>
                    <p:nvPr/>
                  </p:nvGrpSpPr>
                  <p:grpSpPr>
                    <a:xfrm>
                      <a:off x="6640560" y="4473720"/>
                      <a:ext cx="542880" cy="441360"/>
                      <a:chOff x="6640560" y="4473720"/>
                      <a:chExt cx="542880" cy="441360"/>
                    </a:xfrm>
                  </p:grpSpPr>
                  <p:sp>
                    <p:nvSpPr>
                      <p:cNvPr id="565" name=""/>
                      <p:cNvSpPr/>
                      <p:nvPr/>
                    </p:nvSpPr>
                    <p:spPr>
                      <a:xfrm>
                        <a:off x="6640560" y="4522680"/>
                        <a:ext cx="103320" cy="117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5" h="74">
                            <a:moveTo>
                              <a:pt x="0" y="18"/>
                            </a:moveTo>
                            <a:lnTo>
                              <a:pt x="12" y="30"/>
                            </a:lnTo>
                            <a:lnTo>
                              <a:pt x="13" y="37"/>
                            </a:lnTo>
                            <a:lnTo>
                              <a:pt x="19" y="45"/>
                            </a:lnTo>
                            <a:lnTo>
                              <a:pt x="28" y="49"/>
                            </a:lnTo>
                            <a:lnTo>
                              <a:pt x="36" y="57"/>
                            </a:lnTo>
                            <a:lnTo>
                              <a:pt x="41" y="66"/>
                            </a:lnTo>
                            <a:lnTo>
                              <a:pt x="56" y="70"/>
                            </a:lnTo>
                            <a:lnTo>
                              <a:pt x="65" y="74"/>
                            </a:lnTo>
                            <a:lnTo>
                              <a:pt x="48" y="62"/>
                            </a:lnTo>
                            <a:lnTo>
                              <a:pt x="39" y="52"/>
                            </a:lnTo>
                            <a:lnTo>
                              <a:pt x="32" y="45"/>
                            </a:lnTo>
                            <a:lnTo>
                              <a:pt x="31" y="31"/>
                            </a:lnTo>
                            <a:lnTo>
                              <a:pt x="26" y="34"/>
                            </a:lnTo>
                            <a:lnTo>
                              <a:pt x="19" y="30"/>
                            </a:lnTo>
                            <a:lnTo>
                              <a:pt x="14" y="19"/>
                            </a:lnTo>
                            <a:lnTo>
                              <a:pt x="12" y="11"/>
                            </a:lnTo>
                            <a:lnTo>
                              <a:pt x="13" y="0"/>
                            </a:lnTo>
                            <a:lnTo>
                              <a:pt x="6" y="6"/>
                            </a:lnTo>
                            <a:lnTo>
                              <a:pt x="0" y="18"/>
                            </a:lnTo>
                            <a:close/>
                          </a:path>
                        </a:pathLst>
                      </a:custGeom>
                      <a:solidFill>
                        <a:srgbClr val="6000a0"/>
                      </a:solidFill>
                      <a:ln w="111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66" name=""/>
                      <p:cNvSpPr/>
                      <p:nvPr/>
                    </p:nvSpPr>
                    <p:spPr>
                      <a:xfrm>
                        <a:off x="6640560" y="4819680"/>
                        <a:ext cx="109440" cy="9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9" h="60">
                            <a:moveTo>
                              <a:pt x="0" y="0"/>
                            </a:moveTo>
                            <a:lnTo>
                              <a:pt x="8" y="9"/>
                            </a:lnTo>
                            <a:lnTo>
                              <a:pt x="15" y="15"/>
                            </a:lnTo>
                            <a:lnTo>
                              <a:pt x="23" y="23"/>
                            </a:lnTo>
                            <a:lnTo>
                              <a:pt x="31" y="31"/>
                            </a:lnTo>
                            <a:lnTo>
                              <a:pt x="41" y="39"/>
                            </a:lnTo>
                            <a:lnTo>
                              <a:pt x="47" y="60"/>
                            </a:lnTo>
                            <a:lnTo>
                              <a:pt x="46" y="40"/>
                            </a:lnTo>
                            <a:lnTo>
                              <a:pt x="42" y="31"/>
                            </a:lnTo>
                            <a:lnTo>
                              <a:pt x="33" y="25"/>
                            </a:lnTo>
                            <a:lnTo>
                              <a:pt x="31" y="21"/>
                            </a:lnTo>
                            <a:lnTo>
                              <a:pt x="40" y="23"/>
                            </a:lnTo>
                            <a:lnTo>
                              <a:pt x="55" y="24"/>
                            </a:lnTo>
                            <a:lnTo>
                              <a:pt x="69" y="21"/>
                            </a:lnTo>
                            <a:lnTo>
                              <a:pt x="53" y="19"/>
                            </a:lnTo>
                            <a:lnTo>
                              <a:pt x="32" y="16"/>
                            </a:lnTo>
                            <a:lnTo>
                              <a:pt x="17" y="11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6000a0"/>
                      </a:solidFill>
                      <a:ln w="111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67" name=""/>
                      <p:cNvSpPr/>
                      <p:nvPr/>
                    </p:nvSpPr>
                    <p:spPr>
                      <a:xfrm>
                        <a:off x="7070760" y="4473720"/>
                        <a:ext cx="77760" cy="150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9" h="95">
                            <a:moveTo>
                              <a:pt x="26" y="0"/>
                            </a:moveTo>
                            <a:lnTo>
                              <a:pt x="31" y="6"/>
                            </a:lnTo>
                            <a:lnTo>
                              <a:pt x="34" y="12"/>
                            </a:lnTo>
                            <a:lnTo>
                              <a:pt x="40" y="12"/>
                            </a:lnTo>
                            <a:lnTo>
                              <a:pt x="45" y="12"/>
                            </a:lnTo>
                            <a:lnTo>
                              <a:pt x="49" y="13"/>
                            </a:lnTo>
                            <a:lnTo>
                              <a:pt x="41" y="16"/>
                            </a:lnTo>
                            <a:lnTo>
                              <a:pt x="35" y="23"/>
                            </a:lnTo>
                            <a:lnTo>
                              <a:pt x="31" y="30"/>
                            </a:lnTo>
                            <a:lnTo>
                              <a:pt x="31" y="36"/>
                            </a:lnTo>
                            <a:lnTo>
                              <a:pt x="32" y="44"/>
                            </a:lnTo>
                            <a:lnTo>
                              <a:pt x="31" y="53"/>
                            </a:lnTo>
                            <a:lnTo>
                              <a:pt x="23" y="63"/>
                            </a:lnTo>
                            <a:lnTo>
                              <a:pt x="12" y="67"/>
                            </a:lnTo>
                            <a:lnTo>
                              <a:pt x="16" y="63"/>
                            </a:lnTo>
                            <a:lnTo>
                              <a:pt x="22" y="59"/>
                            </a:lnTo>
                            <a:lnTo>
                              <a:pt x="27" y="44"/>
                            </a:lnTo>
                            <a:lnTo>
                              <a:pt x="28" y="40"/>
                            </a:lnTo>
                            <a:lnTo>
                              <a:pt x="20" y="44"/>
                            </a:lnTo>
                            <a:lnTo>
                              <a:pt x="12" y="55"/>
                            </a:lnTo>
                            <a:lnTo>
                              <a:pt x="8" y="65"/>
                            </a:lnTo>
                            <a:lnTo>
                              <a:pt x="7" y="75"/>
                            </a:lnTo>
                            <a:lnTo>
                              <a:pt x="10" y="87"/>
                            </a:lnTo>
                            <a:lnTo>
                              <a:pt x="15" y="95"/>
                            </a:lnTo>
                            <a:lnTo>
                              <a:pt x="6" y="86"/>
                            </a:lnTo>
                            <a:lnTo>
                              <a:pt x="4" y="75"/>
                            </a:lnTo>
                            <a:lnTo>
                              <a:pt x="4" y="65"/>
                            </a:lnTo>
                            <a:lnTo>
                              <a:pt x="6" y="55"/>
                            </a:lnTo>
                            <a:lnTo>
                              <a:pt x="11" y="46"/>
                            </a:lnTo>
                            <a:lnTo>
                              <a:pt x="19" y="36"/>
                            </a:lnTo>
                            <a:lnTo>
                              <a:pt x="22" y="27"/>
                            </a:lnTo>
                            <a:lnTo>
                              <a:pt x="11" y="34"/>
                            </a:lnTo>
                            <a:lnTo>
                              <a:pt x="0" y="33"/>
                            </a:lnTo>
                            <a:lnTo>
                              <a:pt x="10" y="31"/>
                            </a:lnTo>
                            <a:lnTo>
                              <a:pt x="14" y="27"/>
                            </a:lnTo>
                            <a:lnTo>
                              <a:pt x="20" y="24"/>
                            </a:lnTo>
                            <a:lnTo>
                              <a:pt x="24" y="16"/>
                            </a:lnTo>
                            <a:lnTo>
                              <a:pt x="27" y="9"/>
                            </a:lnTo>
                            <a:lnTo>
                              <a:pt x="26" y="0"/>
                            </a:lnTo>
                            <a:close/>
                          </a:path>
                        </a:pathLst>
                      </a:custGeom>
                      <a:solidFill>
                        <a:srgbClr val="8000e0"/>
                      </a:solidFill>
                      <a:ln w="111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68" name=""/>
                      <p:cNvSpPr/>
                      <p:nvPr/>
                    </p:nvSpPr>
                    <p:spPr>
                      <a:xfrm>
                        <a:off x="7102440" y="4697280"/>
                        <a:ext cx="81000" cy="136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1" h="86">
                            <a:moveTo>
                              <a:pt x="51" y="51"/>
                            </a:moveTo>
                            <a:lnTo>
                              <a:pt x="45" y="47"/>
                            </a:lnTo>
                            <a:lnTo>
                              <a:pt x="38" y="38"/>
                            </a:lnTo>
                            <a:lnTo>
                              <a:pt x="36" y="24"/>
                            </a:lnTo>
                            <a:lnTo>
                              <a:pt x="35" y="13"/>
                            </a:lnTo>
                            <a:lnTo>
                              <a:pt x="37" y="0"/>
                            </a:lnTo>
                            <a:lnTo>
                              <a:pt x="33" y="7"/>
                            </a:lnTo>
                            <a:lnTo>
                              <a:pt x="30" y="21"/>
                            </a:lnTo>
                            <a:lnTo>
                              <a:pt x="30" y="29"/>
                            </a:lnTo>
                            <a:lnTo>
                              <a:pt x="32" y="36"/>
                            </a:lnTo>
                            <a:lnTo>
                              <a:pt x="21" y="36"/>
                            </a:lnTo>
                            <a:lnTo>
                              <a:pt x="10" y="43"/>
                            </a:lnTo>
                            <a:lnTo>
                              <a:pt x="0" y="51"/>
                            </a:lnTo>
                            <a:lnTo>
                              <a:pt x="11" y="47"/>
                            </a:lnTo>
                            <a:lnTo>
                              <a:pt x="23" y="43"/>
                            </a:lnTo>
                            <a:lnTo>
                              <a:pt x="33" y="43"/>
                            </a:lnTo>
                            <a:lnTo>
                              <a:pt x="23" y="48"/>
                            </a:lnTo>
                            <a:lnTo>
                              <a:pt x="19" y="56"/>
                            </a:lnTo>
                            <a:lnTo>
                              <a:pt x="14" y="64"/>
                            </a:lnTo>
                            <a:lnTo>
                              <a:pt x="12" y="72"/>
                            </a:lnTo>
                            <a:lnTo>
                              <a:pt x="17" y="66"/>
                            </a:lnTo>
                            <a:lnTo>
                              <a:pt x="24" y="57"/>
                            </a:lnTo>
                            <a:lnTo>
                              <a:pt x="35" y="51"/>
                            </a:lnTo>
                            <a:lnTo>
                              <a:pt x="38" y="50"/>
                            </a:lnTo>
                            <a:lnTo>
                              <a:pt x="38" y="57"/>
                            </a:lnTo>
                            <a:lnTo>
                              <a:pt x="40" y="65"/>
                            </a:lnTo>
                            <a:lnTo>
                              <a:pt x="42" y="72"/>
                            </a:lnTo>
                            <a:lnTo>
                              <a:pt x="44" y="80"/>
                            </a:lnTo>
                            <a:lnTo>
                              <a:pt x="48" y="86"/>
                            </a:lnTo>
                            <a:lnTo>
                              <a:pt x="47" y="78"/>
                            </a:lnTo>
                            <a:lnTo>
                              <a:pt x="47" y="72"/>
                            </a:lnTo>
                            <a:lnTo>
                              <a:pt x="46" y="66"/>
                            </a:lnTo>
                            <a:lnTo>
                              <a:pt x="48" y="61"/>
                            </a:lnTo>
                            <a:lnTo>
                              <a:pt x="51" y="51"/>
                            </a:lnTo>
                            <a:close/>
                          </a:path>
                        </a:pathLst>
                      </a:custGeom>
                      <a:solidFill>
                        <a:srgbClr val="6000a0"/>
                      </a:solidFill>
                      <a:ln w="111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569" name=""/>
                    <p:cNvSpPr/>
                    <p:nvPr/>
                  </p:nvSpPr>
                  <p:spPr>
                    <a:xfrm flipV="1">
                      <a:off x="6967440" y="4870440"/>
                      <a:ext cx="190440" cy="38160"/>
                    </a:xfrm>
                    <a:prstGeom prst="line">
                      <a:avLst/>
                    </a:prstGeom>
                    <a:ln w="11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8640" bIns="-8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570" name=""/>
                <p:cNvGrpSpPr/>
                <p:nvPr/>
              </p:nvGrpSpPr>
              <p:grpSpPr>
                <a:xfrm>
                  <a:off x="6713640" y="4373640"/>
                  <a:ext cx="276120" cy="315720"/>
                  <a:chOff x="6713640" y="4373640"/>
                  <a:chExt cx="276120" cy="315720"/>
                </a:xfrm>
              </p:grpSpPr>
              <p:grpSp>
                <p:nvGrpSpPr>
                  <p:cNvPr id="571" name=""/>
                  <p:cNvGrpSpPr/>
                  <p:nvPr/>
                </p:nvGrpSpPr>
                <p:grpSpPr>
                  <a:xfrm>
                    <a:off x="6729480" y="4373640"/>
                    <a:ext cx="244440" cy="293760"/>
                    <a:chOff x="6729480" y="4373640"/>
                    <a:chExt cx="244440" cy="293760"/>
                  </a:xfrm>
                </p:grpSpPr>
                <p:grpSp>
                  <p:nvGrpSpPr>
                    <p:cNvPr id="572" name=""/>
                    <p:cNvGrpSpPr/>
                    <p:nvPr/>
                  </p:nvGrpSpPr>
                  <p:grpSpPr>
                    <a:xfrm>
                      <a:off x="6729480" y="4373640"/>
                      <a:ext cx="244440" cy="291960"/>
                      <a:chOff x="6729480" y="4373640"/>
                      <a:chExt cx="244440" cy="291960"/>
                    </a:xfrm>
                  </p:grpSpPr>
                  <p:sp>
                    <p:nvSpPr>
                      <p:cNvPr id="573" name=""/>
                      <p:cNvSpPr/>
                      <p:nvPr/>
                    </p:nvSpPr>
                    <p:spPr>
                      <a:xfrm>
                        <a:off x="6729480" y="4373640"/>
                        <a:ext cx="244440" cy="291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54" h="184">
                            <a:moveTo>
                              <a:pt x="44" y="15"/>
                            </a:moveTo>
                            <a:lnTo>
                              <a:pt x="0" y="43"/>
                            </a:lnTo>
                            <a:lnTo>
                              <a:pt x="19" y="107"/>
                            </a:lnTo>
                            <a:lnTo>
                              <a:pt x="41" y="143"/>
                            </a:lnTo>
                            <a:lnTo>
                              <a:pt x="75" y="184"/>
                            </a:lnTo>
                            <a:lnTo>
                              <a:pt x="98" y="156"/>
                            </a:lnTo>
                            <a:lnTo>
                              <a:pt x="154" y="25"/>
                            </a:lnTo>
                            <a:lnTo>
                              <a:pt x="128" y="0"/>
                            </a:lnTo>
                            <a:lnTo>
                              <a:pt x="84" y="32"/>
                            </a:lnTo>
                            <a:lnTo>
                              <a:pt x="44" y="15"/>
                            </a:lnTo>
                            <a:close/>
                          </a:path>
                        </a:pathLst>
                      </a:custGeom>
                      <a:solidFill>
                        <a:srgbClr val="e0e0ff"/>
                      </a:solidFill>
                      <a:ln w="111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74" name=""/>
                      <p:cNvSpPr/>
                      <p:nvPr/>
                    </p:nvSpPr>
                    <p:spPr>
                      <a:xfrm>
                        <a:off x="6862680" y="4489560"/>
                        <a:ext cx="68400" cy="29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3" h="19">
                            <a:moveTo>
                              <a:pt x="0" y="0"/>
                            </a:moveTo>
                            <a:lnTo>
                              <a:pt x="43" y="19"/>
                            </a:lnTo>
                            <a:lnTo>
                              <a:pt x="19" y="16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c0c0e0"/>
                      </a:solidFill>
                      <a:ln w="111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6920" bIns="-16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75" name=""/>
                      <p:cNvSpPr/>
                      <p:nvPr/>
                    </p:nvSpPr>
                    <p:spPr>
                      <a:xfrm>
                        <a:off x="6751800" y="4498920"/>
                        <a:ext cx="27000" cy="15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0">
                            <a:moveTo>
                              <a:pt x="17" y="0"/>
                            </a:moveTo>
                            <a:lnTo>
                              <a:pt x="0" y="10"/>
                            </a:lnTo>
                            <a:lnTo>
                              <a:pt x="12" y="7"/>
                            </a:lnTo>
                            <a:lnTo>
                              <a:pt x="17" y="0"/>
                            </a:lnTo>
                            <a:close/>
                          </a:path>
                        </a:pathLst>
                      </a:custGeom>
                      <a:solidFill>
                        <a:srgbClr val="c0c0e0"/>
                      </a:solidFill>
                      <a:ln w="111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960" bIns="-30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576" name=""/>
                    <p:cNvGrpSpPr/>
                    <p:nvPr/>
                  </p:nvGrpSpPr>
                  <p:grpSpPr>
                    <a:xfrm>
                      <a:off x="6789600" y="4457880"/>
                      <a:ext cx="92160" cy="209520"/>
                      <a:chOff x="6789600" y="4457880"/>
                      <a:chExt cx="92160" cy="209520"/>
                    </a:xfrm>
                  </p:grpSpPr>
                  <p:sp>
                    <p:nvSpPr>
                      <p:cNvPr id="577" name=""/>
                      <p:cNvSpPr/>
                      <p:nvPr/>
                    </p:nvSpPr>
                    <p:spPr>
                      <a:xfrm>
                        <a:off x="6789600" y="4457880"/>
                        <a:ext cx="92160" cy="209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8" h="132">
                            <a:moveTo>
                              <a:pt x="14" y="0"/>
                            </a:moveTo>
                            <a:lnTo>
                              <a:pt x="39" y="20"/>
                            </a:lnTo>
                            <a:lnTo>
                              <a:pt x="33" y="55"/>
                            </a:lnTo>
                            <a:lnTo>
                              <a:pt x="58" y="103"/>
                            </a:lnTo>
                            <a:lnTo>
                              <a:pt x="36" y="132"/>
                            </a:lnTo>
                            <a:lnTo>
                              <a:pt x="5" y="91"/>
                            </a:lnTo>
                            <a:lnTo>
                              <a:pt x="11" y="55"/>
                            </a:lnTo>
                            <a:lnTo>
                              <a:pt x="0" y="29"/>
                            </a:lnTo>
                            <a:lnTo>
                              <a:pt x="14" y="0"/>
                            </a:lnTo>
                            <a:close/>
                          </a:path>
                        </a:pathLst>
                      </a:custGeom>
                      <a:solidFill>
                        <a:srgbClr val="ff00a0"/>
                      </a:solidFill>
                      <a:ln w="111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78" name=""/>
                      <p:cNvSpPr/>
                      <p:nvPr/>
                    </p:nvSpPr>
                    <p:spPr>
                      <a:xfrm>
                        <a:off x="6805440" y="4545000"/>
                        <a:ext cx="34920" cy="7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2" h="5">
                            <a:moveTo>
                              <a:pt x="0" y="1"/>
                            </a:moveTo>
                            <a:lnTo>
                              <a:pt x="13" y="3"/>
                            </a:lnTo>
                            <a:lnTo>
                              <a:pt x="22" y="0"/>
                            </a:lnTo>
                            <a:lnTo>
                              <a:pt x="13" y="5"/>
                            </a:lnTo>
                            <a:lnTo>
                              <a:pt x="0" y="1"/>
                            </a:lnTo>
                            <a:close/>
                          </a:path>
                        </a:pathLst>
                      </a:custGeom>
                      <a:solidFill>
                        <a:srgbClr val="e040a0"/>
                      </a:solidFill>
                      <a:ln w="111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579" name=""/>
                  <p:cNvSpPr/>
                  <p:nvPr/>
                </p:nvSpPr>
                <p:spPr>
                  <a:xfrm>
                    <a:off x="6713640" y="4413240"/>
                    <a:ext cx="276120" cy="27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4" h="174">
                        <a:moveTo>
                          <a:pt x="10" y="16"/>
                        </a:moveTo>
                        <a:lnTo>
                          <a:pt x="29" y="81"/>
                        </a:lnTo>
                        <a:lnTo>
                          <a:pt x="52" y="119"/>
                        </a:lnTo>
                        <a:lnTo>
                          <a:pt x="85" y="160"/>
                        </a:lnTo>
                        <a:lnTo>
                          <a:pt x="107" y="131"/>
                        </a:lnTo>
                        <a:lnTo>
                          <a:pt x="136" y="64"/>
                        </a:lnTo>
                        <a:lnTo>
                          <a:pt x="163" y="0"/>
                        </a:lnTo>
                        <a:lnTo>
                          <a:pt x="174" y="2"/>
                        </a:lnTo>
                        <a:lnTo>
                          <a:pt x="116" y="133"/>
                        </a:lnTo>
                        <a:lnTo>
                          <a:pt x="85" y="174"/>
                        </a:lnTo>
                        <a:lnTo>
                          <a:pt x="44" y="124"/>
                        </a:lnTo>
                        <a:lnTo>
                          <a:pt x="20" y="85"/>
                        </a:lnTo>
                        <a:lnTo>
                          <a:pt x="0" y="20"/>
                        </a:lnTo>
                        <a:lnTo>
                          <a:pt x="10" y="16"/>
                        </a:lnTo>
                        <a:close/>
                      </a:path>
                    </a:pathLst>
                  </a:custGeom>
                  <a:solidFill>
                    <a:srgbClr val="6000a0"/>
                  </a:solidFill>
                  <a:ln w="11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80" name=""/>
              <p:cNvGrpSpPr/>
              <p:nvPr/>
            </p:nvGrpSpPr>
            <p:grpSpPr>
              <a:xfrm>
                <a:off x="6278400" y="4251240"/>
                <a:ext cx="1257480" cy="370080"/>
                <a:chOff x="6278400" y="4251240"/>
                <a:chExt cx="1257480" cy="370080"/>
              </a:xfrm>
            </p:grpSpPr>
            <p:sp>
              <p:nvSpPr>
                <p:cNvPr id="581" name=""/>
                <p:cNvSpPr/>
                <p:nvPr/>
              </p:nvSpPr>
              <p:spPr>
                <a:xfrm>
                  <a:off x="6278400" y="4324320"/>
                  <a:ext cx="304920" cy="297000"/>
                </a:xfrm>
                <a:custGeom>
                  <a:avLst/>
                  <a:gdLst/>
                  <a:ahLst/>
                  <a:rect l="l" t="t" r="r" b="b"/>
                  <a:pathLst>
                    <a:path w="192" h="187">
                      <a:moveTo>
                        <a:pt x="176" y="58"/>
                      </a:moveTo>
                      <a:lnTo>
                        <a:pt x="186" y="72"/>
                      </a:lnTo>
                      <a:lnTo>
                        <a:pt x="192" y="96"/>
                      </a:lnTo>
                      <a:lnTo>
                        <a:pt x="187" y="122"/>
                      </a:lnTo>
                      <a:lnTo>
                        <a:pt x="176" y="141"/>
                      </a:lnTo>
                      <a:lnTo>
                        <a:pt x="156" y="166"/>
                      </a:lnTo>
                      <a:lnTo>
                        <a:pt x="139" y="179"/>
                      </a:lnTo>
                      <a:lnTo>
                        <a:pt x="118" y="187"/>
                      </a:lnTo>
                      <a:lnTo>
                        <a:pt x="94" y="187"/>
                      </a:lnTo>
                      <a:lnTo>
                        <a:pt x="79" y="179"/>
                      </a:lnTo>
                      <a:lnTo>
                        <a:pt x="63" y="168"/>
                      </a:lnTo>
                      <a:lnTo>
                        <a:pt x="34" y="166"/>
                      </a:lnTo>
                      <a:lnTo>
                        <a:pt x="7" y="163"/>
                      </a:lnTo>
                      <a:lnTo>
                        <a:pt x="0" y="157"/>
                      </a:lnTo>
                      <a:lnTo>
                        <a:pt x="0" y="146"/>
                      </a:lnTo>
                      <a:lnTo>
                        <a:pt x="7" y="140"/>
                      </a:lnTo>
                      <a:lnTo>
                        <a:pt x="27" y="136"/>
                      </a:lnTo>
                      <a:lnTo>
                        <a:pt x="49" y="139"/>
                      </a:lnTo>
                      <a:lnTo>
                        <a:pt x="2" y="103"/>
                      </a:lnTo>
                      <a:lnTo>
                        <a:pt x="0" y="92"/>
                      </a:lnTo>
                      <a:lnTo>
                        <a:pt x="4" y="83"/>
                      </a:lnTo>
                      <a:lnTo>
                        <a:pt x="15" y="78"/>
                      </a:lnTo>
                      <a:lnTo>
                        <a:pt x="67" y="110"/>
                      </a:lnTo>
                      <a:lnTo>
                        <a:pt x="36" y="85"/>
                      </a:lnTo>
                      <a:lnTo>
                        <a:pt x="12" y="61"/>
                      </a:lnTo>
                      <a:lnTo>
                        <a:pt x="13" y="51"/>
                      </a:lnTo>
                      <a:lnTo>
                        <a:pt x="19" y="45"/>
                      </a:lnTo>
                      <a:lnTo>
                        <a:pt x="30" y="44"/>
                      </a:lnTo>
                      <a:lnTo>
                        <a:pt x="89" y="85"/>
                      </a:lnTo>
                      <a:lnTo>
                        <a:pt x="67" y="65"/>
                      </a:lnTo>
                      <a:lnTo>
                        <a:pt x="46" y="35"/>
                      </a:lnTo>
                      <a:lnTo>
                        <a:pt x="46" y="27"/>
                      </a:lnTo>
                      <a:lnTo>
                        <a:pt x="51" y="21"/>
                      </a:lnTo>
                      <a:lnTo>
                        <a:pt x="61" y="19"/>
                      </a:lnTo>
                      <a:lnTo>
                        <a:pt x="84" y="34"/>
                      </a:lnTo>
                      <a:lnTo>
                        <a:pt x="108" y="55"/>
                      </a:lnTo>
                      <a:lnTo>
                        <a:pt x="127" y="66"/>
                      </a:lnTo>
                      <a:lnTo>
                        <a:pt x="135" y="64"/>
                      </a:lnTo>
                      <a:lnTo>
                        <a:pt x="127" y="48"/>
                      </a:lnTo>
                      <a:lnTo>
                        <a:pt x="128" y="28"/>
                      </a:lnTo>
                      <a:lnTo>
                        <a:pt x="139" y="11"/>
                      </a:lnTo>
                      <a:lnTo>
                        <a:pt x="149" y="2"/>
                      </a:lnTo>
                      <a:lnTo>
                        <a:pt x="156" y="0"/>
                      </a:lnTo>
                      <a:lnTo>
                        <a:pt x="162" y="4"/>
                      </a:lnTo>
                      <a:lnTo>
                        <a:pt x="167" y="13"/>
                      </a:lnTo>
                      <a:lnTo>
                        <a:pt x="162" y="26"/>
                      </a:lnTo>
                      <a:lnTo>
                        <a:pt x="160" y="41"/>
                      </a:lnTo>
                      <a:lnTo>
                        <a:pt x="165" y="52"/>
                      </a:lnTo>
                      <a:lnTo>
                        <a:pt x="176" y="58"/>
                      </a:lnTo>
                      <a:close/>
                    </a:path>
                  </a:pathLst>
                </a:custGeom>
                <a:solidFill>
                  <a:srgbClr val="e0a08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>
                  <a:off x="7227720" y="4251240"/>
                  <a:ext cx="308160" cy="297000"/>
                </a:xfrm>
                <a:custGeom>
                  <a:avLst/>
                  <a:gdLst/>
                  <a:ahLst/>
                  <a:rect l="l" t="t" r="r" b="b"/>
                  <a:pathLst>
                    <a:path w="194" h="187">
                      <a:moveTo>
                        <a:pt x="16" y="58"/>
                      </a:moveTo>
                      <a:lnTo>
                        <a:pt x="6" y="72"/>
                      </a:lnTo>
                      <a:lnTo>
                        <a:pt x="0" y="96"/>
                      </a:lnTo>
                      <a:lnTo>
                        <a:pt x="5" y="122"/>
                      </a:lnTo>
                      <a:lnTo>
                        <a:pt x="16" y="141"/>
                      </a:lnTo>
                      <a:lnTo>
                        <a:pt x="36" y="166"/>
                      </a:lnTo>
                      <a:lnTo>
                        <a:pt x="53" y="180"/>
                      </a:lnTo>
                      <a:lnTo>
                        <a:pt x="74" y="187"/>
                      </a:lnTo>
                      <a:lnTo>
                        <a:pt x="99" y="186"/>
                      </a:lnTo>
                      <a:lnTo>
                        <a:pt x="114" y="180"/>
                      </a:lnTo>
                      <a:lnTo>
                        <a:pt x="130" y="168"/>
                      </a:lnTo>
                      <a:lnTo>
                        <a:pt x="160" y="166"/>
                      </a:lnTo>
                      <a:lnTo>
                        <a:pt x="187" y="163"/>
                      </a:lnTo>
                      <a:lnTo>
                        <a:pt x="194" y="157"/>
                      </a:lnTo>
                      <a:lnTo>
                        <a:pt x="194" y="146"/>
                      </a:lnTo>
                      <a:lnTo>
                        <a:pt x="187" y="140"/>
                      </a:lnTo>
                      <a:lnTo>
                        <a:pt x="167" y="136"/>
                      </a:lnTo>
                      <a:lnTo>
                        <a:pt x="144" y="139"/>
                      </a:lnTo>
                      <a:lnTo>
                        <a:pt x="192" y="103"/>
                      </a:lnTo>
                      <a:lnTo>
                        <a:pt x="194" y="92"/>
                      </a:lnTo>
                      <a:lnTo>
                        <a:pt x="190" y="83"/>
                      </a:lnTo>
                      <a:lnTo>
                        <a:pt x="181" y="79"/>
                      </a:lnTo>
                      <a:lnTo>
                        <a:pt x="126" y="110"/>
                      </a:lnTo>
                      <a:lnTo>
                        <a:pt x="177" y="69"/>
                      </a:lnTo>
                      <a:lnTo>
                        <a:pt x="180" y="62"/>
                      </a:lnTo>
                      <a:lnTo>
                        <a:pt x="180" y="53"/>
                      </a:lnTo>
                      <a:lnTo>
                        <a:pt x="175" y="47"/>
                      </a:lnTo>
                      <a:lnTo>
                        <a:pt x="166" y="45"/>
                      </a:lnTo>
                      <a:lnTo>
                        <a:pt x="104" y="86"/>
                      </a:lnTo>
                      <a:lnTo>
                        <a:pt x="139" y="48"/>
                      </a:lnTo>
                      <a:lnTo>
                        <a:pt x="149" y="37"/>
                      </a:lnTo>
                      <a:lnTo>
                        <a:pt x="147" y="26"/>
                      </a:lnTo>
                      <a:lnTo>
                        <a:pt x="140" y="20"/>
                      </a:lnTo>
                      <a:lnTo>
                        <a:pt x="132" y="19"/>
                      </a:lnTo>
                      <a:lnTo>
                        <a:pt x="109" y="35"/>
                      </a:lnTo>
                      <a:lnTo>
                        <a:pt x="85" y="55"/>
                      </a:lnTo>
                      <a:lnTo>
                        <a:pt x="65" y="66"/>
                      </a:lnTo>
                      <a:lnTo>
                        <a:pt x="57" y="64"/>
                      </a:lnTo>
                      <a:lnTo>
                        <a:pt x="65" y="48"/>
                      </a:lnTo>
                      <a:lnTo>
                        <a:pt x="64" y="28"/>
                      </a:lnTo>
                      <a:lnTo>
                        <a:pt x="53" y="11"/>
                      </a:lnTo>
                      <a:lnTo>
                        <a:pt x="43" y="2"/>
                      </a:lnTo>
                      <a:lnTo>
                        <a:pt x="36" y="0"/>
                      </a:lnTo>
                      <a:lnTo>
                        <a:pt x="30" y="4"/>
                      </a:lnTo>
                      <a:lnTo>
                        <a:pt x="25" y="14"/>
                      </a:lnTo>
                      <a:lnTo>
                        <a:pt x="30" y="26"/>
                      </a:lnTo>
                      <a:lnTo>
                        <a:pt x="32" y="41"/>
                      </a:lnTo>
                      <a:lnTo>
                        <a:pt x="27" y="51"/>
                      </a:lnTo>
                      <a:lnTo>
                        <a:pt x="16" y="58"/>
                      </a:lnTo>
                      <a:close/>
                    </a:path>
                  </a:pathLst>
                </a:custGeom>
                <a:solidFill>
                  <a:srgbClr val="e0a08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83" name=""/>
            <p:cNvGrpSpPr/>
            <p:nvPr/>
          </p:nvGrpSpPr>
          <p:grpSpPr>
            <a:xfrm>
              <a:off x="6383160" y="3290760"/>
              <a:ext cx="801720" cy="1190880"/>
              <a:chOff x="6383160" y="3290760"/>
              <a:chExt cx="801720" cy="1190880"/>
            </a:xfrm>
          </p:grpSpPr>
          <p:grpSp>
            <p:nvGrpSpPr>
              <p:cNvPr id="584" name=""/>
              <p:cNvGrpSpPr/>
              <p:nvPr/>
            </p:nvGrpSpPr>
            <p:grpSpPr>
              <a:xfrm>
                <a:off x="6383160" y="3290760"/>
                <a:ext cx="801720" cy="1190880"/>
                <a:chOff x="6383160" y="3290760"/>
                <a:chExt cx="801720" cy="1190880"/>
              </a:xfrm>
            </p:grpSpPr>
            <p:grpSp>
              <p:nvGrpSpPr>
                <p:cNvPr id="585" name=""/>
                <p:cNvGrpSpPr/>
                <p:nvPr/>
              </p:nvGrpSpPr>
              <p:grpSpPr>
                <a:xfrm>
                  <a:off x="6383160" y="3346560"/>
                  <a:ext cx="733680" cy="1135080"/>
                  <a:chOff x="6383160" y="3346560"/>
                  <a:chExt cx="733680" cy="1135080"/>
                </a:xfrm>
              </p:grpSpPr>
              <p:sp>
                <p:nvSpPr>
                  <p:cNvPr id="586" name=""/>
                  <p:cNvSpPr/>
                  <p:nvPr/>
                </p:nvSpPr>
                <p:spPr>
                  <a:xfrm>
                    <a:off x="6383160" y="3346560"/>
                    <a:ext cx="733680" cy="1135080"/>
                  </a:xfrm>
                  <a:custGeom>
                    <a:avLst/>
                    <a:gdLst/>
                    <a:ahLst/>
                    <a:rect l="l" t="t" r="r" b="b"/>
                    <a:pathLst>
                      <a:path w="462" h="715">
                        <a:moveTo>
                          <a:pt x="256" y="36"/>
                        </a:moveTo>
                        <a:lnTo>
                          <a:pt x="226" y="73"/>
                        </a:lnTo>
                        <a:lnTo>
                          <a:pt x="214" y="91"/>
                        </a:lnTo>
                        <a:lnTo>
                          <a:pt x="205" y="111"/>
                        </a:lnTo>
                        <a:lnTo>
                          <a:pt x="196" y="138"/>
                        </a:lnTo>
                        <a:lnTo>
                          <a:pt x="188" y="171"/>
                        </a:lnTo>
                        <a:lnTo>
                          <a:pt x="181" y="197"/>
                        </a:lnTo>
                        <a:lnTo>
                          <a:pt x="177" y="215"/>
                        </a:lnTo>
                        <a:lnTo>
                          <a:pt x="168" y="227"/>
                        </a:lnTo>
                        <a:lnTo>
                          <a:pt x="143" y="238"/>
                        </a:lnTo>
                        <a:lnTo>
                          <a:pt x="112" y="247"/>
                        </a:lnTo>
                        <a:lnTo>
                          <a:pt x="81" y="260"/>
                        </a:lnTo>
                        <a:lnTo>
                          <a:pt x="49" y="273"/>
                        </a:lnTo>
                        <a:lnTo>
                          <a:pt x="29" y="284"/>
                        </a:lnTo>
                        <a:lnTo>
                          <a:pt x="13" y="297"/>
                        </a:lnTo>
                        <a:lnTo>
                          <a:pt x="3" y="314"/>
                        </a:lnTo>
                        <a:lnTo>
                          <a:pt x="0" y="333"/>
                        </a:lnTo>
                        <a:lnTo>
                          <a:pt x="0" y="352"/>
                        </a:lnTo>
                        <a:lnTo>
                          <a:pt x="6" y="368"/>
                        </a:lnTo>
                        <a:lnTo>
                          <a:pt x="17" y="383"/>
                        </a:lnTo>
                        <a:lnTo>
                          <a:pt x="33" y="393"/>
                        </a:lnTo>
                        <a:lnTo>
                          <a:pt x="55" y="401"/>
                        </a:lnTo>
                        <a:lnTo>
                          <a:pt x="86" y="405"/>
                        </a:lnTo>
                        <a:lnTo>
                          <a:pt x="116" y="406"/>
                        </a:lnTo>
                        <a:lnTo>
                          <a:pt x="149" y="403"/>
                        </a:lnTo>
                        <a:lnTo>
                          <a:pt x="172" y="397"/>
                        </a:lnTo>
                        <a:lnTo>
                          <a:pt x="168" y="425"/>
                        </a:lnTo>
                        <a:lnTo>
                          <a:pt x="165" y="472"/>
                        </a:lnTo>
                        <a:lnTo>
                          <a:pt x="168" y="521"/>
                        </a:lnTo>
                        <a:lnTo>
                          <a:pt x="175" y="575"/>
                        </a:lnTo>
                        <a:lnTo>
                          <a:pt x="186" y="624"/>
                        </a:lnTo>
                        <a:lnTo>
                          <a:pt x="194" y="644"/>
                        </a:lnTo>
                        <a:lnTo>
                          <a:pt x="204" y="663"/>
                        </a:lnTo>
                        <a:lnTo>
                          <a:pt x="219" y="683"/>
                        </a:lnTo>
                        <a:lnTo>
                          <a:pt x="240" y="702"/>
                        </a:lnTo>
                        <a:lnTo>
                          <a:pt x="253" y="710"/>
                        </a:lnTo>
                        <a:lnTo>
                          <a:pt x="275" y="715"/>
                        </a:lnTo>
                        <a:lnTo>
                          <a:pt x="291" y="710"/>
                        </a:lnTo>
                        <a:lnTo>
                          <a:pt x="311" y="702"/>
                        </a:lnTo>
                        <a:lnTo>
                          <a:pt x="336" y="678"/>
                        </a:lnTo>
                        <a:lnTo>
                          <a:pt x="352" y="649"/>
                        </a:lnTo>
                        <a:lnTo>
                          <a:pt x="365" y="617"/>
                        </a:lnTo>
                        <a:lnTo>
                          <a:pt x="380" y="565"/>
                        </a:lnTo>
                        <a:lnTo>
                          <a:pt x="392" y="524"/>
                        </a:lnTo>
                        <a:lnTo>
                          <a:pt x="402" y="481"/>
                        </a:lnTo>
                        <a:lnTo>
                          <a:pt x="408" y="453"/>
                        </a:lnTo>
                        <a:lnTo>
                          <a:pt x="415" y="404"/>
                        </a:lnTo>
                        <a:lnTo>
                          <a:pt x="418" y="363"/>
                        </a:lnTo>
                        <a:lnTo>
                          <a:pt x="421" y="337"/>
                        </a:lnTo>
                        <a:lnTo>
                          <a:pt x="418" y="322"/>
                        </a:lnTo>
                        <a:lnTo>
                          <a:pt x="429" y="324"/>
                        </a:lnTo>
                        <a:lnTo>
                          <a:pt x="442" y="319"/>
                        </a:lnTo>
                        <a:lnTo>
                          <a:pt x="453" y="306"/>
                        </a:lnTo>
                        <a:lnTo>
                          <a:pt x="460" y="292"/>
                        </a:lnTo>
                        <a:lnTo>
                          <a:pt x="462" y="277"/>
                        </a:lnTo>
                        <a:lnTo>
                          <a:pt x="459" y="264"/>
                        </a:lnTo>
                        <a:lnTo>
                          <a:pt x="450" y="254"/>
                        </a:lnTo>
                        <a:lnTo>
                          <a:pt x="439" y="252"/>
                        </a:lnTo>
                        <a:lnTo>
                          <a:pt x="426" y="252"/>
                        </a:lnTo>
                        <a:lnTo>
                          <a:pt x="440" y="221"/>
                        </a:lnTo>
                        <a:lnTo>
                          <a:pt x="448" y="174"/>
                        </a:lnTo>
                        <a:lnTo>
                          <a:pt x="450" y="122"/>
                        </a:lnTo>
                        <a:lnTo>
                          <a:pt x="448" y="64"/>
                        </a:lnTo>
                        <a:lnTo>
                          <a:pt x="412" y="23"/>
                        </a:lnTo>
                        <a:lnTo>
                          <a:pt x="379" y="4"/>
                        </a:lnTo>
                        <a:lnTo>
                          <a:pt x="332" y="0"/>
                        </a:lnTo>
                        <a:lnTo>
                          <a:pt x="289" y="11"/>
                        </a:lnTo>
                        <a:lnTo>
                          <a:pt x="256" y="36"/>
                        </a:lnTo>
                        <a:close/>
                      </a:path>
                    </a:pathLst>
                  </a:custGeom>
                  <a:solidFill>
                    <a:srgbClr val="e0a080"/>
                  </a:solidFill>
                  <a:ln w="11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7" name=""/>
                  <p:cNvSpPr/>
                  <p:nvPr/>
                </p:nvSpPr>
                <p:spPr>
                  <a:xfrm>
                    <a:off x="6651720" y="3911760"/>
                    <a:ext cx="137880" cy="712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45">
                        <a:moveTo>
                          <a:pt x="0" y="45"/>
                        </a:moveTo>
                        <a:lnTo>
                          <a:pt x="19" y="41"/>
                        </a:lnTo>
                        <a:lnTo>
                          <a:pt x="42" y="32"/>
                        </a:lnTo>
                        <a:lnTo>
                          <a:pt x="60" y="24"/>
                        </a:lnTo>
                        <a:lnTo>
                          <a:pt x="76" y="13"/>
                        </a:lnTo>
                        <a:lnTo>
                          <a:pt x="87" y="0"/>
                        </a:lnTo>
                      </a:path>
                    </a:pathLst>
                  </a:custGeom>
                  <a:noFill/>
                  <a:ln w="11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88" name=""/>
                <p:cNvGrpSpPr/>
                <p:nvPr/>
              </p:nvGrpSpPr>
              <p:grpSpPr>
                <a:xfrm>
                  <a:off x="6656400" y="3290760"/>
                  <a:ext cx="528480" cy="470160"/>
                  <a:chOff x="6656400" y="3290760"/>
                  <a:chExt cx="528480" cy="470160"/>
                </a:xfrm>
              </p:grpSpPr>
              <p:sp>
                <p:nvSpPr>
                  <p:cNvPr id="589" name=""/>
                  <p:cNvSpPr/>
                  <p:nvPr/>
                </p:nvSpPr>
                <p:spPr>
                  <a:xfrm>
                    <a:off x="6656400" y="3290760"/>
                    <a:ext cx="528480" cy="470160"/>
                  </a:xfrm>
                  <a:custGeom>
                    <a:avLst/>
                    <a:gdLst/>
                    <a:ahLst/>
                    <a:rect l="l" t="t" r="r" b="b"/>
                    <a:pathLst>
                      <a:path w="333" h="296">
                        <a:moveTo>
                          <a:pt x="0" y="81"/>
                        </a:moveTo>
                        <a:lnTo>
                          <a:pt x="2" y="71"/>
                        </a:lnTo>
                        <a:lnTo>
                          <a:pt x="5" y="63"/>
                        </a:lnTo>
                        <a:lnTo>
                          <a:pt x="15" y="50"/>
                        </a:lnTo>
                        <a:lnTo>
                          <a:pt x="29" y="40"/>
                        </a:lnTo>
                        <a:lnTo>
                          <a:pt x="46" y="31"/>
                        </a:lnTo>
                        <a:lnTo>
                          <a:pt x="65" y="23"/>
                        </a:lnTo>
                        <a:lnTo>
                          <a:pt x="90" y="17"/>
                        </a:lnTo>
                        <a:lnTo>
                          <a:pt x="110" y="14"/>
                        </a:lnTo>
                        <a:lnTo>
                          <a:pt x="126" y="5"/>
                        </a:lnTo>
                        <a:lnTo>
                          <a:pt x="142" y="0"/>
                        </a:lnTo>
                        <a:lnTo>
                          <a:pt x="163" y="5"/>
                        </a:lnTo>
                        <a:lnTo>
                          <a:pt x="185" y="11"/>
                        </a:lnTo>
                        <a:lnTo>
                          <a:pt x="201" y="17"/>
                        </a:lnTo>
                        <a:lnTo>
                          <a:pt x="219" y="25"/>
                        </a:lnTo>
                        <a:lnTo>
                          <a:pt x="233" y="33"/>
                        </a:lnTo>
                        <a:lnTo>
                          <a:pt x="249" y="44"/>
                        </a:lnTo>
                        <a:lnTo>
                          <a:pt x="264" y="54"/>
                        </a:lnTo>
                        <a:lnTo>
                          <a:pt x="278" y="66"/>
                        </a:lnTo>
                        <a:lnTo>
                          <a:pt x="291" y="78"/>
                        </a:lnTo>
                        <a:lnTo>
                          <a:pt x="300" y="89"/>
                        </a:lnTo>
                        <a:lnTo>
                          <a:pt x="308" y="101"/>
                        </a:lnTo>
                        <a:lnTo>
                          <a:pt x="316" y="115"/>
                        </a:lnTo>
                        <a:lnTo>
                          <a:pt x="322" y="127"/>
                        </a:lnTo>
                        <a:lnTo>
                          <a:pt x="327" y="140"/>
                        </a:lnTo>
                        <a:lnTo>
                          <a:pt x="330" y="156"/>
                        </a:lnTo>
                        <a:lnTo>
                          <a:pt x="326" y="172"/>
                        </a:lnTo>
                        <a:lnTo>
                          <a:pt x="331" y="183"/>
                        </a:lnTo>
                        <a:lnTo>
                          <a:pt x="333" y="201"/>
                        </a:lnTo>
                        <a:lnTo>
                          <a:pt x="333" y="216"/>
                        </a:lnTo>
                        <a:lnTo>
                          <a:pt x="328" y="229"/>
                        </a:lnTo>
                        <a:lnTo>
                          <a:pt x="315" y="250"/>
                        </a:lnTo>
                        <a:lnTo>
                          <a:pt x="304" y="262"/>
                        </a:lnTo>
                        <a:lnTo>
                          <a:pt x="295" y="272"/>
                        </a:lnTo>
                        <a:lnTo>
                          <a:pt x="282" y="282"/>
                        </a:lnTo>
                        <a:lnTo>
                          <a:pt x="268" y="289"/>
                        </a:lnTo>
                        <a:lnTo>
                          <a:pt x="252" y="296"/>
                        </a:lnTo>
                        <a:lnTo>
                          <a:pt x="239" y="292"/>
                        </a:lnTo>
                        <a:lnTo>
                          <a:pt x="227" y="287"/>
                        </a:lnTo>
                        <a:lnTo>
                          <a:pt x="232" y="271"/>
                        </a:lnTo>
                        <a:lnTo>
                          <a:pt x="231" y="256"/>
                        </a:lnTo>
                        <a:lnTo>
                          <a:pt x="228" y="244"/>
                        </a:lnTo>
                        <a:lnTo>
                          <a:pt x="223" y="231"/>
                        </a:lnTo>
                        <a:lnTo>
                          <a:pt x="211" y="224"/>
                        </a:lnTo>
                        <a:lnTo>
                          <a:pt x="201" y="213"/>
                        </a:lnTo>
                        <a:lnTo>
                          <a:pt x="197" y="197"/>
                        </a:lnTo>
                        <a:lnTo>
                          <a:pt x="196" y="180"/>
                        </a:lnTo>
                        <a:lnTo>
                          <a:pt x="197" y="160"/>
                        </a:lnTo>
                        <a:lnTo>
                          <a:pt x="200" y="144"/>
                        </a:lnTo>
                        <a:lnTo>
                          <a:pt x="207" y="129"/>
                        </a:lnTo>
                        <a:lnTo>
                          <a:pt x="213" y="117"/>
                        </a:lnTo>
                        <a:lnTo>
                          <a:pt x="218" y="106"/>
                        </a:lnTo>
                        <a:lnTo>
                          <a:pt x="207" y="110"/>
                        </a:lnTo>
                        <a:lnTo>
                          <a:pt x="189" y="115"/>
                        </a:lnTo>
                        <a:lnTo>
                          <a:pt x="178" y="116"/>
                        </a:lnTo>
                        <a:lnTo>
                          <a:pt x="165" y="115"/>
                        </a:lnTo>
                        <a:lnTo>
                          <a:pt x="155" y="110"/>
                        </a:lnTo>
                        <a:lnTo>
                          <a:pt x="147" y="104"/>
                        </a:lnTo>
                        <a:lnTo>
                          <a:pt x="134" y="103"/>
                        </a:lnTo>
                        <a:lnTo>
                          <a:pt x="120" y="100"/>
                        </a:lnTo>
                        <a:lnTo>
                          <a:pt x="112" y="94"/>
                        </a:lnTo>
                        <a:lnTo>
                          <a:pt x="101" y="98"/>
                        </a:lnTo>
                        <a:lnTo>
                          <a:pt x="84" y="103"/>
                        </a:lnTo>
                        <a:lnTo>
                          <a:pt x="65" y="104"/>
                        </a:lnTo>
                        <a:lnTo>
                          <a:pt x="47" y="105"/>
                        </a:lnTo>
                        <a:lnTo>
                          <a:pt x="31" y="103"/>
                        </a:lnTo>
                        <a:lnTo>
                          <a:pt x="15" y="99"/>
                        </a:lnTo>
                        <a:lnTo>
                          <a:pt x="5" y="93"/>
                        </a:lnTo>
                        <a:lnTo>
                          <a:pt x="0" y="81"/>
                        </a:lnTo>
                        <a:close/>
                      </a:path>
                    </a:pathLst>
                  </a:custGeom>
                  <a:solidFill>
                    <a:srgbClr val="a04000"/>
                  </a:solidFill>
                  <a:ln w="11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90" name=""/>
                  <p:cNvGrpSpPr/>
                  <p:nvPr/>
                </p:nvGrpSpPr>
                <p:grpSpPr>
                  <a:xfrm>
                    <a:off x="6831000" y="3402000"/>
                    <a:ext cx="216000" cy="295200"/>
                    <a:chOff x="6831000" y="3402000"/>
                    <a:chExt cx="216000" cy="295200"/>
                  </a:xfrm>
                </p:grpSpPr>
                <p:grpSp>
                  <p:nvGrpSpPr>
                    <p:cNvPr id="591" name=""/>
                    <p:cNvGrpSpPr/>
                    <p:nvPr/>
                  </p:nvGrpSpPr>
                  <p:grpSpPr>
                    <a:xfrm>
                      <a:off x="6832440" y="3413160"/>
                      <a:ext cx="214560" cy="284040"/>
                      <a:chOff x="6832440" y="3413160"/>
                      <a:chExt cx="214560" cy="284040"/>
                    </a:xfrm>
                  </p:grpSpPr>
                  <p:sp>
                    <p:nvSpPr>
                      <p:cNvPr id="592" name=""/>
                      <p:cNvSpPr/>
                      <p:nvPr/>
                    </p:nvSpPr>
                    <p:spPr>
                      <a:xfrm>
                        <a:off x="6969240" y="3413160"/>
                        <a:ext cx="77760" cy="82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9" h="52">
                            <a:moveTo>
                              <a:pt x="0" y="34"/>
                            </a:moveTo>
                            <a:lnTo>
                              <a:pt x="18" y="24"/>
                            </a:lnTo>
                            <a:lnTo>
                              <a:pt x="26" y="15"/>
                            </a:lnTo>
                            <a:lnTo>
                              <a:pt x="24" y="8"/>
                            </a:lnTo>
                            <a:lnTo>
                              <a:pt x="21" y="0"/>
                            </a:lnTo>
                            <a:lnTo>
                              <a:pt x="29" y="4"/>
                            </a:lnTo>
                            <a:lnTo>
                              <a:pt x="32" y="10"/>
                            </a:lnTo>
                            <a:lnTo>
                              <a:pt x="31" y="17"/>
                            </a:lnTo>
                            <a:lnTo>
                              <a:pt x="27" y="26"/>
                            </a:lnTo>
                            <a:lnTo>
                              <a:pt x="39" y="26"/>
                            </a:lnTo>
                            <a:lnTo>
                              <a:pt x="49" y="38"/>
                            </a:lnTo>
                            <a:lnTo>
                              <a:pt x="43" y="34"/>
                            </a:lnTo>
                            <a:lnTo>
                              <a:pt x="37" y="32"/>
                            </a:lnTo>
                            <a:lnTo>
                              <a:pt x="32" y="34"/>
                            </a:lnTo>
                            <a:lnTo>
                              <a:pt x="34" y="41"/>
                            </a:lnTo>
                            <a:lnTo>
                              <a:pt x="29" y="48"/>
                            </a:lnTo>
                            <a:lnTo>
                              <a:pt x="22" y="52"/>
                            </a:lnTo>
                            <a:lnTo>
                              <a:pt x="29" y="41"/>
                            </a:lnTo>
                            <a:lnTo>
                              <a:pt x="28" y="33"/>
                            </a:lnTo>
                            <a:lnTo>
                              <a:pt x="23" y="30"/>
                            </a:lnTo>
                            <a:lnTo>
                              <a:pt x="18" y="32"/>
                            </a:lnTo>
                            <a:lnTo>
                              <a:pt x="6" y="46"/>
                            </a:lnTo>
                            <a:lnTo>
                              <a:pt x="13" y="31"/>
                            </a:lnTo>
                            <a:lnTo>
                              <a:pt x="0" y="34"/>
                            </a:lnTo>
                            <a:close/>
                          </a:path>
                        </a:pathLst>
                      </a:custGeom>
                      <a:solidFill>
                        <a:srgbClr val="604020"/>
                      </a:solidFill>
                      <a:ln w="111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5640" bIns="35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93" name=""/>
                      <p:cNvSpPr/>
                      <p:nvPr/>
                    </p:nvSpPr>
                    <p:spPr>
                      <a:xfrm>
                        <a:off x="7007400" y="3618000"/>
                        <a:ext cx="31680" cy="79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" h="50">
                            <a:moveTo>
                              <a:pt x="0" y="24"/>
                            </a:moveTo>
                            <a:lnTo>
                              <a:pt x="7" y="24"/>
                            </a:lnTo>
                            <a:lnTo>
                              <a:pt x="14" y="20"/>
                            </a:lnTo>
                            <a:lnTo>
                              <a:pt x="17" y="10"/>
                            </a:lnTo>
                            <a:lnTo>
                              <a:pt x="20" y="0"/>
                            </a:lnTo>
                            <a:lnTo>
                              <a:pt x="19" y="12"/>
                            </a:lnTo>
                            <a:lnTo>
                              <a:pt x="17" y="22"/>
                            </a:lnTo>
                            <a:lnTo>
                              <a:pt x="14" y="28"/>
                            </a:lnTo>
                            <a:lnTo>
                              <a:pt x="9" y="32"/>
                            </a:lnTo>
                            <a:lnTo>
                              <a:pt x="8" y="38"/>
                            </a:lnTo>
                            <a:lnTo>
                              <a:pt x="8" y="45"/>
                            </a:lnTo>
                            <a:lnTo>
                              <a:pt x="19" y="45"/>
                            </a:lnTo>
                            <a:lnTo>
                              <a:pt x="6" y="50"/>
                            </a:lnTo>
                            <a:lnTo>
                              <a:pt x="5" y="39"/>
                            </a:lnTo>
                            <a:lnTo>
                              <a:pt x="0" y="24"/>
                            </a:lnTo>
                            <a:close/>
                          </a:path>
                        </a:pathLst>
                      </a:custGeom>
                      <a:solidFill>
                        <a:srgbClr val="604020"/>
                      </a:solidFill>
                      <a:ln w="111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2400" bIns="32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94" name=""/>
                      <p:cNvSpPr/>
                      <p:nvPr/>
                    </p:nvSpPr>
                    <p:spPr>
                      <a:xfrm>
                        <a:off x="6832440" y="3440160"/>
                        <a:ext cx="51120" cy="4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2" h="3">
                            <a:moveTo>
                              <a:pt x="11" y="1"/>
                            </a:moveTo>
                            <a:lnTo>
                              <a:pt x="18" y="1"/>
                            </a:lnTo>
                            <a:lnTo>
                              <a:pt x="32" y="0"/>
                            </a:lnTo>
                            <a:lnTo>
                              <a:pt x="22" y="3"/>
                            </a:lnTo>
                            <a:lnTo>
                              <a:pt x="13" y="3"/>
                            </a:lnTo>
                            <a:lnTo>
                              <a:pt x="7" y="3"/>
                            </a:lnTo>
                            <a:lnTo>
                              <a:pt x="0" y="1"/>
                            </a:lnTo>
                            <a:lnTo>
                              <a:pt x="11" y="1"/>
                            </a:lnTo>
                            <a:close/>
                          </a:path>
                        </a:pathLst>
                      </a:custGeom>
                      <a:solidFill>
                        <a:srgbClr val="604020"/>
                      </a:solidFill>
                      <a:ln w="111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120" bIns="-421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595" name=""/>
                    <p:cNvSpPr/>
                    <p:nvPr/>
                  </p:nvSpPr>
                  <p:spPr>
                    <a:xfrm>
                      <a:off x="6831000" y="3402000"/>
                      <a:ext cx="31680" cy="34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22">
                          <a:moveTo>
                            <a:pt x="0" y="22"/>
                          </a:moveTo>
                          <a:lnTo>
                            <a:pt x="6" y="22"/>
                          </a:lnTo>
                          <a:lnTo>
                            <a:pt x="12" y="18"/>
                          </a:lnTo>
                          <a:lnTo>
                            <a:pt x="15" y="11"/>
                          </a:lnTo>
                          <a:lnTo>
                            <a:pt x="20" y="0"/>
                          </a:lnTo>
                          <a:lnTo>
                            <a:pt x="8" y="17"/>
                          </a:lnTo>
                          <a:lnTo>
                            <a:pt x="0" y="22"/>
                          </a:lnTo>
                          <a:close/>
                        </a:path>
                      </a:pathLst>
                    </a:custGeom>
                    <a:solidFill>
                      <a:srgbClr val="604020"/>
                    </a:solidFill>
                    <a:ln w="111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880" bIns="-11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596" name=""/>
              <p:cNvGrpSpPr/>
              <p:nvPr/>
            </p:nvGrpSpPr>
            <p:grpSpPr>
              <a:xfrm>
                <a:off x="6715080" y="3519360"/>
                <a:ext cx="198360" cy="617760"/>
                <a:chOff x="6715080" y="3519360"/>
                <a:chExt cx="198360" cy="617760"/>
              </a:xfrm>
            </p:grpSpPr>
            <p:grpSp>
              <p:nvGrpSpPr>
                <p:cNvPr id="597" name=""/>
                <p:cNvGrpSpPr/>
                <p:nvPr/>
              </p:nvGrpSpPr>
              <p:grpSpPr>
                <a:xfrm>
                  <a:off x="6715080" y="3519360"/>
                  <a:ext cx="176400" cy="238320"/>
                  <a:chOff x="6715080" y="3519360"/>
                  <a:chExt cx="176400" cy="238320"/>
                </a:xfrm>
              </p:grpSpPr>
              <p:grpSp>
                <p:nvGrpSpPr>
                  <p:cNvPr id="598" name=""/>
                  <p:cNvGrpSpPr/>
                  <p:nvPr/>
                </p:nvGrpSpPr>
                <p:grpSpPr>
                  <a:xfrm>
                    <a:off x="6715080" y="3519360"/>
                    <a:ext cx="176400" cy="33480"/>
                    <a:chOff x="6715080" y="3519360"/>
                    <a:chExt cx="176400" cy="33480"/>
                  </a:xfrm>
                </p:grpSpPr>
                <p:sp>
                  <p:nvSpPr>
                    <p:cNvPr id="599" name=""/>
                    <p:cNvSpPr/>
                    <p:nvPr/>
                  </p:nvSpPr>
                  <p:spPr>
                    <a:xfrm>
                      <a:off x="6811920" y="3519360"/>
                      <a:ext cx="79560" cy="3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0" h="21">
                          <a:moveTo>
                            <a:pt x="0" y="4"/>
                          </a:moveTo>
                          <a:lnTo>
                            <a:pt x="12" y="0"/>
                          </a:lnTo>
                          <a:lnTo>
                            <a:pt x="23" y="1"/>
                          </a:lnTo>
                          <a:lnTo>
                            <a:pt x="34" y="5"/>
                          </a:lnTo>
                          <a:lnTo>
                            <a:pt x="44" y="11"/>
                          </a:lnTo>
                          <a:lnTo>
                            <a:pt x="50" y="21"/>
                          </a:lnTo>
                        </a:path>
                      </a:pathLst>
                    </a:custGeom>
                    <a:noFill/>
                    <a:ln w="11160">
                      <a:solidFill>
                        <a:srgbClr val="60402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320" bIns="-13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00" name=""/>
                    <p:cNvSpPr/>
                    <p:nvPr/>
                  </p:nvSpPr>
                  <p:spPr>
                    <a:xfrm>
                      <a:off x="6715080" y="3519360"/>
                      <a:ext cx="63720" cy="2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" h="15">
                          <a:moveTo>
                            <a:pt x="0" y="15"/>
                          </a:moveTo>
                          <a:lnTo>
                            <a:pt x="7" y="7"/>
                          </a:lnTo>
                          <a:lnTo>
                            <a:pt x="17" y="3"/>
                          </a:lnTo>
                          <a:lnTo>
                            <a:pt x="29" y="0"/>
                          </a:lnTo>
                          <a:lnTo>
                            <a:pt x="40" y="2"/>
                          </a:lnTo>
                        </a:path>
                      </a:pathLst>
                    </a:custGeom>
                    <a:noFill/>
                    <a:ln w="11160">
                      <a:solidFill>
                        <a:srgbClr val="60402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2680" bIns="-22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01" name=""/>
                  <p:cNvGrpSpPr/>
                  <p:nvPr/>
                </p:nvGrpSpPr>
                <p:grpSpPr>
                  <a:xfrm>
                    <a:off x="6718320" y="3546360"/>
                    <a:ext cx="160200" cy="211320"/>
                    <a:chOff x="6718320" y="3546360"/>
                    <a:chExt cx="160200" cy="211320"/>
                  </a:xfrm>
                </p:grpSpPr>
                <p:sp>
                  <p:nvSpPr>
                    <p:cNvPr id="602" name=""/>
                    <p:cNvSpPr/>
                    <p:nvPr/>
                  </p:nvSpPr>
                  <p:spPr>
                    <a:xfrm>
                      <a:off x="6718320" y="3546360"/>
                      <a:ext cx="58680" cy="2113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03" name=""/>
                    <p:cNvSpPr/>
                    <p:nvPr/>
                  </p:nvSpPr>
                  <p:spPr>
                    <a:xfrm>
                      <a:off x="6819840" y="3546360"/>
                      <a:ext cx="58680" cy="2113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604" name=""/>
                <p:cNvGrpSpPr/>
                <p:nvPr/>
              </p:nvGrpSpPr>
              <p:grpSpPr>
                <a:xfrm>
                  <a:off x="6729480" y="3917880"/>
                  <a:ext cx="183960" cy="219240"/>
                  <a:chOff x="6729480" y="3917880"/>
                  <a:chExt cx="183960" cy="219240"/>
                </a:xfrm>
              </p:grpSpPr>
              <p:sp>
                <p:nvSpPr>
                  <p:cNvPr id="605" name=""/>
                  <p:cNvSpPr/>
                  <p:nvPr/>
                </p:nvSpPr>
                <p:spPr>
                  <a:xfrm>
                    <a:off x="6867360" y="3917880"/>
                    <a:ext cx="46080" cy="21924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138">
                        <a:moveTo>
                          <a:pt x="22" y="0"/>
                        </a:moveTo>
                        <a:lnTo>
                          <a:pt x="15" y="12"/>
                        </a:lnTo>
                        <a:lnTo>
                          <a:pt x="6" y="32"/>
                        </a:lnTo>
                        <a:lnTo>
                          <a:pt x="2" y="50"/>
                        </a:lnTo>
                        <a:lnTo>
                          <a:pt x="0" y="74"/>
                        </a:lnTo>
                        <a:lnTo>
                          <a:pt x="1" y="96"/>
                        </a:lnTo>
                        <a:lnTo>
                          <a:pt x="9" y="111"/>
                        </a:lnTo>
                        <a:lnTo>
                          <a:pt x="18" y="125"/>
                        </a:lnTo>
                        <a:lnTo>
                          <a:pt x="29" y="138"/>
                        </a:lnTo>
                      </a:path>
                    </a:pathLst>
                  </a:custGeom>
                  <a:noFill/>
                  <a:ln w="11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6" name=""/>
                  <p:cNvSpPr/>
                  <p:nvPr/>
                </p:nvSpPr>
                <p:spPr>
                  <a:xfrm>
                    <a:off x="6729480" y="3997440"/>
                    <a:ext cx="14616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92" h="59">
                        <a:moveTo>
                          <a:pt x="0" y="3"/>
                        </a:moveTo>
                        <a:lnTo>
                          <a:pt x="11" y="31"/>
                        </a:lnTo>
                        <a:lnTo>
                          <a:pt x="9" y="59"/>
                        </a:lnTo>
                        <a:lnTo>
                          <a:pt x="34" y="52"/>
                        </a:lnTo>
                        <a:lnTo>
                          <a:pt x="47" y="49"/>
                        </a:lnTo>
                        <a:lnTo>
                          <a:pt x="64" y="51"/>
                        </a:lnTo>
                        <a:lnTo>
                          <a:pt x="92" y="57"/>
                        </a:lnTo>
                        <a:lnTo>
                          <a:pt x="86" y="43"/>
                        </a:lnTo>
                        <a:lnTo>
                          <a:pt x="86" y="27"/>
                        </a:lnTo>
                        <a:lnTo>
                          <a:pt x="87" y="12"/>
                        </a:lnTo>
                        <a:lnTo>
                          <a:pt x="88" y="0"/>
                        </a:lnTo>
                        <a:lnTo>
                          <a:pt x="73" y="7"/>
                        </a:lnTo>
                        <a:lnTo>
                          <a:pt x="56" y="12"/>
                        </a:lnTo>
                        <a:lnTo>
                          <a:pt x="39" y="13"/>
                        </a:lnTo>
                        <a:lnTo>
                          <a:pt x="22" y="10"/>
                        </a:lnTo>
                        <a:lnTo>
                          <a:pt x="0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11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</p:spTree>
  </p:cSld>
  <p:transition>
    <p:blinds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Verdana"/>
                <a:ea typeface="SimSun"/>
              </a:rPr>
              <a:t>电话的跟进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SimSun"/>
              </a:rPr>
              <a:t>对客户的跟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SimSun"/>
              </a:rPr>
              <a:t>对自己的跟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9" name="ICT025" descr=""/>
          <p:cNvPicPr/>
          <p:nvPr/>
        </p:nvPicPr>
        <p:blipFill>
          <a:blip r:embed="rId2"/>
          <a:stretch/>
        </p:blipFill>
        <p:spPr>
          <a:xfrm>
            <a:off x="6245280" y="3276720"/>
            <a:ext cx="289872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"/>
          <p:cNvSpPr/>
          <p:nvPr/>
        </p:nvSpPr>
        <p:spPr>
          <a:xfrm>
            <a:off x="1182960" y="609480"/>
            <a:ext cx="217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Verdana"/>
                <a:ea typeface="SimSun"/>
              </a:rPr>
              <a:t>电话的跟进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360440" y="1920960"/>
            <a:ext cx="161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SimSun"/>
              </a:rPr>
              <a:t>换位思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508040" y="2790720"/>
            <a:ext cx="6112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Verdana"/>
                <a:ea typeface="华文新魏"/>
              </a:rPr>
              <a:t>站在客户的立场考虑问题，将心比心</a:t>
            </a:r>
            <a:r>
              <a:rPr b="0" lang="zh-CN" sz="2400" spc="-1" strike="noStrike">
                <a:solidFill>
                  <a:srgbClr val="9933ff"/>
                </a:solidFill>
                <a:latin typeface="Verdana"/>
                <a:ea typeface="SimSu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SimSun"/>
                <a:ea typeface="SimSun"/>
              </a:rPr>
              <a:t>目的</a:t>
            </a:r>
            <a:r>
              <a:rPr b="1" lang="zh-TW" sz="2800" spc="-1" strike="noStrike">
                <a:solidFill>
                  <a:srgbClr val="ff0000"/>
                </a:solidFill>
                <a:latin typeface="Verdana"/>
              </a:rPr>
              <a:t>：建立客户信心，让他觉得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SimSun"/>
              </a:rPr>
              <a:t>我们公司</a:t>
            </a:r>
            <a:r>
              <a:rPr b="1" lang="zh-CN" sz="2800" spc="-1" strike="noStrike">
                <a:solidFill>
                  <a:srgbClr val="ff0000"/>
                </a:solidFill>
                <a:latin typeface="SimSun"/>
                <a:ea typeface="SimSun"/>
              </a:rPr>
              <a:t>是以客户为中心</a:t>
            </a:r>
            <a:r>
              <a:rPr b="0" lang="zh-TW" sz="2400" spc="-1" strike="noStrike">
                <a:solidFill>
                  <a:srgbClr val="3333cc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533520" y="441972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华文新魏"/>
                <a:ea typeface="华文新魏"/>
              </a:rPr>
              <a:t>您好，我是</a:t>
            </a:r>
            <a:r>
              <a:rPr b="1" lang="zh-CN" sz="2800" spc="-1" strike="noStrike">
                <a:solidFill>
                  <a:srgbClr val="9933ff"/>
                </a:solidFill>
                <a:latin typeface="Verdana"/>
                <a:ea typeface="华文新魏"/>
              </a:rPr>
              <a:t>× ×</a:t>
            </a:r>
            <a:r>
              <a:rPr b="1" lang="zh-CN" sz="2800" spc="-1" strike="noStrike">
                <a:solidFill>
                  <a:srgbClr val="9933ff"/>
                </a:solidFill>
                <a:latin typeface="Verdana"/>
                <a:ea typeface="华文新魏"/>
              </a:rPr>
              <a:t>公司</a:t>
            </a:r>
            <a:r>
              <a:rPr b="1" lang="zh-CN" sz="2800" spc="-1" strike="noStrike">
                <a:solidFill>
                  <a:srgbClr val="9933ff"/>
                </a:solidFill>
                <a:latin typeface="华文新魏"/>
                <a:ea typeface="华文新魏"/>
              </a:rPr>
              <a:t>的某某。请问是张总吗？明天下午</a:t>
            </a:r>
            <a:r>
              <a:rPr b="1" lang="zh-CN" sz="2800" spc="-1" strike="noStrike">
                <a:solidFill>
                  <a:srgbClr val="9933ff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9933ff"/>
                </a:solidFill>
                <a:latin typeface="华文新魏"/>
                <a:ea typeface="华文新魏"/>
              </a:rPr>
              <a:t>点钟我们公司有一堂“电子商务—降低企业成本”培训，</a:t>
            </a:r>
            <a:r>
              <a:rPr b="1" lang="zh-CN" sz="2800" spc="-1" strike="noStrike">
                <a:solidFill>
                  <a:srgbClr val="9933ff"/>
                </a:solidFill>
                <a:latin typeface="SimSun"/>
                <a:ea typeface="SimSun"/>
              </a:rPr>
              <a:t>很多企业已报了名，很希望您能过来参加，我现在帮您预定位置好</a:t>
            </a:r>
            <a:r>
              <a:rPr b="1" lang="zh-CN" sz="2800" spc="-1" strike="noStrike">
                <a:solidFill>
                  <a:srgbClr val="9933ff"/>
                </a:solidFill>
                <a:latin typeface="华文新魏"/>
                <a:ea typeface="华文新魏"/>
              </a:rPr>
              <a:t>吗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"/>
          <p:cNvSpPr/>
          <p:nvPr/>
        </p:nvSpPr>
        <p:spPr>
          <a:xfrm>
            <a:off x="1182960" y="609480"/>
            <a:ext cx="217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Verdana"/>
                <a:ea typeface="SimSun"/>
              </a:rPr>
              <a:t>电话的跟进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1456560" y="1920960"/>
            <a:ext cx="187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SimSun"/>
              </a:rPr>
              <a:t>简单化处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508040" y="2790720"/>
            <a:ext cx="6112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Verdana"/>
                <a:ea typeface="华文新魏"/>
              </a:rPr>
              <a:t>拉近与客户的关系，不一定每次通话都要谈业务</a:t>
            </a:r>
            <a:r>
              <a:rPr b="1" lang="zh-CN" sz="2400" spc="-1" strike="noStrike">
                <a:solidFill>
                  <a:srgbClr val="9933ff"/>
                </a:solidFill>
                <a:latin typeface="Verdana"/>
                <a:ea typeface="SimSu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SimSun"/>
                <a:ea typeface="SimSun"/>
              </a:rPr>
              <a:t>目的</a:t>
            </a:r>
            <a:r>
              <a:rPr b="1" lang="zh-TW" sz="2800" spc="-1" strike="noStrike">
                <a:solidFill>
                  <a:srgbClr val="ff0000"/>
                </a:solidFill>
                <a:latin typeface="Verdana"/>
              </a:rPr>
              <a:t>：</a:t>
            </a:r>
            <a:r>
              <a:rPr b="1" lang="zh-CN" sz="2800" spc="-1" strike="noStrike">
                <a:solidFill>
                  <a:srgbClr val="ff0000"/>
                </a:solidFill>
                <a:latin typeface="SimSun"/>
                <a:ea typeface="SimSun"/>
              </a:rPr>
              <a:t>让客户感觉我们是关心企业而非单单的找好处</a:t>
            </a:r>
            <a:r>
              <a:rPr b="1" lang="zh-TW" sz="2800" spc="-1" strike="noStrike">
                <a:solidFill>
                  <a:srgbClr val="3333cc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ISN252" descr=""/>
          <p:cNvPicPr/>
          <p:nvPr/>
        </p:nvPicPr>
        <p:blipFill>
          <a:blip r:embed="rId2"/>
          <a:stretch/>
        </p:blipFill>
        <p:spPr>
          <a:xfrm>
            <a:off x="5562720" y="3886200"/>
            <a:ext cx="281916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"/>
          <p:cNvSpPr/>
          <p:nvPr/>
        </p:nvSpPr>
        <p:spPr>
          <a:xfrm>
            <a:off x="1182960" y="609480"/>
            <a:ext cx="217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Verdana"/>
                <a:ea typeface="SimSun"/>
              </a:rPr>
              <a:t>电话的跟进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1762920" y="1919160"/>
            <a:ext cx="279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SimSun"/>
                <a:ea typeface="SimSun"/>
              </a:rPr>
              <a:t>寻找客户拜访理由</a:t>
            </a:r>
            <a:r>
              <a:rPr b="1" lang="zh-TW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0" name="BS01316_" descr=""/>
          <p:cNvPicPr/>
          <p:nvPr/>
        </p:nvPicPr>
        <p:blipFill>
          <a:blip r:embed="rId2"/>
          <a:stretch/>
        </p:blipFill>
        <p:spPr>
          <a:xfrm>
            <a:off x="6095880" y="4395960"/>
            <a:ext cx="3048120" cy="2462040"/>
          </a:xfrm>
          <a:prstGeom prst="rect">
            <a:avLst/>
          </a:prstGeom>
          <a:ln w="0">
            <a:noFill/>
          </a:ln>
        </p:spPr>
      </p:pic>
      <p:sp>
        <p:nvSpPr>
          <p:cNvPr id="621" name=""/>
          <p:cNvSpPr/>
          <p:nvPr/>
        </p:nvSpPr>
        <p:spPr>
          <a:xfrm>
            <a:off x="1295280" y="274320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华文新魏"/>
                <a:ea typeface="华文新魏"/>
              </a:rPr>
              <a:t>您好，我是</a:t>
            </a:r>
            <a:r>
              <a:rPr b="1" lang="zh-CN" sz="2800" spc="-1" strike="noStrike">
                <a:solidFill>
                  <a:srgbClr val="9933ff"/>
                </a:solidFill>
                <a:latin typeface="Verdana"/>
                <a:ea typeface="华文新魏"/>
              </a:rPr>
              <a:t>× ×</a:t>
            </a:r>
            <a:r>
              <a:rPr b="1" lang="zh-CN" sz="2800" spc="-1" strike="noStrike">
                <a:solidFill>
                  <a:srgbClr val="9933ff"/>
                </a:solidFill>
                <a:latin typeface="Verdana"/>
                <a:ea typeface="华文新魏"/>
              </a:rPr>
              <a:t>公司</a:t>
            </a:r>
            <a:r>
              <a:rPr b="1" lang="zh-CN" sz="2800" spc="-1" strike="noStrike">
                <a:solidFill>
                  <a:srgbClr val="9933ff"/>
                </a:solidFill>
                <a:latin typeface="华文新魏"/>
                <a:ea typeface="华文新魏"/>
              </a:rPr>
              <a:t>。请问你们经理在吗？</a:t>
            </a:r>
            <a:r>
              <a:rPr b="1" lang="zh-CN" sz="2800" spc="-1" strike="noStrike">
                <a:solidFill>
                  <a:srgbClr val="9933ff"/>
                </a:solidFill>
                <a:latin typeface="SimSun"/>
                <a:ea typeface="SimSun"/>
              </a:rPr>
              <a:t>您曾经要求我给您一份电子商务和网站建设的资料，正好我明天下午在贵公司附近办事，我顺道把资料送过去并同时拜访您，您说下午三点还是五点比较方便？</a:t>
            </a:r>
            <a:r>
              <a:rPr b="1" lang="zh-TW" sz="2800" spc="-1" strike="noStrike">
                <a:solidFill>
                  <a:srgbClr val="9933ff"/>
                </a:solidFill>
                <a:latin typeface="华文新魏"/>
                <a:ea typeface="华文新魏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"/>
          <p:cNvSpPr/>
          <p:nvPr/>
        </p:nvSpPr>
        <p:spPr>
          <a:xfrm>
            <a:off x="1182960" y="609480"/>
            <a:ext cx="217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Verdana"/>
                <a:ea typeface="SimSun"/>
              </a:rPr>
              <a:t>电话的跟进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3" name=""/>
          <p:cNvGraphicFramePr/>
          <p:nvPr/>
        </p:nvGraphicFramePr>
        <p:xfrm>
          <a:off x="685800" y="1752480"/>
          <a:ext cx="7543800" cy="439236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067040"/>
                <a:gridCol w="990360"/>
                <a:gridCol w="990720"/>
                <a:gridCol w="914400"/>
              </a:tblGrid>
              <a:tr h="98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日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拨打电话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实际完成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约见次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推荐次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销售笔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销售金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周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周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周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周四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周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总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/>
          </p:nvPr>
        </p:nvSpPr>
        <p:spPr>
          <a:xfrm>
            <a:off x="838080" y="2285640"/>
            <a:ext cx="38102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SimSun"/>
                <a:ea typeface="SimSun"/>
              </a:rPr>
              <a:t>多谢各位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SimSun"/>
                <a:ea typeface="SimSun"/>
              </a:rPr>
              <a:t>积极参与 </a:t>
            </a:r>
            <a:r>
              <a:rPr b="1" lang="zh-TW" sz="5400" spc="-1" strike="noStrike">
                <a:solidFill>
                  <a:srgbClr val="ff0000"/>
                </a:solidFill>
                <a:latin typeface="Comic Sans MS"/>
              </a:rPr>
              <a:t>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5" name="" descr=""/>
          <p:cNvPicPr/>
          <p:nvPr/>
        </p:nvPicPr>
        <p:blipFill>
          <a:blip r:embed="rId2"/>
          <a:stretch/>
        </p:blipFill>
        <p:spPr>
          <a:xfrm>
            <a:off x="4343400" y="1905120"/>
            <a:ext cx="3809880" cy="37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SimSun"/>
                <a:ea typeface="SimSun"/>
              </a:rPr>
              <a:t>课程内容</a:t>
            </a:r>
            <a:r>
              <a:rPr b="1" lang="zh-TW" sz="4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100000"/>
              </a:lnSpc>
              <a:spcBef>
                <a:spcPts val="901"/>
              </a:spcBef>
              <a:buClr>
                <a:srgbClr val="996633"/>
              </a:buClr>
              <a:buSzPct val="90000"/>
              <a:buFont typeface="Webdings" charset="2"/>
              <a:buChar char=""/>
              <a:tabLst>
                <a:tab algn="l" pos="57168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0000"/>
                </a:solidFill>
                <a:latin typeface="SimSun"/>
                <a:ea typeface="SimSun"/>
              </a:rPr>
              <a:t>有效电话流程</a:t>
            </a:r>
            <a:r>
              <a:rPr b="1" i="1" lang="zh-TW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85760" indent="-399960">
              <a:lnSpc>
                <a:spcPct val="100000"/>
              </a:lnSpc>
              <a:spcBef>
                <a:spcPts val="751"/>
              </a:spcBef>
              <a:buClr>
                <a:srgbClr val="496e00"/>
              </a:buClr>
              <a:buSzPct val="90000"/>
              <a:buFont typeface="Webdings" charset="2"/>
              <a:buChar char=""/>
              <a:tabLst>
                <a:tab algn="l" pos="57168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SimSun"/>
                <a:ea typeface="SimSun"/>
              </a:rPr>
              <a:t>AIDA</a:t>
            </a:r>
            <a:r>
              <a:rPr b="1" i="1" lang="zh-CN" sz="3000" spc="-1" strike="noStrike">
                <a:solidFill>
                  <a:srgbClr val="000000"/>
                </a:solidFill>
                <a:latin typeface="SimSun"/>
                <a:ea typeface="SimSun"/>
              </a:rPr>
              <a:t>销售技巧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85760" indent="-399960">
              <a:lnSpc>
                <a:spcPct val="100000"/>
              </a:lnSpc>
              <a:spcBef>
                <a:spcPts val="751"/>
              </a:spcBef>
              <a:buClr>
                <a:srgbClr val="496e00"/>
              </a:buClr>
              <a:buSzPct val="90000"/>
              <a:buFont typeface="Webdings" charset="2"/>
              <a:buChar char=""/>
              <a:tabLst>
                <a:tab algn="l" pos="57168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000" spc="-1" strike="noStrike">
                <a:solidFill>
                  <a:srgbClr val="000000"/>
                </a:solidFill>
                <a:latin typeface="SimSun"/>
                <a:ea typeface="SimSun"/>
              </a:rPr>
              <a:t>怎样开始第一句话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85760" indent="-399960">
              <a:lnSpc>
                <a:spcPct val="100000"/>
              </a:lnSpc>
              <a:spcBef>
                <a:spcPts val="751"/>
              </a:spcBef>
              <a:buClr>
                <a:srgbClr val="496e00"/>
              </a:buClr>
              <a:buSzPct val="90000"/>
              <a:buFont typeface="Webdings" charset="2"/>
              <a:buChar char=""/>
              <a:tabLst>
                <a:tab algn="l" pos="57168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SimSun"/>
                <a:ea typeface="SimSun"/>
              </a:rPr>
              <a:t>LSCPA</a:t>
            </a:r>
            <a:r>
              <a:rPr b="1" i="1" lang="zh-CN" sz="3000" spc="-1" strike="noStrike">
                <a:solidFill>
                  <a:srgbClr val="000000"/>
                </a:solidFill>
                <a:latin typeface="SimSun"/>
                <a:ea typeface="Times New Roman"/>
              </a:rPr>
              <a:t>异议处理技巧</a:t>
            </a:r>
            <a:r>
              <a:rPr b="1" i="1" lang="zh-TW" sz="3000" spc="-1" strike="noStrike">
                <a:solidFill>
                  <a:srgbClr val="000000"/>
                </a:solidFill>
                <a:latin typeface="SimSun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85760" indent="-399960">
              <a:lnSpc>
                <a:spcPct val="100000"/>
              </a:lnSpc>
              <a:spcBef>
                <a:spcPts val="751"/>
              </a:spcBef>
              <a:buClr>
                <a:srgbClr val="496e00"/>
              </a:buClr>
              <a:buSzPct val="90000"/>
              <a:buFont typeface="Webdings" charset="2"/>
              <a:buChar char=""/>
              <a:tabLst>
                <a:tab algn="l" pos="57168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000" spc="-1" strike="noStrike">
                <a:solidFill>
                  <a:srgbClr val="000000"/>
                </a:solidFill>
                <a:latin typeface="SimSun"/>
                <a:ea typeface="SimSun"/>
              </a:rPr>
              <a:t>怎样完结一个电话对话</a:t>
            </a:r>
            <a:r>
              <a:rPr b="1" i="1" lang="zh-TW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00000"/>
              </a:lnSpc>
              <a:spcBef>
                <a:spcPts val="825"/>
              </a:spcBef>
              <a:buClr>
                <a:srgbClr val="996633"/>
              </a:buClr>
              <a:buSzPct val="90000"/>
              <a:buFont typeface="Webdings" charset="2"/>
              <a:buChar char=""/>
              <a:tabLst>
                <a:tab algn="l" pos="57168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300" spc="-1" strike="noStrike">
                <a:solidFill>
                  <a:srgbClr val="000000"/>
                </a:solidFill>
                <a:latin typeface="SimSun"/>
                <a:ea typeface="SimSun"/>
              </a:rPr>
              <a:t>客户跟进</a:t>
            </a:r>
            <a:r>
              <a:rPr b="1" i="1" lang="zh-TW" sz="3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00000"/>
              </a:lnSpc>
              <a:spcBef>
                <a:spcPts val="825"/>
              </a:spcBef>
              <a:buClr>
                <a:srgbClr val="996633"/>
              </a:buClr>
              <a:buSzPct val="90000"/>
              <a:buFont typeface="Webdings" charset="2"/>
              <a:buChar char=""/>
              <a:tabLst>
                <a:tab algn="l" pos="57168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300" spc="-1" strike="noStrike">
                <a:solidFill>
                  <a:srgbClr val="000000"/>
                </a:solidFill>
                <a:latin typeface="SimSun"/>
                <a:ea typeface="SimSun"/>
              </a:rPr>
              <a:t>角色扮演</a:t>
            </a:r>
            <a:r>
              <a:rPr b="1" i="1" lang="zh-TW" sz="3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ISN053" descr=""/>
          <p:cNvPicPr/>
          <p:nvPr/>
        </p:nvPicPr>
        <p:blipFill>
          <a:blip r:embed="rId2"/>
          <a:stretch/>
        </p:blipFill>
        <p:spPr>
          <a:xfrm>
            <a:off x="6172200" y="1523880"/>
            <a:ext cx="2336760" cy="48769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577320" y="4952880"/>
            <a:ext cx="4215600" cy="1219320"/>
            <a:chOff x="3577320" y="4952880"/>
            <a:chExt cx="4215600" cy="1219320"/>
          </a:xfrm>
        </p:grpSpPr>
        <p:sp>
          <p:nvSpPr>
            <p:cNvPr id="51" name=""/>
            <p:cNvSpPr/>
            <p:nvPr/>
          </p:nvSpPr>
          <p:spPr>
            <a:xfrm flipV="1" rot="10771200">
              <a:off x="3580920" y="5257800"/>
              <a:ext cx="2300040" cy="888480"/>
            </a:xfrm>
            <a:custGeom>
              <a:avLst/>
              <a:gdLst>
                <a:gd name="textAreaLeft" fmla="*/ 436320 w 2300040"/>
                <a:gd name="textAreaRight" fmla="*/ 1536120 w 2300040"/>
                <a:gd name="textAreaTop" fmla="*/ 118800 h 888480"/>
                <a:gd name="textAreaBottom" fmla="*/ 769680 h 888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8197" hR="21600" stAng="10800000" swAng="-5400000"/>
                  <a:lnTo>
                    <a:pt x="10329" y="21600"/>
                  </a:lnTo>
                  <a:arcTo wR="8197" hR="21600" stAng="5400000" swAng="-2616683"/>
                  <a:lnTo>
                    <a:pt x="21018" y="7993"/>
                  </a:lnTo>
                  <a:lnTo>
                    <a:pt x="17459" y="0"/>
                  </a:lnTo>
                  <a:lnTo>
                    <a:pt x="12736" y="7993"/>
                  </a:lnTo>
                  <a:lnTo>
                    <a:pt x="15811" y="7993"/>
                  </a:lnTo>
                  <a:arcTo wR="8197" hR="21600" stAng="2783317" swAng="2445711"/>
                  <a:lnTo>
                    <a:pt x="9263" y="21417"/>
                  </a:lnTo>
                  <a:arcTo wR="8197" hR="21600" stAng="5570971" swAng="5229029"/>
                  <a:close/>
                </a:path>
                <a:path fill="darkenLess" w="21600" h="21600">
                  <a:moveTo>
                    <a:pt x="0" y="0"/>
                  </a:moveTo>
                  <a:arcTo wR="8197" hR="21600" stAng="10800000" swAng="-5400000"/>
                  <a:lnTo>
                    <a:pt x="10329" y="21600"/>
                  </a:lnTo>
                  <a:arcTo wR="8197" hR="21600" stAng="5400000" swAng="170971"/>
                  <a:lnTo>
                    <a:pt x="9263" y="21417"/>
                  </a:lnTo>
                  <a:arcTo wR="8197" hR="21600" stAng="5570971" swAng="5229029"/>
                  <a:close/>
                </a:path>
              </a:pathLst>
            </a:cu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647960" y="4952880"/>
              <a:ext cx="3144960" cy="12193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ccff"/>
                </a:gs>
                <a:gs pos="50000">
                  <a:srgbClr val="fefefe"/>
                </a:gs>
                <a:gs pos="100000">
                  <a:srgbClr val="ccccff"/>
                </a:gs>
              </a:gsLst>
              <a:lin ang="13500000"/>
            </a:gradFill>
            <a:ln w="0">
              <a:noFill/>
            </a:ln>
            <a:effectLst>
              <a:outerShdw dist="153753" dir="2700000" blurRad="0" rotWithShape="0">
                <a:srgbClr val="79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300" spc="-1" strike="noStrike">
                  <a:solidFill>
                    <a:srgbClr val="3333cc"/>
                  </a:solidFill>
                  <a:latin typeface="SimSun"/>
                  <a:ea typeface="SimSun"/>
                </a:rPr>
                <a:t>销售面谈</a:t>
              </a:r>
              <a:r>
                <a:rPr b="1" lang="zh-TW" sz="23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3333cc"/>
                  </a:solidFill>
                  <a:latin typeface="Times New Roman"/>
                </a:rPr>
                <a:t>(</a:t>
              </a:r>
              <a:r>
                <a:rPr b="1" lang="zh-CN" sz="2000" spc="-1" strike="noStrike">
                  <a:solidFill>
                    <a:srgbClr val="3333cc"/>
                  </a:solidFill>
                  <a:latin typeface="SimSun"/>
                  <a:ea typeface="SimSun"/>
                </a:rPr>
                <a:t>通过公司提供的产品及服务来满足客户需求</a:t>
              </a:r>
              <a:r>
                <a:rPr b="1" lang="zh-TW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zh-TW" sz="2000" spc="-1" strike="noStrike">
                  <a:solidFill>
                    <a:srgbClr val="3333cc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304920" y="5715000"/>
            <a:ext cx="3124080" cy="898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ccff"/>
              </a:gs>
              <a:gs pos="50000">
                <a:srgbClr val="fefefe"/>
              </a:gs>
              <a:gs pos="100000">
                <a:srgbClr val="ccccff"/>
              </a:gs>
            </a:gsLst>
            <a:lin ang="13500000"/>
          </a:gradFill>
          <a:ln w="0">
            <a:noFill/>
          </a:ln>
          <a:effectLst>
            <a:outerShdw dist="153753" dir="2700000" blurRad="0" rotWithShape="0">
              <a:srgbClr val="79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3333cc"/>
                </a:solidFill>
                <a:latin typeface="SimSun"/>
                <a:ea typeface="SimSun"/>
              </a:rPr>
              <a:t>异议处理</a:t>
            </a:r>
            <a:r>
              <a:rPr b="1" lang="zh-TW" sz="23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lang="zh-CN" sz="2000" spc="-1" strike="noStrike">
                <a:solidFill>
                  <a:srgbClr val="3333cc"/>
                </a:solidFill>
                <a:latin typeface="SimSun"/>
                <a:ea typeface="SimSun"/>
              </a:rPr>
              <a:t>将异议变为机会</a:t>
            </a:r>
            <a:r>
              <a:rPr b="1" lang="zh-TW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zh-TW" sz="20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1050840" y="4138920"/>
            <a:ext cx="3538800" cy="1703160"/>
            <a:chOff x="1050840" y="4138920"/>
            <a:chExt cx="3538800" cy="1703160"/>
          </a:xfrm>
        </p:grpSpPr>
        <p:sp>
          <p:nvSpPr>
            <p:cNvPr id="55" name=""/>
            <p:cNvSpPr/>
            <p:nvPr/>
          </p:nvSpPr>
          <p:spPr>
            <a:xfrm>
              <a:off x="2362320" y="4724280"/>
              <a:ext cx="2227320" cy="470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ccff"/>
                </a:gs>
                <a:gs pos="50000">
                  <a:srgbClr val="fefefe"/>
                </a:gs>
                <a:gs pos="100000">
                  <a:srgbClr val="ccccff"/>
                </a:gs>
              </a:gsLst>
              <a:lin ang="13500000"/>
            </a:gradFill>
            <a:ln w="0">
              <a:noFill/>
            </a:ln>
            <a:effectLst>
              <a:outerShdw dist="153753" dir="2700000" blurRad="0" rotWithShape="0">
                <a:srgbClr val="79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300" spc="-1" strike="noStrike">
                  <a:solidFill>
                    <a:srgbClr val="3333cc"/>
                  </a:solidFill>
                  <a:latin typeface="SimSun"/>
                  <a:ea typeface="SimSun"/>
                </a:rPr>
                <a:t>完美成交</a:t>
              </a:r>
              <a:r>
                <a:rPr b="1" lang="zh-TW" sz="23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 rot="12942600">
              <a:off x="1065960" y="4647240"/>
              <a:ext cx="1963800" cy="685800"/>
            </a:xfrm>
            <a:custGeom>
              <a:avLst/>
              <a:gdLst>
                <a:gd name="textAreaLeft" fmla="*/ 372600 w 1963800"/>
                <a:gd name="textAreaRight" fmla="*/ 1311840 w 1963800"/>
                <a:gd name="textAreaTop" fmla="*/ 91800 h 685800"/>
                <a:gd name="textAreaBottom" fmla="*/ 59400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8197" hR="21600" stAng="10800000" swAng="-5400000"/>
                  <a:lnTo>
                    <a:pt x="10329" y="21600"/>
                  </a:lnTo>
                  <a:arcTo wR="8197" hR="21600" stAng="5400000" swAng="-2616683"/>
                  <a:lnTo>
                    <a:pt x="21018" y="7993"/>
                  </a:lnTo>
                  <a:lnTo>
                    <a:pt x="17459" y="0"/>
                  </a:lnTo>
                  <a:lnTo>
                    <a:pt x="12736" y="7993"/>
                  </a:lnTo>
                  <a:lnTo>
                    <a:pt x="15811" y="7993"/>
                  </a:lnTo>
                  <a:arcTo wR="8197" hR="21600" stAng="2783317" swAng="2445711"/>
                  <a:lnTo>
                    <a:pt x="9263" y="21417"/>
                  </a:lnTo>
                  <a:arcTo wR="8197" hR="21600" stAng="5570971" swAng="5229029"/>
                  <a:close/>
                </a:path>
                <a:path fill="darkenLess" w="21600" h="21600">
                  <a:moveTo>
                    <a:pt x="0" y="0"/>
                  </a:moveTo>
                  <a:arcTo wR="8197" hR="21600" stAng="10800000" swAng="-5400000"/>
                  <a:lnTo>
                    <a:pt x="10329" y="21600"/>
                  </a:lnTo>
                  <a:arcTo wR="8197" hR="21600" stAng="5400000" swAng="170971"/>
                  <a:lnTo>
                    <a:pt x="9263" y="21417"/>
                  </a:lnTo>
                  <a:arcTo wR="8197" hR="21600" stAng="5570971" swAng="5229029"/>
                  <a:close/>
                </a:path>
              </a:pathLst>
            </a:cu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503160" y="304920"/>
            <a:ext cx="1854720" cy="1026720"/>
          </a:xfrm>
          <a:prstGeom prst="roundRect">
            <a:avLst>
              <a:gd name="adj" fmla="val 33569"/>
            </a:avLst>
          </a:prstGeom>
          <a:gradFill rotWithShape="0">
            <a:gsLst>
              <a:gs pos="0">
                <a:srgbClr val="ccccff"/>
              </a:gs>
              <a:gs pos="50000">
                <a:srgbClr val="fefefe"/>
              </a:gs>
              <a:gs pos="100000">
                <a:srgbClr val="ccccff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79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939"/>
                </a:solidFill>
                <a:latin typeface="SimSun"/>
                <a:ea typeface="SimSun"/>
              </a:rPr>
              <a:t>销售循环</a:t>
            </a:r>
            <a:r>
              <a:rPr b="1" lang="zh-TW" sz="4800" spc="-1" strike="noStrike">
                <a:solidFill>
                  <a:srgbClr val="ff3939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5334120" y="3048120"/>
            <a:ext cx="3339360" cy="2526840"/>
            <a:chOff x="5334120" y="3048120"/>
            <a:chExt cx="3339360" cy="2526840"/>
          </a:xfrm>
        </p:grpSpPr>
        <p:sp>
          <p:nvSpPr>
            <p:cNvPr id="59" name=""/>
            <p:cNvSpPr/>
            <p:nvPr/>
          </p:nvSpPr>
          <p:spPr>
            <a:xfrm flipV="1" rot="5831400">
              <a:off x="7380000" y="4354200"/>
              <a:ext cx="1731600" cy="642960"/>
            </a:xfrm>
            <a:custGeom>
              <a:avLst/>
              <a:gdLst>
                <a:gd name="textAreaLeft" fmla="*/ 328320 w 1731600"/>
                <a:gd name="textAreaRight" fmla="*/ 1156680 w 1731600"/>
                <a:gd name="textAreaTop" fmla="*/ 86040 h 642960"/>
                <a:gd name="textAreaBottom" fmla="*/ 556920 h 642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8197" hR="21600" stAng="10800000" swAng="-5400000"/>
                  <a:lnTo>
                    <a:pt x="10329" y="21600"/>
                  </a:lnTo>
                  <a:arcTo wR="8197" hR="21600" stAng="5400000" swAng="-2616683"/>
                  <a:lnTo>
                    <a:pt x="21018" y="7993"/>
                  </a:lnTo>
                  <a:lnTo>
                    <a:pt x="17459" y="0"/>
                  </a:lnTo>
                  <a:lnTo>
                    <a:pt x="12736" y="7993"/>
                  </a:lnTo>
                  <a:lnTo>
                    <a:pt x="15811" y="7993"/>
                  </a:lnTo>
                  <a:arcTo wR="8197" hR="21600" stAng="2783317" swAng="2445711"/>
                  <a:lnTo>
                    <a:pt x="9263" y="21417"/>
                  </a:lnTo>
                  <a:arcTo wR="8197" hR="21600" stAng="5570971" swAng="5229029"/>
                  <a:close/>
                </a:path>
                <a:path fill="darkenLess" w="21600" h="21600">
                  <a:moveTo>
                    <a:pt x="0" y="0"/>
                  </a:moveTo>
                  <a:arcTo wR="8197" hR="21600" stAng="10800000" swAng="-5400000"/>
                  <a:lnTo>
                    <a:pt x="10329" y="21600"/>
                  </a:lnTo>
                  <a:arcTo wR="8197" hR="21600" stAng="5400000" swAng="170971"/>
                  <a:lnTo>
                    <a:pt x="9263" y="21417"/>
                  </a:lnTo>
                  <a:arcTo wR="8197" hR="21600" stAng="5570971" swAng="5229029"/>
                  <a:close/>
                </a:path>
              </a:pathLst>
            </a:cu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4120" y="3048120"/>
              <a:ext cx="2743200" cy="9140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ccff"/>
                </a:gs>
                <a:gs pos="50000">
                  <a:srgbClr val="fefefe"/>
                </a:gs>
                <a:gs pos="100000">
                  <a:srgbClr val="ccccff"/>
                </a:gs>
              </a:gsLst>
              <a:lin ang="13500000"/>
            </a:gradFill>
            <a:ln w="0">
              <a:noFill/>
            </a:ln>
            <a:effectLst>
              <a:outerShdw dist="153753" dir="2700000" blurRad="0" rotWithShape="0">
                <a:srgbClr val="79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300" spc="-1" strike="noStrike">
                  <a:solidFill>
                    <a:srgbClr val="3333cc"/>
                  </a:solidFill>
                  <a:latin typeface="SimSun"/>
                  <a:ea typeface="SimSun"/>
                </a:rPr>
                <a:t>寻找及帮助客户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300" spc="-1" strike="noStrike">
                  <a:solidFill>
                    <a:srgbClr val="3333cc"/>
                  </a:solidFill>
                  <a:latin typeface="Times New Roman"/>
                </a:rPr>
                <a:t>了解真正需求 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3276720" y="1353240"/>
            <a:ext cx="4185360" cy="1878480"/>
            <a:chOff x="3276720" y="1353240"/>
            <a:chExt cx="4185360" cy="1878480"/>
          </a:xfrm>
        </p:grpSpPr>
        <p:sp>
          <p:nvSpPr>
            <p:cNvPr id="62" name=""/>
            <p:cNvSpPr/>
            <p:nvPr/>
          </p:nvSpPr>
          <p:spPr>
            <a:xfrm flipV="1" rot="2299200">
              <a:off x="5486400" y="1847880"/>
              <a:ext cx="1905120" cy="888840"/>
            </a:xfrm>
            <a:custGeom>
              <a:avLst/>
              <a:gdLst>
                <a:gd name="textAreaLeft" fmla="*/ 361440 w 1905120"/>
                <a:gd name="textAreaRight" fmla="*/ 1272600 w 1905120"/>
                <a:gd name="textAreaTop" fmla="*/ 118800 h 888840"/>
                <a:gd name="textAreaBottom" fmla="*/ 770040 h 888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8197" hR="21600" stAng="10800000" swAng="-5400000"/>
                  <a:lnTo>
                    <a:pt x="10329" y="21600"/>
                  </a:lnTo>
                  <a:arcTo wR="8197" hR="21600" stAng="5400000" swAng="-2616683"/>
                  <a:lnTo>
                    <a:pt x="21018" y="7993"/>
                  </a:lnTo>
                  <a:lnTo>
                    <a:pt x="17459" y="0"/>
                  </a:lnTo>
                  <a:lnTo>
                    <a:pt x="12736" y="7993"/>
                  </a:lnTo>
                  <a:lnTo>
                    <a:pt x="15811" y="7993"/>
                  </a:lnTo>
                  <a:arcTo wR="8197" hR="21600" stAng="2783317" swAng="2445711"/>
                  <a:lnTo>
                    <a:pt x="9263" y="21417"/>
                  </a:lnTo>
                  <a:arcTo wR="8197" hR="21600" stAng="5570971" swAng="5229029"/>
                  <a:close/>
                </a:path>
                <a:path fill="darkenLess" w="21600" h="21600">
                  <a:moveTo>
                    <a:pt x="0" y="0"/>
                  </a:moveTo>
                  <a:arcTo wR="8197" hR="21600" stAng="10800000" swAng="-5400000"/>
                  <a:lnTo>
                    <a:pt x="10329" y="21600"/>
                  </a:lnTo>
                  <a:arcTo wR="8197" hR="21600" stAng="5400000" swAng="170971"/>
                  <a:lnTo>
                    <a:pt x="9263" y="21417"/>
                  </a:lnTo>
                  <a:arcTo wR="8197" hR="21600" stAng="5570971" swAng="5229029"/>
                  <a:close/>
                </a:path>
              </a:pathLst>
            </a:cu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276720" y="1600200"/>
              <a:ext cx="2286000" cy="857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ccff"/>
                </a:gs>
                <a:gs pos="50000">
                  <a:srgbClr val="fefefe"/>
                </a:gs>
                <a:gs pos="100000">
                  <a:srgbClr val="ccccff"/>
                </a:gs>
              </a:gsLst>
              <a:lin ang="13500000"/>
            </a:gradFill>
            <a:ln w="0">
              <a:noFill/>
            </a:ln>
            <a:effectLst>
              <a:outerShdw dist="153753" dir="2700000" blurRad="0" rotWithShape="0">
                <a:srgbClr val="79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300" spc="-1" strike="noStrike">
                  <a:solidFill>
                    <a:srgbClr val="3333cc"/>
                  </a:solidFill>
                  <a:latin typeface="SimSun"/>
                  <a:ea typeface="SimSun"/>
                </a:rPr>
                <a:t>寻找及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300" spc="-1" strike="noStrike">
                  <a:solidFill>
                    <a:srgbClr val="3333cc"/>
                  </a:solidFill>
                  <a:latin typeface="Times New Roman"/>
                </a:rPr>
                <a:t>接洽客户 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609480" y="1445760"/>
            <a:ext cx="3276720" cy="2870640"/>
            <a:chOff x="609480" y="1445760"/>
            <a:chExt cx="3276720" cy="2870640"/>
          </a:xfrm>
        </p:grpSpPr>
        <p:sp>
          <p:nvSpPr>
            <p:cNvPr id="65" name=""/>
            <p:cNvSpPr/>
            <p:nvPr/>
          </p:nvSpPr>
          <p:spPr>
            <a:xfrm flipV="1" rot="18253200">
              <a:off x="1586880" y="2070000"/>
              <a:ext cx="1981440" cy="888840"/>
            </a:xfrm>
            <a:custGeom>
              <a:avLst/>
              <a:gdLst>
                <a:gd name="textAreaLeft" fmla="*/ 375840 w 1981440"/>
                <a:gd name="textAreaRight" fmla="*/ 1323360 w 1981440"/>
                <a:gd name="textAreaTop" fmla="*/ 118800 h 888840"/>
                <a:gd name="textAreaBottom" fmla="*/ 770040 h 888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8197" hR="21600" stAng="10800000" swAng="-5400000"/>
                  <a:lnTo>
                    <a:pt x="10329" y="21600"/>
                  </a:lnTo>
                  <a:arcTo wR="8197" hR="21600" stAng="5400000" swAng="-2616683"/>
                  <a:lnTo>
                    <a:pt x="21018" y="7993"/>
                  </a:lnTo>
                  <a:lnTo>
                    <a:pt x="17459" y="0"/>
                  </a:lnTo>
                  <a:lnTo>
                    <a:pt x="12736" y="7993"/>
                  </a:lnTo>
                  <a:lnTo>
                    <a:pt x="15811" y="7993"/>
                  </a:lnTo>
                  <a:arcTo wR="8197" hR="21600" stAng="2783317" swAng="2445711"/>
                  <a:lnTo>
                    <a:pt x="9263" y="21417"/>
                  </a:lnTo>
                  <a:arcTo wR="8197" hR="21600" stAng="5570971" swAng="5229029"/>
                  <a:close/>
                </a:path>
                <a:path fill="darkenLess" w="21600" h="21600">
                  <a:moveTo>
                    <a:pt x="0" y="0"/>
                  </a:moveTo>
                  <a:arcTo wR="8197" hR="21600" stAng="10800000" swAng="-5400000"/>
                  <a:lnTo>
                    <a:pt x="10329" y="21600"/>
                  </a:lnTo>
                  <a:arcTo wR="8197" hR="21600" stAng="5400000" swAng="170971"/>
                  <a:lnTo>
                    <a:pt x="9263" y="21417"/>
                  </a:lnTo>
                  <a:arcTo wR="8197" hR="21600" stAng="5570971" swAng="5229029"/>
                  <a:close/>
                </a:path>
              </a:pathLst>
            </a:cu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09480" y="3352680"/>
              <a:ext cx="3276720" cy="963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ccff"/>
                </a:gs>
                <a:gs pos="50000">
                  <a:srgbClr val="fefefe"/>
                </a:gs>
                <a:gs pos="100000">
                  <a:srgbClr val="ccccff"/>
                </a:gs>
              </a:gsLst>
              <a:lin ang="13500000"/>
            </a:gradFill>
            <a:ln w="0">
              <a:noFill/>
            </a:ln>
            <a:effectLst>
              <a:outerShdw dist="153753" dir="2700000" blurRad="0" rotWithShape="0">
                <a:srgbClr val="79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300" spc="-1" strike="noStrike">
                  <a:solidFill>
                    <a:srgbClr val="3333cc"/>
                  </a:solidFill>
                  <a:latin typeface="SimSun"/>
                  <a:ea typeface="SimSun"/>
                </a:rPr>
                <a:t>客户服务</a:t>
              </a:r>
              <a:r>
                <a:rPr b="1" lang="zh-TW" sz="23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300" spc="-1" strike="noStrike">
                  <a:solidFill>
                    <a:srgbClr val="3333cc"/>
                  </a:solidFill>
                  <a:latin typeface="Times New Roman"/>
                </a:rPr>
                <a:t>(</a:t>
              </a:r>
              <a:r>
                <a:rPr b="1" lang="zh-CN" sz="2000" spc="-1" strike="noStrike">
                  <a:solidFill>
                    <a:srgbClr val="3333cc"/>
                  </a:solidFill>
                  <a:latin typeface="SimSun"/>
                  <a:ea typeface="SimSun"/>
                </a:rPr>
                <a:t>建立长期客户关系</a:t>
              </a:r>
              <a:r>
                <a:rPr b="1" lang="zh-TW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zh-TW" sz="2300" spc="-1" strike="noStrike">
                  <a:solidFill>
                    <a:srgbClr val="3333cc"/>
                  </a:solidFill>
                  <a:latin typeface="Times New Roman"/>
                </a:rPr>
                <a:t>)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380880" y="0"/>
            <a:ext cx="8077320" cy="609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065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35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Your Roles &amp; 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35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35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Responsibilities 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35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35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in Telephone Selling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35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p:transition>
    <p:cover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7238880" y="1676520"/>
            <a:ext cx="1663920" cy="22622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 rot="5400000">
            <a:off x="6172200" y="4191120"/>
            <a:ext cx="2743200" cy="32004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3478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ffc9c9"/>
                  </a:solidFill>
                  <a:miter/>
                </a:ln>
                <a:solidFill>
                  <a:srgbClr val="ffdddd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 Black"/>
              </a:rPr>
              <a:t>?</a:t>
            </a:r>
            <a:endParaRPr b="0" i="1" lang="en-US" sz="2400" spc="1" strike="noStrike">
              <a:ln w="9360">
                <a:solidFill>
                  <a:srgbClr val="ffc9c9"/>
                </a:solidFill>
                <a:miter/>
              </a:ln>
              <a:solidFill>
                <a:srgbClr val="ffdddd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0" name=""/>
          <p:cNvSpPr txBox="1"/>
          <p:nvPr/>
        </p:nvSpPr>
        <p:spPr>
          <a:xfrm rot="5400000">
            <a:off x="75600" y="-75960"/>
            <a:ext cx="3276720" cy="3429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3478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ffc9c9"/>
                  </a:solidFill>
                  <a:miter/>
                </a:ln>
                <a:solidFill>
                  <a:srgbClr val="ffdddd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 Black"/>
              </a:rPr>
              <a:t>?</a:t>
            </a:r>
            <a:endParaRPr b="0" i="1" lang="en-US" sz="2400" spc="1" strike="noStrike">
              <a:ln w="9360">
                <a:solidFill>
                  <a:srgbClr val="ffc9c9"/>
                </a:solidFill>
                <a:miter/>
              </a:ln>
              <a:solidFill>
                <a:srgbClr val="ffdddd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90720" y="1219320"/>
            <a:ext cx="6267240" cy="388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2574"/>
                <a:gd name="adj2" fmla="val 30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最佳銷售時機</a:t>
            </a:r>
            <a:r>
              <a:rPr b="0" i="1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?</a:t>
            </a:r>
            <a:endParaRPr b="0" i="1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>
    <p:cover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0000"/>
                </a:solidFill>
                <a:latin typeface="Times New Roman"/>
              </a:rPr>
              <a:t>最佳銷售時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76360" y="2286000"/>
            <a:ext cx="2895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3333cc"/>
                </a:solidFill>
                <a:latin typeface="Times New Roman"/>
              </a:rPr>
              <a:t>當客戶 </a:t>
            </a:r>
            <a:r>
              <a:rPr b="1" lang="zh-TW" sz="4000" spc="-1" strike="noStrike">
                <a:solidFill>
                  <a:srgbClr val="3333cc"/>
                </a:solidFill>
                <a:latin typeface="Times New Roman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2590920" y="3048120"/>
            <a:ext cx="3047760" cy="3168360"/>
            <a:chOff x="2590920" y="3048120"/>
            <a:chExt cx="3047760" cy="3168360"/>
          </a:xfrm>
        </p:grpSpPr>
        <p:pic>
          <p:nvPicPr>
            <p:cNvPr id="75" name="" descr=""/>
            <p:cNvPicPr/>
            <p:nvPr/>
          </p:nvPicPr>
          <p:blipFill>
            <a:blip r:embed="rId1"/>
            <a:stretch/>
          </p:blipFill>
          <p:spPr>
            <a:xfrm>
              <a:off x="2590920" y="3048120"/>
              <a:ext cx="3047760" cy="31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2971800" y="3962520"/>
              <a:ext cx="26668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ffff"/>
                  </a:solidFill>
                  <a:latin typeface="SimSun"/>
                  <a:ea typeface="SimSun"/>
                </a:rPr>
                <a:t>踏入公司</a:t>
              </a:r>
              <a:r>
                <a:rPr b="1" lang="zh-TW" sz="48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6516720" y="2324160"/>
            <a:ext cx="879480" cy="695160"/>
            <a:chOff x="6516720" y="2324160"/>
            <a:chExt cx="879480" cy="695160"/>
          </a:xfrm>
        </p:grpSpPr>
        <p:sp>
          <p:nvSpPr>
            <p:cNvPr id="78" name=""/>
            <p:cNvSpPr/>
            <p:nvPr/>
          </p:nvSpPr>
          <p:spPr>
            <a:xfrm>
              <a:off x="6969240" y="2324160"/>
              <a:ext cx="426960" cy="181080"/>
            </a:xfrm>
            <a:custGeom>
              <a:avLst/>
              <a:gdLst/>
              <a:ahLst/>
              <a:rect l="l" t="t" r="r" b="b"/>
              <a:pathLst>
                <a:path w="269" h="114">
                  <a:moveTo>
                    <a:pt x="16" y="17"/>
                  </a:moveTo>
                  <a:lnTo>
                    <a:pt x="40" y="9"/>
                  </a:lnTo>
                  <a:lnTo>
                    <a:pt x="56" y="6"/>
                  </a:lnTo>
                  <a:lnTo>
                    <a:pt x="79" y="4"/>
                  </a:lnTo>
                  <a:lnTo>
                    <a:pt x="97" y="5"/>
                  </a:lnTo>
                  <a:lnTo>
                    <a:pt x="119" y="9"/>
                  </a:lnTo>
                  <a:lnTo>
                    <a:pt x="138" y="17"/>
                  </a:lnTo>
                  <a:lnTo>
                    <a:pt x="155" y="27"/>
                  </a:lnTo>
                  <a:lnTo>
                    <a:pt x="166" y="33"/>
                  </a:lnTo>
                  <a:lnTo>
                    <a:pt x="182" y="37"/>
                  </a:lnTo>
                  <a:lnTo>
                    <a:pt x="199" y="39"/>
                  </a:lnTo>
                  <a:lnTo>
                    <a:pt x="211" y="39"/>
                  </a:lnTo>
                  <a:lnTo>
                    <a:pt x="226" y="36"/>
                  </a:lnTo>
                  <a:lnTo>
                    <a:pt x="238" y="32"/>
                  </a:lnTo>
                  <a:lnTo>
                    <a:pt x="252" y="22"/>
                  </a:lnTo>
                  <a:lnTo>
                    <a:pt x="269" y="0"/>
                  </a:lnTo>
                  <a:lnTo>
                    <a:pt x="227" y="72"/>
                  </a:lnTo>
                  <a:lnTo>
                    <a:pt x="218" y="84"/>
                  </a:lnTo>
                  <a:lnTo>
                    <a:pt x="208" y="93"/>
                  </a:lnTo>
                  <a:lnTo>
                    <a:pt x="196" y="102"/>
                  </a:lnTo>
                  <a:lnTo>
                    <a:pt x="181" y="109"/>
                  </a:lnTo>
                  <a:lnTo>
                    <a:pt x="167" y="113"/>
                  </a:lnTo>
                  <a:lnTo>
                    <a:pt x="153" y="114"/>
                  </a:lnTo>
                  <a:lnTo>
                    <a:pt x="140" y="114"/>
                  </a:lnTo>
                  <a:lnTo>
                    <a:pt x="125" y="111"/>
                  </a:lnTo>
                  <a:lnTo>
                    <a:pt x="100" y="103"/>
                  </a:lnTo>
                  <a:lnTo>
                    <a:pt x="82" y="99"/>
                  </a:lnTo>
                  <a:lnTo>
                    <a:pt x="62" y="96"/>
                  </a:lnTo>
                  <a:lnTo>
                    <a:pt x="43" y="97"/>
                  </a:lnTo>
                  <a:lnTo>
                    <a:pt x="0" y="103"/>
                  </a:lnTo>
                  <a:lnTo>
                    <a:pt x="16" y="17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848640" y="2352600"/>
              <a:ext cx="187200" cy="561960"/>
            </a:xfrm>
            <a:custGeom>
              <a:avLst/>
              <a:gdLst/>
              <a:ahLst/>
              <a:rect l="l" t="t" r="r" b="b"/>
              <a:pathLst>
                <a:path w="118" h="354">
                  <a:moveTo>
                    <a:pt x="91" y="0"/>
                  </a:moveTo>
                  <a:lnTo>
                    <a:pt x="118" y="0"/>
                  </a:lnTo>
                  <a:lnTo>
                    <a:pt x="27" y="354"/>
                  </a:lnTo>
                  <a:lnTo>
                    <a:pt x="0" y="354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516720" y="2752560"/>
              <a:ext cx="382680" cy="26676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7240680" y="2933640"/>
            <a:ext cx="879480" cy="695520"/>
            <a:chOff x="7240680" y="2933640"/>
            <a:chExt cx="879480" cy="695520"/>
          </a:xfrm>
        </p:grpSpPr>
        <p:sp>
          <p:nvSpPr>
            <p:cNvPr id="82" name=""/>
            <p:cNvSpPr/>
            <p:nvPr/>
          </p:nvSpPr>
          <p:spPr>
            <a:xfrm>
              <a:off x="7693200" y="2933640"/>
              <a:ext cx="426960" cy="181080"/>
            </a:xfrm>
            <a:custGeom>
              <a:avLst/>
              <a:gdLst/>
              <a:ahLst/>
              <a:rect l="l" t="t" r="r" b="b"/>
              <a:pathLst>
                <a:path w="269" h="114">
                  <a:moveTo>
                    <a:pt x="16" y="17"/>
                  </a:moveTo>
                  <a:lnTo>
                    <a:pt x="40" y="9"/>
                  </a:lnTo>
                  <a:lnTo>
                    <a:pt x="56" y="6"/>
                  </a:lnTo>
                  <a:lnTo>
                    <a:pt x="79" y="4"/>
                  </a:lnTo>
                  <a:lnTo>
                    <a:pt x="97" y="5"/>
                  </a:lnTo>
                  <a:lnTo>
                    <a:pt x="119" y="9"/>
                  </a:lnTo>
                  <a:lnTo>
                    <a:pt x="138" y="17"/>
                  </a:lnTo>
                  <a:lnTo>
                    <a:pt x="155" y="27"/>
                  </a:lnTo>
                  <a:lnTo>
                    <a:pt x="166" y="33"/>
                  </a:lnTo>
                  <a:lnTo>
                    <a:pt x="182" y="37"/>
                  </a:lnTo>
                  <a:lnTo>
                    <a:pt x="199" y="39"/>
                  </a:lnTo>
                  <a:lnTo>
                    <a:pt x="211" y="39"/>
                  </a:lnTo>
                  <a:lnTo>
                    <a:pt x="226" y="36"/>
                  </a:lnTo>
                  <a:lnTo>
                    <a:pt x="238" y="32"/>
                  </a:lnTo>
                  <a:lnTo>
                    <a:pt x="252" y="22"/>
                  </a:lnTo>
                  <a:lnTo>
                    <a:pt x="269" y="0"/>
                  </a:lnTo>
                  <a:lnTo>
                    <a:pt x="227" y="72"/>
                  </a:lnTo>
                  <a:lnTo>
                    <a:pt x="218" y="84"/>
                  </a:lnTo>
                  <a:lnTo>
                    <a:pt x="208" y="93"/>
                  </a:lnTo>
                  <a:lnTo>
                    <a:pt x="196" y="102"/>
                  </a:lnTo>
                  <a:lnTo>
                    <a:pt x="181" y="109"/>
                  </a:lnTo>
                  <a:lnTo>
                    <a:pt x="167" y="113"/>
                  </a:lnTo>
                  <a:lnTo>
                    <a:pt x="153" y="114"/>
                  </a:lnTo>
                  <a:lnTo>
                    <a:pt x="140" y="114"/>
                  </a:lnTo>
                  <a:lnTo>
                    <a:pt x="125" y="111"/>
                  </a:lnTo>
                  <a:lnTo>
                    <a:pt x="100" y="103"/>
                  </a:lnTo>
                  <a:lnTo>
                    <a:pt x="82" y="99"/>
                  </a:lnTo>
                  <a:lnTo>
                    <a:pt x="62" y="96"/>
                  </a:lnTo>
                  <a:lnTo>
                    <a:pt x="43" y="97"/>
                  </a:lnTo>
                  <a:lnTo>
                    <a:pt x="0" y="103"/>
                  </a:lnTo>
                  <a:lnTo>
                    <a:pt x="16" y="17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572240" y="2962440"/>
              <a:ext cx="187560" cy="561960"/>
            </a:xfrm>
            <a:custGeom>
              <a:avLst/>
              <a:gdLst/>
              <a:ahLst/>
              <a:rect l="l" t="t" r="r" b="b"/>
              <a:pathLst>
                <a:path w="118" h="354">
                  <a:moveTo>
                    <a:pt x="91" y="0"/>
                  </a:moveTo>
                  <a:lnTo>
                    <a:pt x="118" y="0"/>
                  </a:lnTo>
                  <a:lnTo>
                    <a:pt x="27" y="354"/>
                  </a:lnTo>
                  <a:lnTo>
                    <a:pt x="0" y="354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240680" y="3362400"/>
              <a:ext cx="382320" cy="26676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7812000" y="2943360"/>
            <a:ext cx="879480" cy="695160"/>
            <a:chOff x="7812000" y="2943360"/>
            <a:chExt cx="879480" cy="695160"/>
          </a:xfrm>
        </p:grpSpPr>
        <p:sp>
          <p:nvSpPr>
            <p:cNvPr id="86" name=""/>
            <p:cNvSpPr/>
            <p:nvPr/>
          </p:nvSpPr>
          <p:spPr>
            <a:xfrm>
              <a:off x="8264520" y="2943360"/>
              <a:ext cx="426960" cy="180720"/>
            </a:xfrm>
            <a:custGeom>
              <a:avLst/>
              <a:gdLst/>
              <a:ahLst/>
              <a:rect l="l" t="t" r="r" b="b"/>
              <a:pathLst>
                <a:path w="269" h="114">
                  <a:moveTo>
                    <a:pt x="16" y="17"/>
                  </a:moveTo>
                  <a:lnTo>
                    <a:pt x="40" y="9"/>
                  </a:lnTo>
                  <a:lnTo>
                    <a:pt x="56" y="6"/>
                  </a:lnTo>
                  <a:lnTo>
                    <a:pt x="79" y="4"/>
                  </a:lnTo>
                  <a:lnTo>
                    <a:pt x="97" y="5"/>
                  </a:lnTo>
                  <a:lnTo>
                    <a:pt x="119" y="9"/>
                  </a:lnTo>
                  <a:lnTo>
                    <a:pt x="138" y="17"/>
                  </a:lnTo>
                  <a:lnTo>
                    <a:pt x="155" y="27"/>
                  </a:lnTo>
                  <a:lnTo>
                    <a:pt x="166" y="33"/>
                  </a:lnTo>
                  <a:lnTo>
                    <a:pt x="182" y="37"/>
                  </a:lnTo>
                  <a:lnTo>
                    <a:pt x="199" y="39"/>
                  </a:lnTo>
                  <a:lnTo>
                    <a:pt x="211" y="39"/>
                  </a:lnTo>
                  <a:lnTo>
                    <a:pt x="226" y="36"/>
                  </a:lnTo>
                  <a:lnTo>
                    <a:pt x="238" y="32"/>
                  </a:lnTo>
                  <a:lnTo>
                    <a:pt x="252" y="22"/>
                  </a:lnTo>
                  <a:lnTo>
                    <a:pt x="269" y="0"/>
                  </a:lnTo>
                  <a:lnTo>
                    <a:pt x="227" y="72"/>
                  </a:lnTo>
                  <a:lnTo>
                    <a:pt x="218" y="84"/>
                  </a:lnTo>
                  <a:lnTo>
                    <a:pt x="208" y="93"/>
                  </a:lnTo>
                  <a:lnTo>
                    <a:pt x="196" y="102"/>
                  </a:lnTo>
                  <a:lnTo>
                    <a:pt x="181" y="109"/>
                  </a:lnTo>
                  <a:lnTo>
                    <a:pt x="167" y="113"/>
                  </a:lnTo>
                  <a:lnTo>
                    <a:pt x="153" y="114"/>
                  </a:lnTo>
                  <a:lnTo>
                    <a:pt x="140" y="114"/>
                  </a:lnTo>
                  <a:lnTo>
                    <a:pt x="125" y="111"/>
                  </a:lnTo>
                  <a:lnTo>
                    <a:pt x="100" y="103"/>
                  </a:lnTo>
                  <a:lnTo>
                    <a:pt x="82" y="99"/>
                  </a:lnTo>
                  <a:lnTo>
                    <a:pt x="62" y="96"/>
                  </a:lnTo>
                  <a:lnTo>
                    <a:pt x="43" y="97"/>
                  </a:lnTo>
                  <a:lnTo>
                    <a:pt x="0" y="103"/>
                  </a:lnTo>
                  <a:lnTo>
                    <a:pt x="16" y="17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8143920" y="2971800"/>
              <a:ext cx="187200" cy="561960"/>
            </a:xfrm>
            <a:custGeom>
              <a:avLst/>
              <a:gdLst/>
              <a:ahLst/>
              <a:rect l="l" t="t" r="r" b="b"/>
              <a:pathLst>
                <a:path w="118" h="354">
                  <a:moveTo>
                    <a:pt x="91" y="0"/>
                  </a:moveTo>
                  <a:lnTo>
                    <a:pt x="118" y="0"/>
                  </a:lnTo>
                  <a:lnTo>
                    <a:pt x="27" y="354"/>
                  </a:lnTo>
                  <a:lnTo>
                    <a:pt x="0" y="354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812000" y="3371760"/>
              <a:ext cx="382680" cy="26676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304920" y="1676520"/>
            <a:ext cx="879480" cy="694800"/>
            <a:chOff x="304920" y="1676520"/>
            <a:chExt cx="879480" cy="694800"/>
          </a:xfrm>
        </p:grpSpPr>
        <p:sp>
          <p:nvSpPr>
            <p:cNvPr id="90" name=""/>
            <p:cNvSpPr/>
            <p:nvPr/>
          </p:nvSpPr>
          <p:spPr>
            <a:xfrm>
              <a:off x="757440" y="1676520"/>
              <a:ext cx="426960" cy="180720"/>
            </a:xfrm>
            <a:custGeom>
              <a:avLst/>
              <a:gdLst/>
              <a:ahLst/>
              <a:rect l="l" t="t" r="r" b="b"/>
              <a:pathLst>
                <a:path w="269" h="114">
                  <a:moveTo>
                    <a:pt x="16" y="17"/>
                  </a:moveTo>
                  <a:lnTo>
                    <a:pt x="40" y="9"/>
                  </a:lnTo>
                  <a:lnTo>
                    <a:pt x="56" y="6"/>
                  </a:lnTo>
                  <a:lnTo>
                    <a:pt x="79" y="4"/>
                  </a:lnTo>
                  <a:lnTo>
                    <a:pt x="97" y="5"/>
                  </a:lnTo>
                  <a:lnTo>
                    <a:pt x="119" y="9"/>
                  </a:lnTo>
                  <a:lnTo>
                    <a:pt x="138" y="17"/>
                  </a:lnTo>
                  <a:lnTo>
                    <a:pt x="155" y="27"/>
                  </a:lnTo>
                  <a:lnTo>
                    <a:pt x="166" y="33"/>
                  </a:lnTo>
                  <a:lnTo>
                    <a:pt x="182" y="37"/>
                  </a:lnTo>
                  <a:lnTo>
                    <a:pt x="199" y="39"/>
                  </a:lnTo>
                  <a:lnTo>
                    <a:pt x="211" y="39"/>
                  </a:lnTo>
                  <a:lnTo>
                    <a:pt x="226" y="36"/>
                  </a:lnTo>
                  <a:lnTo>
                    <a:pt x="238" y="32"/>
                  </a:lnTo>
                  <a:lnTo>
                    <a:pt x="252" y="22"/>
                  </a:lnTo>
                  <a:lnTo>
                    <a:pt x="269" y="0"/>
                  </a:lnTo>
                  <a:lnTo>
                    <a:pt x="227" y="72"/>
                  </a:lnTo>
                  <a:lnTo>
                    <a:pt x="218" y="84"/>
                  </a:lnTo>
                  <a:lnTo>
                    <a:pt x="208" y="93"/>
                  </a:lnTo>
                  <a:lnTo>
                    <a:pt x="196" y="102"/>
                  </a:lnTo>
                  <a:lnTo>
                    <a:pt x="181" y="109"/>
                  </a:lnTo>
                  <a:lnTo>
                    <a:pt x="167" y="113"/>
                  </a:lnTo>
                  <a:lnTo>
                    <a:pt x="153" y="114"/>
                  </a:lnTo>
                  <a:lnTo>
                    <a:pt x="140" y="114"/>
                  </a:lnTo>
                  <a:lnTo>
                    <a:pt x="125" y="111"/>
                  </a:lnTo>
                  <a:lnTo>
                    <a:pt x="100" y="103"/>
                  </a:lnTo>
                  <a:lnTo>
                    <a:pt x="82" y="99"/>
                  </a:lnTo>
                  <a:lnTo>
                    <a:pt x="62" y="96"/>
                  </a:lnTo>
                  <a:lnTo>
                    <a:pt x="43" y="97"/>
                  </a:lnTo>
                  <a:lnTo>
                    <a:pt x="0" y="103"/>
                  </a:lnTo>
                  <a:lnTo>
                    <a:pt x="16" y="17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36840" y="1704960"/>
              <a:ext cx="187200" cy="561600"/>
            </a:xfrm>
            <a:custGeom>
              <a:avLst/>
              <a:gdLst/>
              <a:ahLst/>
              <a:rect l="l" t="t" r="r" b="b"/>
              <a:pathLst>
                <a:path w="118" h="354">
                  <a:moveTo>
                    <a:pt x="91" y="0"/>
                  </a:moveTo>
                  <a:lnTo>
                    <a:pt x="118" y="0"/>
                  </a:lnTo>
                  <a:lnTo>
                    <a:pt x="27" y="354"/>
                  </a:lnTo>
                  <a:lnTo>
                    <a:pt x="0" y="354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04920" y="2104920"/>
              <a:ext cx="382680" cy="26640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3962520" y="1447920"/>
            <a:ext cx="879480" cy="695160"/>
            <a:chOff x="3962520" y="1447920"/>
            <a:chExt cx="879480" cy="695160"/>
          </a:xfrm>
        </p:grpSpPr>
        <p:sp>
          <p:nvSpPr>
            <p:cNvPr id="94" name=""/>
            <p:cNvSpPr/>
            <p:nvPr/>
          </p:nvSpPr>
          <p:spPr>
            <a:xfrm>
              <a:off x="4415040" y="1447920"/>
              <a:ext cx="426960" cy="180720"/>
            </a:xfrm>
            <a:custGeom>
              <a:avLst/>
              <a:gdLst/>
              <a:ahLst/>
              <a:rect l="l" t="t" r="r" b="b"/>
              <a:pathLst>
                <a:path w="269" h="114">
                  <a:moveTo>
                    <a:pt x="16" y="17"/>
                  </a:moveTo>
                  <a:lnTo>
                    <a:pt x="40" y="9"/>
                  </a:lnTo>
                  <a:lnTo>
                    <a:pt x="56" y="6"/>
                  </a:lnTo>
                  <a:lnTo>
                    <a:pt x="79" y="4"/>
                  </a:lnTo>
                  <a:lnTo>
                    <a:pt x="97" y="5"/>
                  </a:lnTo>
                  <a:lnTo>
                    <a:pt x="119" y="9"/>
                  </a:lnTo>
                  <a:lnTo>
                    <a:pt x="138" y="17"/>
                  </a:lnTo>
                  <a:lnTo>
                    <a:pt x="155" y="27"/>
                  </a:lnTo>
                  <a:lnTo>
                    <a:pt x="166" y="33"/>
                  </a:lnTo>
                  <a:lnTo>
                    <a:pt x="182" y="37"/>
                  </a:lnTo>
                  <a:lnTo>
                    <a:pt x="199" y="39"/>
                  </a:lnTo>
                  <a:lnTo>
                    <a:pt x="211" y="39"/>
                  </a:lnTo>
                  <a:lnTo>
                    <a:pt x="226" y="36"/>
                  </a:lnTo>
                  <a:lnTo>
                    <a:pt x="238" y="32"/>
                  </a:lnTo>
                  <a:lnTo>
                    <a:pt x="252" y="22"/>
                  </a:lnTo>
                  <a:lnTo>
                    <a:pt x="269" y="0"/>
                  </a:lnTo>
                  <a:lnTo>
                    <a:pt x="227" y="72"/>
                  </a:lnTo>
                  <a:lnTo>
                    <a:pt x="218" y="84"/>
                  </a:lnTo>
                  <a:lnTo>
                    <a:pt x="208" y="93"/>
                  </a:lnTo>
                  <a:lnTo>
                    <a:pt x="196" y="102"/>
                  </a:lnTo>
                  <a:lnTo>
                    <a:pt x="181" y="109"/>
                  </a:lnTo>
                  <a:lnTo>
                    <a:pt x="167" y="113"/>
                  </a:lnTo>
                  <a:lnTo>
                    <a:pt x="153" y="114"/>
                  </a:lnTo>
                  <a:lnTo>
                    <a:pt x="140" y="114"/>
                  </a:lnTo>
                  <a:lnTo>
                    <a:pt x="125" y="111"/>
                  </a:lnTo>
                  <a:lnTo>
                    <a:pt x="100" y="103"/>
                  </a:lnTo>
                  <a:lnTo>
                    <a:pt x="82" y="99"/>
                  </a:lnTo>
                  <a:lnTo>
                    <a:pt x="62" y="96"/>
                  </a:lnTo>
                  <a:lnTo>
                    <a:pt x="43" y="97"/>
                  </a:lnTo>
                  <a:lnTo>
                    <a:pt x="0" y="103"/>
                  </a:lnTo>
                  <a:lnTo>
                    <a:pt x="16" y="17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294440" y="1476360"/>
              <a:ext cx="187200" cy="561960"/>
            </a:xfrm>
            <a:custGeom>
              <a:avLst/>
              <a:gdLst/>
              <a:ahLst/>
              <a:rect l="l" t="t" r="r" b="b"/>
              <a:pathLst>
                <a:path w="118" h="354">
                  <a:moveTo>
                    <a:pt x="91" y="0"/>
                  </a:moveTo>
                  <a:lnTo>
                    <a:pt x="118" y="0"/>
                  </a:lnTo>
                  <a:lnTo>
                    <a:pt x="27" y="354"/>
                  </a:lnTo>
                  <a:lnTo>
                    <a:pt x="0" y="354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962520" y="1876320"/>
              <a:ext cx="382680" cy="26676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2590920" y="304920"/>
            <a:ext cx="879480" cy="695160"/>
            <a:chOff x="2590920" y="304920"/>
            <a:chExt cx="879480" cy="695160"/>
          </a:xfrm>
        </p:grpSpPr>
        <p:sp>
          <p:nvSpPr>
            <p:cNvPr id="98" name=""/>
            <p:cNvSpPr/>
            <p:nvPr/>
          </p:nvSpPr>
          <p:spPr>
            <a:xfrm>
              <a:off x="3043440" y="304920"/>
              <a:ext cx="426960" cy="180720"/>
            </a:xfrm>
            <a:custGeom>
              <a:avLst/>
              <a:gdLst/>
              <a:ahLst/>
              <a:rect l="l" t="t" r="r" b="b"/>
              <a:pathLst>
                <a:path w="269" h="114">
                  <a:moveTo>
                    <a:pt x="16" y="17"/>
                  </a:moveTo>
                  <a:lnTo>
                    <a:pt x="40" y="9"/>
                  </a:lnTo>
                  <a:lnTo>
                    <a:pt x="56" y="6"/>
                  </a:lnTo>
                  <a:lnTo>
                    <a:pt x="79" y="4"/>
                  </a:lnTo>
                  <a:lnTo>
                    <a:pt x="97" y="5"/>
                  </a:lnTo>
                  <a:lnTo>
                    <a:pt x="119" y="9"/>
                  </a:lnTo>
                  <a:lnTo>
                    <a:pt x="138" y="17"/>
                  </a:lnTo>
                  <a:lnTo>
                    <a:pt x="155" y="27"/>
                  </a:lnTo>
                  <a:lnTo>
                    <a:pt x="166" y="33"/>
                  </a:lnTo>
                  <a:lnTo>
                    <a:pt x="182" y="37"/>
                  </a:lnTo>
                  <a:lnTo>
                    <a:pt x="199" y="39"/>
                  </a:lnTo>
                  <a:lnTo>
                    <a:pt x="211" y="39"/>
                  </a:lnTo>
                  <a:lnTo>
                    <a:pt x="226" y="36"/>
                  </a:lnTo>
                  <a:lnTo>
                    <a:pt x="238" y="32"/>
                  </a:lnTo>
                  <a:lnTo>
                    <a:pt x="252" y="22"/>
                  </a:lnTo>
                  <a:lnTo>
                    <a:pt x="269" y="0"/>
                  </a:lnTo>
                  <a:lnTo>
                    <a:pt x="227" y="72"/>
                  </a:lnTo>
                  <a:lnTo>
                    <a:pt x="218" y="84"/>
                  </a:lnTo>
                  <a:lnTo>
                    <a:pt x="208" y="93"/>
                  </a:lnTo>
                  <a:lnTo>
                    <a:pt x="196" y="102"/>
                  </a:lnTo>
                  <a:lnTo>
                    <a:pt x="181" y="109"/>
                  </a:lnTo>
                  <a:lnTo>
                    <a:pt x="167" y="113"/>
                  </a:lnTo>
                  <a:lnTo>
                    <a:pt x="153" y="114"/>
                  </a:lnTo>
                  <a:lnTo>
                    <a:pt x="140" y="114"/>
                  </a:lnTo>
                  <a:lnTo>
                    <a:pt x="125" y="111"/>
                  </a:lnTo>
                  <a:lnTo>
                    <a:pt x="100" y="103"/>
                  </a:lnTo>
                  <a:lnTo>
                    <a:pt x="82" y="99"/>
                  </a:lnTo>
                  <a:lnTo>
                    <a:pt x="62" y="96"/>
                  </a:lnTo>
                  <a:lnTo>
                    <a:pt x="43" y="97"/>
                  </a:lnTo>
                  <a:lnTo>
                    <a:pt x="0" y="103"/>
                  </a:lnTo>
                  <a:lnTo>
                    <a:pt x="16" y="17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922840" y="333360"/>
              <a:ext cx="187200" cy="561960"/>
            </a:xfrm>
            <a:custGeom>
              <a:avLst/>
              <a:gdLst/>
              <a:ahLst/>
              <a:rect l="l" t="t" r="r" b="b"/>
              <a:pathLst>
                <a:path w="118" h="354">
                  <a:moveTo>
                    <a:pt x="91" y="0"/>
                  </a:moveTo>
                  <a:lnTo>
                    <a:pt x="118" y="0"/>
                  </a:lnTo>
                  <a:lnTo>
                    <a:pt x="27" y="354"/>
                  </a:lnTo>
                  <a:lnTo>
                    <a:pt x="0" y="354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590920" y="733320"/>
              <a:ext cx="382680" cy="26676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15000" y="1676520"/>
            <a:ext cx="879480" cy="695160"/>
            <a:chOff x="5715000" y="1676520"/>
            <a:chExt cx="879480" cy="695160"/>
          </a:xfrm>
        </p:grpSpPr>
        <p:sp>
          <p:nvSpPr>
            <p:cNvPr id="102" name=""/>
            <p:cNvSpPr/>
            <p:nvPr/>
          </p:nvSpPr>
          <p:spPr>
            <a:xfrm>
              <a:off x="6167160" y="1676520"/>
              <a:ext cx="427320" cy="181080"/>
            </a:xfrm>
            <a:custGeom>
              <a:avLst/>
              <a:gdLst/>
              <a:ahLst/>
              <a:rect l="l" t="t" r="r" b="b"/>
              <a:pathLst>
                <a:path w="269" h="114">
                  <a:moveTo>
                    <a:pt x="16" y="17"/>
                  </a:moveTo>
                  <a:lnTo>
                    <a:pt x="40" y="9"/>
                  </a:lnTo>
                  <a:lnTo>
                    <a:pt x="56" y="6"/>
                  </a:lnTo>
                  <a:lnTo>
                    <a:pt x="79" y="4"/>
                  </a:lnTo>
                  <a:lnTo>
                    <a:pt x="97" y="5"/>
                  </a:lnTo>
                  <a:lnTo>
                    <a:pt x="119" y="9"/>
                  </a:lnTo>
                  <a:lnTo>
                    <a:pt x="138" y="17"/>
                  </a:lnTo>
                  <a:lnTo>
                    <a:pt x="155" y="27"/>
                  </a:lnTo>
                  <a:lnTo>
                    <a:pt x="166" y="33"/>
                  </a:lnTo>
                  <a:lnTo>
                    <a:pt x="182" y="37"/>
                  </a:lnTo>
                  <a:lnTo>
                    <a:pt x="199" y="39"/>
                  </a:lnTo>
                  <a:lnTo>
                    <a:pt x="211" y="39"/>
                  </a:lnTo>
                  <a:lnTo>
                    <a:pt x="226" y="36"/>
                  </a:lnTo>
                  <a:lnTo>
                    <a:pt x="238" y="32"/>
                  </a:lnTo>
                  <a:lnTo>
                    <a:pt x="252" y="22"/>
                  </a:lnTo>
                  <a:lnTo>
                    <a:pt x="269" y="0"/>
                  </a:lnTo>
                  <a:lnTo>
                    <a:pt x="227" y="72"/>
                  </a:lnTo>
                  <a:lnTo>
                    <a:pt x="218" y="84"/>
                  </a:lnTo>
                  <a:lnTo>
                    <a:pt x="208" y="93"/>
                  </a:lnTo>
                  <a:lnTo>
                    <a:pt x="196" y="102"/>
                  </a:lnTo>
                  <a:lnTo>
                    <a:pt x="181" y="109"/>
                  </a:lnTo>
                  <a:lnTo>
                    <a:pt x="167" y="113"/>
                  </a:lnTo>
                  <a:lnTo>
                    <a:pt x="153" y="114"/>
                  </a:lnTo>
                  <a:lnTo>
                    <a:pt x="140" y="114"/>
                  </a:lnTo>
                  <a:lnTo>
                    <a:pt x="125" y="111"/>
                  </a:lnTo>
                  <a:lnTo>
                    <a:pt x="100" y="103"/>
                  </a:lnTo>
                  <a:lnTo>
                    <a:pt x="82" y="99"/>
                  </a:lnTo>
                  <a:lnTo>
                    <a:pt x="62" y="96"/>
                  </a:lnTo>
                  <a:lnTo>
                    <a:pt x="43" y="97"/>
                  </a:lnTo>
                  <a:lnTo>
                    <a:pt x="0" y="103"/>
                  </a:lnTo>
                  <a:lnTo>
                    <a:pt x="16" y="17"/>
                  </a:lnTo>
                  <a:close/>
                </a:path>
              </a:pathLst>
            </a:cu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046560" y="1704960"/>
              <a:ext cx="187560" cy="561960"/>
            </a:xfrm>
            <a:custGeom>
              <a:avLst/>
              <a:gdLst/>
              <a:ahLst/>
              <a:rect l="l" t="t" r="r" b="b"/>
              <a:pathLst>
                <a:path w="118" h="354">
                  <a:moveTo>
                    <a:pt x="91" y="0"/>
                  </a:moveTo>
                  <a:lnTo>
                    <a:pt x="118" y="0"/>
                  </a:lnTo>
                  <a:lnTo>
                    <a:pt x="27" y="354"/>
                  </a:lnTo>
                  <a:lnTo>
                    <a:pt x="0" y="354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715000" y="2104920"/>
              <a:ext cx="382320" cy="266760"/>
            </a:xfrm>
            <a:prstGeom prst="ellipse">
              <a:avLst/>
            </a:pr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685800" y="3124080"/>
            <a:ext cx="879480" cy="695160"/>
            <a:chOff x="685800" y="3124080"/>
            <a:chExt cx="879480" cy="695160"/>
          </a:xfrm>
        </p:grpSpPr>
        <p:sp>
          <p:nvSpPr>
            <p:cNvPr id="106" name=""/>
            <p:cNvSpPr/>
            <p:nvPr/>
          </p:nvSpPr>
          <p:spPr>
            <a:xfrm>
              <a:off x="1138320" y="3124080"/>
              <a:ext cx="426960" cy="181080"/>
            </a:xfrm>
            <a:custGeom>
              <a:avLst/>
              <a:gdLst/>
              <a:ahLst/>
              <a:rect l="l" t="t" r="r" b="b"/>
              <a:pathLst>
                <a:path w="269" h="114">
                  <a:moveTo>
                    <a:pt x="16" y="17"/>
                  </a:moveTo>
                  <a:lnTo>
                    <a:pt x="40" y="9"/>
                  </a:lnTo>
                  <a:lnTo>
                    <a:pt x="56" y="6"/>
                  </a:lnTo>
                  <a:lnTo>
                    <a:pt x="79" y="4"/>
                  </a:lnTo>
                  <a:lnTo>
                    <a:pt x="97" y="5"/>
                  </a:lnTo>
                  <a:lnTo>
                    <a:pt x="119" y="9"/>
                  </a:lnTo>
                  <a:lnTo>
                    <a:pt x="138" y="17"/>
                  </a:lnTo>
                  <a:lnTo>
                    <a:pt x="155" y="27"/>
                  </a:lnTo>
                  <a:lnTo>
                    <a:pt x="166" y="33"/>
                  </a:lnTo>
                  <a:lnTo>
                    <a:pt x="182" y="37"/>
                  </a:lnTo>
                  <a:lnTo>
                    <a:pt x="199" y="39"/>
                  </a:lnTo>
                  <a:lnTo>
                    <a:pt x="211" y="39"/>
                  </a:lnTo>
                  <a:lnTo>
                    <a:pt x="226" y="36"/>
                  </a:lnTo>
                  <a:lnTo>
                    <a:pt x="238" y="32"/>
                  </a:lnTo>
                  <a:lnTo>
                    <a:pt x="252" y="22"/>
                  </a:lnTo>
                  <a:lnTo>
                    <a:pt x="269" y="0"/>
                  </a:lnTo>
                  <a:lnTo>
                    <a:pt x="227" y="72"/>
                  </a:lnTo>
                  <a:lnTo>
                    <a:pt x="218" y="84"/>
                  </a:lnTo>
                  <a:lnTo>
                    <a:pt x="208" y="93"/>
                  </a:lnTo>
                  <a:lnTo>
                    <a:pt x="196" y="102"/>
                  </a:lnTo>
                  <a:lnTo>
                    <a:pt x="181" y="109"/>
                  </a:lnTo>
                  <a:lnTo>
                    <a:pt x="167" y="113"/>
                  </a:lnTo>
                  <a:lnTo>
                    <a:pt x="153" y="114"/>
                  </a:lnTo>
                  <a:lnTo>
                    <a:pt x="140" y="114"/>
                  </a:lnTo>
                  <a:lnTo>
                    <a:pt x="125" y="111"/>
                  </a:lnTo>
                  <a:lnTo>
                    <a:pt x="100" y="103"/>
                  </a:lnTo>
                  <a:lnTo>
                    <a:pt x="82" y="99"/>
                  </a:lnTo>
                  <a:lnTo>
                    <a:pt x="62" y="96"/>
                  </a:lnTo>
                  <a:lnTo>
                    <a:pt x="43" y="97"/>
                  </a:lnTo>
                  <a:lnTo>
                    <a:pt x="0" y="103"/>
                  </a:lnTo>
                  <a:lnTo>
                    <a:pt x="16" y="17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017720" y="3152520"/>
              <a:ext cx="187200" cy="561960"/>
            </a:xfrm>
            <a:custGeom>
              <a:avLst/>
              <a:gdLst/>
              <a:ahLst/>
              <a:rect l="l" t="t" r="r" b="b"/>
              <a:pathLst>
                <a:path w="118" h="354">
                  <a:moveTo>
                    <a:pt x="91" y="0"/>
                  </a:moveTo>
                  <a:lnTo>
                    <a:pt x="118" y="0"/>
                  </a:lnTo>
                  <a:lnTo>
                    <a:pt x="27" y="354"/>
                  </a:lnTo>
                  <a:lnTo>
                    <a:pt x="0" y="354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85800" y="3552480"/>
              <a:ext cx="382680" cy="2667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8001000" y="685800"/>
            <a:ext cx="879480" cy="694800"/>
            <a:chOff x="8001000" y="685800"/>
            <a:chExt cx="879480" cy="694800"/>
          </a:xfrm>
        </p:grpSpPr>
        <p:sp>
          <p:nvSpPr>
            <p:cNvPr id="110" name=""/>
            <p:cNvSpPr/>
            <p:nvPr/>
          </p:nvSpPr>
          <p:spPr>
            <a:xfrm>
              <a:off x="8453160" y="685800"/>
              <a:ext cx="427320" cy="180720"/>
            </a:xfrm>
            <a:custGeom>
              <a:avLst/>
              <a:gdLst/>
              <a:ahLst/>
              <a:rect l="l" t="t" r="r" b="b"/>
              <a:pathLst>
                <a:path w="269" h="114">
                  <a:moveTo>
                    <a:pt x="16" y="17"/>
                  </a:moveTo>
                  <a:lnTo>
                    <a:pt x="40" y="9"/>
                  </a:lnTo>
                  <a:lnTo>
                    <a:pt x="56" y="6"/>
                  </a:lnTo>
                  <a:lnTo>
                    <a:pt x="79" y="4"/>
                  </a:lnTo>
                  <a:lnTo>
                    <a:pt x="97" y="5"/>
                  </a:lnTo>
                  <a:lnTo>
                    <a:pt x="119" y="9"/>
                  </a:lnTo>
                  <a:lnTo>
                    <a:pt x="138" y="17"/>
                  </a:lnTo>
                  <a:lnTo>
                    <a:pt x="155" y="27"/>
                  </a:lnTo>
                  <a:lnTo>
                    <a:pt x="166" y="33"/>
                  </a:lnTo>
                  <a:lnTo>
                    <a:pt x="182" y="37"/>
                  </a:lnTo>
                  <a:lnTo>
                    <a:pt x="199" y="39"/>
                  </a:lnTo>
                  <a:lnTo>
                    <a:pt x="211" y="39"/>
                  </a:lnTo>
                  <a:lnTo>
                    <a:pt x="226" y="36"/>
                  </a:lnTo>
                  <a:lnTo>
                    <a:pt x="238" y="32"/>
                  </a:lnTo>
                  <a:lnTo>
                    <a:pt x="252" y="22"/>
                  </a:lnTo>
                  <a:lnTo>
                    <a:pt x="269" y="0"/>
                  </a:lnTo>
                  <a:lnTo>
                    <a:pt x="227" y="72"/>
                  </a:lnTo>
                  <a:lnTo>
                    <a:pt x="218" y="84"/>
                  </a:lnTo>
                  <a:lnTo>
                    <a:pt x="208" y="93"/>
                  </a:lnTo>
                  <a:lnTo>
                    <a:pt x="196" y="102"/>
                  </a:lnTo>
                  <a:lnTo>
                    <a:pt x="181" y="109"/>
                  </a:lnTo>
                  <a:lnTo>
                    <a:pt x="167" y="113"/>
                  </a:lnTo>
                  <a:lnTo>
                    <a:pt x="153" y="114"/>
                  </a:lnTo>
                  <a:lnTo>
                    <a:pt x="140" y="114"/>
                  </a:lnTo>
                  <a:lnTo>
                    <a:pt x="125" y="111"/>
                  </a:lnTo>
                  <a:lnTo>
                    <a:pt x="100" y="103"/>
                  </a:lnTo>
                  <a:lnTo>
                    <a:pt x="82" y="99"/>
                  </a:lnTo>
                  <a:lnTo>
                    <a:pt x="62" y="96"/>
                  </a:lnTo>
                  <a:lnTo>
                    <a:pt x="43" y="97"/>
                  </a:lnTo>
                  <a:lnTo>
                    <a:pt x="0" y="103"/>
                  </a:lnTo>
                  <a:lnTo>
                    <a:pt x="16" y="17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332560" y="713880"/>
              <a:ext cx="187560" cy="561960"/>
            </a:xfrm>
            <a:custGeom>
              <a:avLst/>
              <a:gdLst/>
              <a:ahLst/>
              <a:rect l="l" t="t" r="r" b="b"/>
              <a:pathLst>
                <a:path w="118" h="354">
                  <a:moveTo>
                    <a:pt x="91" y="0"/>
                  </a:moveTo>
                  <a:lnTo>
                    <a:pt x="118" y="0"/>
                  </a:lnTo>
                  <a:lnTo>
                    <a:pt x="27" y="354"/>
                  </a:lnTo>
                  <a:lnTo>
                    <a:pt x="0" y="354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001000" y="1114200"/>
              <a:ext cx="382320" cy="2664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990720" y="609480"/>
            <a:ext cx="879480" cy="695160"/>
            <a:chOff x="990720" y="609480"/>
            <a:chExt cx="879480" cy="695160"/>
          </a:xfrm>
        </p:grpSpPr>
        <p:sp>
          <p:nvSpPr>
            <p:cNvPr id="114" name=""/>
            <p:cNvSpPr/>
            <p:nvPr/>
          </p:nvSpPr>
          <p:spPr>
            <a:xfrm>
              <a:off x="1443240" y="609480"/>
              <a:ext cx="426960" cy="180720"/>
            </a:xfrm>
            <a:custGeom>
              <a:avLst/>
              <a:gdLst/>
              <a:ahLst/>
              <a:rect l="l" t="t" r="r" b="b"/>
              <a:pathLst>
                <a:path w="269" h="114">
                  <a:moveTo>
                    <a:pt x="16" y="17"/>
                  </a:moveTo>
                  <a:lnTo>
                    <a:pt x="40" y="9"/>
                  </a:lnTo>
                  <a:lnTo>
                    <a:pt x="56" y="6"/>
                  </a:lnTo>
                  <a:lnTo>
                    <a:pt x="79" y="4"/>
                  </a:lnTo>
                  <a:lnTo>
                    <a:pt x="97" y="5"/>
                  </a:lnTo>
                  <a:lnTo>
                    <a:pt x="119" y="9"/>
                  </a:lnTo>
                  <a:lnTo>
                    <a:pt x="138" y="17"/>
                  </a:lnTo>
                  <a:lnTo>
                    <a:pt x="155" y="27"/>
                  </a:lnTo>
                  <a:lnTo>
                    <a:pt x="166" y="33"/>
                  </a:lnTo>
                  <a:lnTo>
                    <a:pt x="182" y="37"/>
                  </a:lnTo>
                  <a:lnTo>
                    <a:pt x="199" y="39"/>
                  </a:lnTo>
                  <a:lnTo>
                    <a:pt x="211" y="39"/>
                  </a:lnTo>
                  <a:lnTo>
                    <a:pt x="226" y="36"/>
                  </a:lnTo>
                  <a:lnTo>
                    <a:pt x="238" y="32"/>
                  </a:lnTo>
                  <a:lnTo>
                    <a:pt x="252" y="22"/>
                  </a:lnTo>
                  <a:lnTo>
                    <a:pt x="269" y="0"/>
                  </a:lnTo>
                  <a:lnTo>
                    <a:pt x="227" y="72"/>
                  </a:lnTo>
                  <a:lnTo>
                    <a:pt x="218" y="84"/>
                  </a:lnTo>
                  <a:lnTo>
                    <a:pt x="208" y="93"/>
                  </a:lnTo>
                  <a:lnTo>
                    <a:pt x="196" y="102"/>
                  </a:lnTo>
                  <a:lnTo>
                    <a:pt x="181" y="109"/>
                  </a:lnTo>
                  <a:lnTo>
                    <a:pt x="167" y="113"/>
                  </a:lnTo>
                  <a:lnTo>
                    <a:pt x="153" y="114"/>
                  </a:lnTo>
                  <a:lnTo>
                    <a:pt x="140" y="114"/>
                  </a:lnTo>
                  <a:lnTo>
                    <a:pt x="125" y="111"/>
                  </a:lnTo>
                  <a:lnTo>
                    <a:pt x="100" y="103"/>
                  </a:lnTo>
                  <a:lnTo>
                    <a:pt x="82" y="99"/>
                  </a:lnTo>
                  <a:lnTo>
                    <a:pt x="62" y="96"/>
                  </a:lnTo>
                  <a:lnTo>
                    <a:pt x="43" y="97"/>
                  </a:lnTo>
                  <a:lnTo>
                    <a:pt x="0" y="103"/>
                  </a:lnTo>
                  <a:lnTo>
                    <a:pt x="16" y="1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322640" y="637920"/>
              <a:ext cx="187200" cy="561960"/>
            </a:xfrm>
            <a:custGeom>
              <a:avLst/>
              <a:gdLst/>
              <a:ahLst/>
              <a:rect l="l" t="t" r="r" b="b"/>
              <a:pathLst>
                <a:path w="118" h="354">
                  <a:moveTo>
                    <a:pt x="91" y="0"/>
                  </a:moveTo>
                  <a:lnTo>
                    <a:pt x="118" y="0"/>
                  </a:lnTo>
                  <a:lnTo>
                    <a:pt x="27" y="354"/>
                  </a:lnTo>
                  <a:lnTo>
                    <a:pt x="0" y="354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990720" y="1037880"/>
              <a:ext cx="382680" cy="2667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cover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267080" y="0"/>
            <a:ext cx="3886200" cy="39448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 txBox="1"/>
          <p:nvPr/>
        </p:nvSpPr>
        <p:spPr>
          <a:xfrm>
            <a:off x="1295280" y="1447920"/>
            <a:ext cx="6934320" cy="388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爭取機會和客戶面談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533520" y="3505320"/>
            <a:ext cx="2414520" cy="295740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SimSun"/>
                <a:ea typeface="SimSun"/>
              </a:rPr>
              <a:t>客户心理分析</a:t>
            </a:r>
            <a:r>
              <a:rPr b="1" lang="zh-TW" sz="4400" spc="-1" strike="noStrike">
                <a:solidFill>
                  <a:srgbClr val="3333cc"/>
                </a:solidFill>
                <a:latin typeface="Times New Roman"/>
                <a:ea typeface="細明體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044720" y="2949120"/>
            <a:ext cx="7207200" cy="3016440"/>
          </a:xfrm>
          <a:prstGeom prst="rect">
            <a:avLst/>
          </a:prstGeom>
          <a:solidFill>
            <a:srgbClr val="9966ff"/>
          </a:solidFill>
          <a:ln w="9360">
            <a:solidFill>
              <a:srgbClr val="9966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57160" indent="-628560">
              <a:spcBef>
                <a:spcPts val="1001"/>
              </a:spcBef>
              <a:buClr>
                <a:srgbClr val="ffff00"/>
              </a:buClr>
              <a:buSzPct val="85000"/>
              <a:buFont typeface="Monotype Sort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00"/>
                </a:solidFill>
                <a:latin typeface="Times New Roman"/>
                <a:ea typeface="細明體"/>
              </a:rPr>
              <a:t>大部份客戶在電話內容中都不說真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628560">
              <a:spcBef>
                <a:spcPts val="1001"/>
              </a:spcBef>
              <a:buClr>
                <a:srgbClr val="ffff00"/>
              </a:buClr>
              <a:buSzPct val="85000"/>
              <a:buFont typeface="Monotype Sort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00"/>
                </a:solidFill>
                <a:latin typeface="Times New Roman"/>
                <a:ea typeface="細明體"/>
              </a:rPr>
              <a:t>客戶需要感到自己被尊重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628560">
              <a:spcBef>
                <a:spcPts val="1001"/>
              </a:spcBef>
              <a:buClr>
                <a:srgbClr val="ffff00"/>
              </a:buClr>
              <a:buSzPct val="85000"/>
              <a:buFont typeface="Monotype Sort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00"/>
                </a:solidFill>
                <a:latin typeface="Times New Roman"/>
                <a:ea typeface="細明體"/>
              </a:rPr>
              <a:t>客戶的需求被重視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7567560" y="2286000"/>
            <a:ext cx="336600" cy="344520"/>
            <a:chOff x="7567560" y="2286000"/>
            <a:chExt cx="336600" cy="344520"/>
          </a:xfrm>
        </p:grpSpPr>
        <p:sp>
          <p:nvSpPr>
            <p:cNvPr id="123" name=""/>
            <p:cNvSpPr/>
            <p:nvPr/>
          </p:nvSpPr>
          <p:spPr>
            <a:xfrm>
              <a:off x="7729560" y="2286000"/>
              <a:ext cx="174600" cy="10944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642080" y="2432160"/>
              <a:ext cx="144720" cy="8568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567560" y="2554200"/>
              <a:ext cx="119160" cy="7632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7562880" y="479520"/>
            <a:ext cx="1098360" cy="1376280"/>
          </a:xfrm>
          <a:custGeom>
            <a:avLst/>
            <a:gdLst/>
            <a:ahLst/>
            <a:rect l="l" t="t" r="r" b="b"/>
            <a:pathLst>
              <a:path w="1383" h="1734">
                <a:moveTo>
                  <a:pt x="212" y="1141"/>
                </a:moveTo>
                <a:lnTo>
                  <a:pt x="151" y="1043"/>
                </a:lnTo>
                <a:lnTo>
                  <a:pt x="74" y="925"/>
                </a:lnTo>
                <a:lnTo>
                  <a:pt x="24" y="827"/>
                </a:lnTo>
                <a:lnTo>
                  <a:pt x="0" y="705"/>
                </a:lnTo>
                <a:lnTo>
                  <a:pt x="0" y="599"/>
                </a:lnTo>
                <a:lnTo>
                  <a:pt x="24" y="448"/>
                </a:lnTo>
                <a:lnTo>
                  <a:pt x="81" y="329"/>
                </a:lnTo>
                <a:lnTo>
                  <a:pt x="177" y="206"/>
                </a:lnTo>
                <a:lnTo>
                  <a:pt x="304" y="116"/>
                </a:lnTo>
                <a:lnTo>
                  <a:pt x="414" y="60"/>
                </a:lnTo>
                <a:lnTo>
                  <a:pt x="538" y="18"/>
                </a:lnTo>
                <a:lnTo>
                  <a:pt x="712" y="0"/>
                </a:lnTo>
                <a:lnTo>
                  <a:pt x="873" y="18"/>
                </a:lnTo>
                <a:lnTo>
                  <a:pt x="975" y="54"/>
                </a:lnTo>
                <a:lnTo>
                  <a:pt x="1087" y="110"/>
                </a:lnTo>
                <a:lnTo>
                  <a:pt x="1171" y="171"/>
                </a:lnTo>
                <a:lnTo>
                  <a:pt x="1247" y="252"/>
                </a:lnTo>
                <a:lnTo>
                  <a:pt x="1296" y="323"/>
                </a:lnTo>
                <a:lnTo>
                  <a:pt x="1336" y="405"/>
                </a:lnTo>
                <a:lnTo>
                  <a:pt x="1365" y="495"/>
                </a:lnTo>
                <a:lnTo>
                  <a:pt x="1383" y="601"/>
                </a:lnTo>
                <a:lnTo>
                  <a:pt x="1377" y="713"/>
                </a:lnTo>
                <a:lnTo>
                  <a:pt x="1342" y="814"/>
                </a:lnTo>
                <a:lnTo>
                  <a:pt x="1296" y="931"/>
                </a:lnTo>
                <a:lnTo>
                  <a:pt x="1218" y="1057"/>
                </a:lnTo>
                <a:lnTo>
                  <a:pt x="1177" y="1141"/>
                </a:lnTo>
                <a:lnTo>
                  <a:pt x="1136" y="1245"/>
                </a:lnTo>
                <a:lnTo>
                  <a:pt x="1093" y="1367"/>
                </a:lnTo>
                <a:lnTo>
                  <a:pt x="1065" y="1473"/>
                </a:lnTo>
                <a:lnTo>
                  <a:pt x="1045" y="1590"/>
                </a:lnTo>
                <a:lnTo>
                  <a:pt x="1045" y="1734"/>
                </a:lnTo>
                <a:lnTo>
                  <a:pt x="394" y="1734"/>
                </a:lnTo>
                <a:lnTo>
                  <a:pt x="394" y="1618"/>
                </a:lnTo>
                <a:lnTo>
                  <a:pt x="359" y="1465"/>
                </a:lnTo>
                <a:lnTo>
                  <a:pt x="318" y="1353"/>
                </a:lnTo>
                <a:lnTo>
                  <a:pt x="267" y="1239"/>
                </a:lnTo>
                <a:lnTo>
                  <a:pt x="212" y="1141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959600" y="2230560"/>
            <a:ext cx="343080" cy="63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873920" y="1830240"/>
            <a:ext cx="517680" cy="127080"/>
          </a:xfrm>
          <a:custGeom>
            <a:avLst/>
            <a:gdLst/>
            <a:ahLst/>
            <a:rect l="l" t="t" r="r" b="b"/>
            <a:pathLst>
              <a:path w="651" h="161">
                <a:moveTo>
                  <a:pt x="0" y="0"/>
                </a:moveTo>
                <a:lnTo>
                  <a:pt x="0" y="161"/>
                </a:lnTo>
                <a:lnTo>
                  <a:pt x="142" y="161"/>
                </a:lnTo>
                <a:lnTo>
                  <a:pt x="651" y="54"/>
                </a:lnTo>
                <a:lnTo>
                  <a:pt x="651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873920" y="1873080"/>
            <a:ext cx="517680" cy="168480"/>
          </a:xfrm>
          <a:custGeom>
            <a:avLst/>
            <a:gdLst/>
            <a:ahLst/>
            <a:rect l="l" t="t" r="r" b="b"/>
            <a:pathLst>
              <a:path w="651" h="212">
                <a:moveTo>
                  <a:pt x="142" y="107"/>
                </a:moveTo>
                <a:lnTo>
                  <a:pt x="0" y="107"/>
                </a:lnTo>
                <a:lnTo>
                  <a:pt x="0" y="212"/>
                </a:lnTo>
                <a:lnTo>
                  <a:pt x="142" y="212"/>
                </a:lnTo>
                <a:lnTo>
                  <a:pt x="651" y="107"/>
                </a:lnTo>
                <a:lnTo>
                  <a:pt x="651" y="0"/>
                </a:lnTo>
                <a:lnTo>
                  <a:pt x="142" y="107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873920" y="1957320"/>
            <a:ext cx="517680" cy="169920"/>
          </a:xfrm>
          <a:custGeom>
            <a:avLst/>
            <a:gdLst/>
            <a:ahLst/>
            <a:rect l="l" t="t" r="r" b="b"/>
            <a:pathLst>
              <a:path w="651" h="212">
                <a:moveTo>
                  <a:pt x="142" y="105"/>
                </a:moveTo>
                <a:lnTo>
                  <a:pt x="0" y="105"/>
                </a:lnTo>
                <a:lnTo>
                  <a:pt x="0" y="212"/>
                </a:lnTo>
                <a:lnTo>
                  <a:pt x="142" y="212"/>
                </a:lnTo>
                <a:lnTo>
                  <a:pt x="651" y="105"/>
                </a:lnTo>
                <a:lnTo>
                  <a:pt x="651" y="0"/>
                </a:lnTo>
                <a:lnTo>
                  <a:pt x="142" y="10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848720" y="2057400"/>
            <a:ext cx="517320" cy="169920"/>
          </a:xfrm>
          <a:custGeom>
            <a:avLst/>
            <a:gdLst/>
            <a:ahLst/>
            <a:rect l="l" t="t" r="r" b="b"/>
            <a:pathLst>
              <a:path w="651" h="214">
                <a:moveTo>
                  <a:pt x="142" y="107"/>
                </a:moveTo>
                <a:lnTo>
                  <a:pt x="125" y="109"/>
                </a:lnTo>
                <a:lnTo>
                  <a:pt x="0" y="107"/>
                </a:lnTo>
                <a:lnTo>
                  <a:pt x="0" y="214"/>
                </a:lnTo>
                <a:lnTo>
                  <a:pt x="142" y="214"/>
                </a:lnTo>
                <a:lnTo>
                  <a:pt x="651" y="107"/>
                </a:lnTo>
                <a:lnTo>
                  <a:pt x="651" y="0"/>
                </a:lnTo>
                <a:lnTo>
                  <a:pt x="142" y="107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873920" y="2127240"/>
            <a:ext cx="517680" cy="127080"/>
          </a:xfrm>
          <a:custGeom>
            <a:avLst/>
            <a:gdLst/>
            <a:ahLst/>
            <a:rect l="l" t="t" r="r" b="b"/>
            <a:pathLst>
              <a:path w="651" h="161">
                <a:moveTo>
                  <a:pt x="142" y="107"/>
                </a:moveTo>
                <a:lnTo>
                  <a:pt x="0" y="107"/>
                </a:lnTo>
                <a:lnTo>
                  <a:pt x="70" y="161"/>
                </a:lnTo>
                <a:lnTo>
                  <a:pt x="578" y="161"/>
                </a:lnTo>
                <a:lnTo>
                  <a:pt x="651" y="107"/>
                </a:lnTo>
                <a:lnTo>
                  <a:pt x="651" y="0"/>
                </a:lnTo>
                <a:lnTo>
                  <a:pt x="142" y="10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7045200" y="7920"/>
            <a:ext cx="2103480" cy="1479600"/>
            <a:chOff x="7045200" y="7920"/>
            <a:chExt cx="2103480" cy="1479600"/>
          </a:xfrm>
        </p:grpSpPr>
        <p:sp>
          <p:nvSpPr>
            <p:cNvPr id="134" name=""/>
            <p:cNvSpPr/>
            <p:nvPr/>
          </p:nvSpPr>
          <p:spPr>
            <a:xfrm flipH="1">
              <a:off x="8440200" y="187200"/>
              <a:ext cx="189000" cy="2937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8353440" y="244440"/>
              <a:ext cx="69840" cy="1825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8227800" y="33480"/>
              <a:ext cx="42840" cy="3697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104320" y="206280"/>
              <a:ext cx="4680" cy="1890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940520" y="7920"/>
              <a:ext cx="59040" cy="3873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 flipV="1">
              <a:off x="7826040" y="252000"/>
              <a:ext cx="36360" cy="1508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 flipV="1">
              <a:off x="7597800" y="139320"/>
              <a:ext cx="162000" cy="3459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 flipV="1">
              <a:off x="7569000" y="428760"/>
              <a:ext cx="74520" cy="1267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 flipV="1">
              <a:off x="7278480" y="444240"/>
              <a:ext cx="291960" cy="2062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 flipV="1">
              <a:off x="7337160" y="654120"/>
              <a:ext cx="150840" cy="871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 flipV="1">
              <a:off x="7103880" y="736560"/>
              <a:ext cx="361800" cy="1080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 flipV="1">
              <a:off x="7267680" y="925200"/>
              <a:ext cx="172800" cy="363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 flipV="1">
              <a:off x="7045200" y="1042560"/>
              <a:ext cx="395280" cy="34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7291440" y="1189080"/>
              <a:ext cx="149040" cy="363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7068960" y="1293840"/>
              <a:ext cx="454320" cy="1666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7466040" y="1415880"/>
              <a:ext cx="117360" cy="716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V="1">
              <a:off x="8621640" y="388800"/>
              <a:ext cx="281160" cy="1987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8704440" y="599760"/>
              <a:ext cx="141120" cy="824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8728200" y="679320"/>
              <a:ext cx="361800" cy="1080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8751960" y="868320"/>
              <a:ext cx="172800" cy="367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V="1">
              <a:off x="8751960" y="987120"/>
              <a:ext cx="396720" cy="34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751960" y="1138320"/>
              <a:ext cx="150840" cy="363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669160" y="1244520"/>
              <a:ext cx="455760" cy="1684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599320" y="1362240"/>
              <a:ext cx="127080" cy="759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8550000" y="401760"/>
              <a:ext cx="96840" cy="1332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9T06:39:23Z</dcterms:created>
  <dc:creator>Vincent Chan</dc:creator>
  <dc:description/>
  <dc:language>en-US</dc:language>
  <cp:lastModifiedBy>q</cp:lastModifiedBy>
  <dcterms:modified xsi:type="dcterms:W3CDTF">2002-08-29T02:26:31Z</dcterms:modified>
  <cp:revision>34</cp:revision>
  <dc:subject/>
  <dc:title>PowerPoint 簡報</dc:title>
</cp:coreProperties>
</file>